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A12F-CD6F-40A1-BD76-266086D5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3734-3BFD-4B92-9C69-919B792C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AA1A-B178-4A26-BCD0-45F1AE6AB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3455-DEA3-422B-BD4D-6EE3855D8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60F1F-E8F2-4D18-972B-93C909B46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E72C4-CE80-4650-93A8-C9A81AF0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0EEB3-8FE2-49B7-9B5A-2946107B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67E2D-BB34-4F00-8851-9E705E29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1DAE5-A4E5-4FFF-B6A5-64C9378F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9C98F-39DA-4265-A5FB-5F5C0AC0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4B99B-F67A-496C-BE4E-7C358506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DB7B-5CB6-4C5F-BA91-0638610C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F0870-E338-4052-AC87-C2A0D8F0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154AA-117B-44D8-8B5C-B5C82460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24207-0074-4A57-8EE1-C2175E3C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6F389-145B-4242-B8FE-43AE2BB6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360A3-824C-4161-BF70-DD1DDC84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D2E6-92CE-4421-AD91-A2531DD1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E7E0-9B3C-4A82-852D-F33754B4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A135-474E-468C-B63B-EA051FDC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141C-364C-4E19-803D-A56FA9E0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9D1C-E423-4C0A-8EB4-62B01DC7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768F-B08F-4214-A16B-9E776E31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6418-AD63-41CA-96CE-7D6A8B88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D6BE-CDDF-4705-85ED-B3E5EEC77E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F0CD-2D21-4FF3-8A89-7C6342F29F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arm-up: Write the definition and draw a picture to represent each word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y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 segment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1901880" y="1973160"/>
            <a:ext cx="723960" cy="411120"/>
          </a:xfrm>
          <a:custGeom>
            <a:avLst/>
            <a:gdLst/>
            <a:ahLst/>
            <a:rect l="l" t="t" r="r" b="b"/>
            <a:pathLst>
              <a:path w="2011" h="1142">
                <a:moveTo>
                  <a:pt x="5283" y="5556"/>
                </a:moveTo>
                <a:cubicBezTo>
                  <a:pt x="5283" y="5523"/>
                  <a:pt x="5283" y="5540"/>
                  <a:pt x="5283" y="5507"/>
                </a:cubicBezTo>
                <a:cubicBezTo>
                  <a:pt x="5283" y="5725"/>
                  <a:pt x="5295" y="5937"/>
                  <a:pt x="5308" y="6152"/>
                </a:cubicBezTo>
                <a:cubicBezTo>
                  <a:pt x="5316" y="6291"/>
                  <a:pt x="5308" y="6433"/>
                  <a:pt x="5308" y="6573"/>
                </a:cubicBezTo>
                <a:cubicBezTo>
                  <a:pt x="5308" y="6493"/>
                  <a:pt x="5315" y="6430"/>
                  <a:pt x="5333" y="6350"/>
                </a:cubicBezTo>
                <a:cubicBezTo>
                  <a:pt x="5359" y="6238"/>
                  <a:pt x="5441" y="6044"/>
                  <a:pt x="5581" y="6028"/>
                </a:cubicBezTo>
                <a:cubicBezTo>
                  <a:pt x="5747" y="6009"/>
                  <a:pt x="5779" y="6274"/>
                  <a:pt x="5804" y="6375"/>
                </a:cubicBezTo>
                <a:cubicBezTo>
                  <a:pt x="5822" y="6445"/>
                  <a:pt x="5829" y="6597"/>
                  <a:pt x="5829" y="6623"/>
                </a:cubicBezTo>
              </a:path>
              <a:path w="2011" h="1142">
                <a:moveTo>
                  <a:pt x="6400" y="6176"/>
                </a:moveTo>
                <a:cubicBezTo>
                  <a:pt x="6424" y="6110"/>
                  <a:pt x="6429" y="5971"/>
                  <a:pt x="6325" y="5953"/>
                </a:cubicBezTo>
                <a:cubicBezTo>
                  <a:pt x="6154" y="5923"/>
                  <a:pt x="6094" y="6135"/>
                  <a:pt x="6077" y="6251"/>
                </a:cubicBezTo>
                <a:cubicBezTo>
                  <a:pt x="6077" y="6347"/>
                  <a:pt x="6075" y="6377"/>
                  <a:pt x="6127" y="6424"/>
                </a:cubicBezTo>
                <a:cubicBezTo>
                  <a:pt x="6272" y="6352"/>
                  <a:pt x="6383" y="6306"/>
                  <a:pt x="6449" y="6152"/>
                </a:cubicBezTo>
                <a:cubicBezTo>
                  <a:pt x="6449" y="6223"/>
                  <a:pt x="6428" y="6278"/>
                  <a:pt x="6499" y="6325"/>
                </a:cubicBezTo>
                <a:cubicBezTo>
                  <a:pt x="6562" y="6367"/>
                  <a:pt x="6652" y="6350"/>
                  <a:pt x="6722" y="6350"/>
                </a:cubicBezTo>
              </a:path>
              <a:path w="2011" h="1142">
                <a:moveTo>
                  <a:pt x="7069" y="5928"/>
                </a:moveTo>
                <a:cubicBezTo>
                  <a:pt x="6999" y="5944"/>
                  <a:pt x="6926" y="5967"/>
                  <a:pt x="6896" y="6028"/>
                </a:cubicBezTo>
                <a:cubicBezTo>
                  <a:pt x="7007" y="6100"/>
                  <a:pt x="7165" y="6065"/>
                  <a:pt x="7268" y="6152"/>
                </a:cubicBezTo>
                <a:cubicBezTo>
                  <a:pt x="7276" y="6177"/>
                  <a:pt x="7285" y="6201"/>
                  <a:pt x="7293" y="6226"/>
                </a:cubicBezTo>
                <a:cubicBezTo>
                  <a:pt x="7222" y="6332"/>
                  <a:pt x="7028" y="6485"/>
                  <a:pt x="6871" y="6400"/>
                </a:cubicBezTo>
                <a:cubicBezTo>
                  <a:pt x="6863" y="6375"/>
                  <a:pt x="6854" y="6350"/>
                  <a:pt x="6846" y="6325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01960" y="2170080"/>
            <a:ext cx="260280" cy="187200"/>
          </a:xfrm>
          <a:custGeom>
            <a:avLst/>
            <a:gdLst/>
            <a:ahLst/>
            <a:rect l="l" t="t" r="r" b="b"/>
            <a:pathLst>
              <a:path w="720" h="521">
                <a:moveTo>
                  <a:pt x="8533" y="6251"/>
                </a:moveTo>
                <a:cubicBezTo>
                  <a:pt x="8519" y="6195"/>
                  <a:pt x="8463" y="6110"/>
                  <a:pt x="8409" y="6077"/>
                </a:cubicBezTo>
                <a:cubicBezTo>
                  <a:pt x="8284" y="6001"/>
                  <a:pt x="8072" y="6042"/>
                  <a:pt x="8062" y="6226"/>
                </a:cubicBezTo>
                <a:cubicBezTo>
                  <a:pt x="8052" y="6420"/>
                  <a:pt x="8219" y="6639"/>
                  <a:pt x="8384" y="6474"/>
                </a:cubicBezTo>
                <a:cubicBezTo>
                  <a:pt x="8442" y="6416"/>
                  <a:pt x="8458" y="6382"/>
                  <a:pt x="8458" y="6300"/>
                </a:cubicBezTo>
                <a:cubicBezTo>
                  <a:pt x="8554" y="6443"/>
                  <a:pt x="8615" y="6456"/>
                  <a:pt x="8781" y="647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90920" y="2081160"/>
            <a:ext cx="1733400" cy="490680"/>
          </a:xfrm>
          <a:custGeom>
            <a:avLst/>
            <a:gdLst/>
            <a:ahLst/>
            <a:rect l="l" t="t" r="r" b="b"/>
            <a:pathLst>
              <a:path w="4813" h="1366">
                <a:moveTo>
                  <a:pt x="9699" y="5779"/>
                </a:moveTo>
                <a:cubicBezTo>
                  <a:pt x="9764" y="5957"/>
                  <a:pt x="9922" y="6252"/>
                  <a:pt x="9922" y="6449"/>
                </a:cubicBezTo>
                <a:cubicBezTo>
                  <a:pt x="9914" y="6449"/>
                  <a:pt x="9905" y="6449"/>
                  <a:pt x="9897" y="6449"/>
                </a:cubicBezTo>
                <a:cubicBezTo>
                  <a:pt x="9862" y="6345"/>
                  <a:pt x="9766" y="6059"/>
                  <a:pt x="9971" y="6028"/>
                </a:cubicBezTo>
                <a:cubicBezTo>
                  <a:pt x="10226" y="5989"/>
                  <a:pt x="10237" y="6122"/>
                  <a:pt x="10294" y="6300"/>
                </a:cubicBezTo>
                <a:cubicBezTo>
                  <a:pt x="10129" y="6466"/>
                  <a:pt x="10051" y="6521"/>
                  <a:pt x="9847" y="6400"/>
                </a:cubicBezTo>
              </a:path>
              <a:path w="4813" h="1366">
                <a:moveTo>
                  <a:pt x="10691" y="6226"/>
                </a:moveTo>
                <a:cubicBezTo>
                  <a:pt x="10776" y="6212"/>
                  <a:pt x="10914" y="6207"/>
                  <a:pt x="10988" y="6176"/>
                </a:cubicBezTo>
                <a:cubicBezTo>
                  <a:pt x="10988" y="6152"/>
                  <a:pt x="10988" y="6144"/>
                  <a:pt x="11013" y="6152"/>
                </a:cubicBezTo>
                <a:cubicBezTo>
                  <a:pt x="10956" y="6112"/>
                  <a:pt x="10748" y="5927"/>
                  <a:pt x="10666" y="6028"/>
                </a:cubicBezTo>
                <a:cubicBezTo>
                  <a:pt x="10588" y="6123"/>
                  <a:pt x="10528" y="6442"/>
                  <a:pt x="10691" y="6499"/>
                </a:cubicBezTo>
                <a:cubicBezTo>
                  <a:pt x="10853" y="6499"/>
                  <a:pt x="10915" y="6494"/>
                  <a:pt x="11013" y="6424"/>
                </a:cubicBezTo>
              </a:path>
              <a:path w="4813" h="1366">
                <a:moveTo>
                  <a:pt x="11410" y="6077"/>
                </a:moveTo>
                <a:cubicBezTo>
                  <a:pt x="11275" y="6066"/>
                  <a:pt x="11156" y="6143"/>
                  <a:pt x="11112" y="6300"/>
                </a:cubicBezTo>
                <a:cubicBezTo>
                  <a:pt x="11112" y="6333"/>
                  <a:pt x="11112" y="6367"/>
                  <a:pt x="11112" y="6400"/>
                </a:cubicBezTo>
                <a:cubicBezTo>
                  <a:pt x="11255" y="6416"/>
                  <a:pt x="11452" y="6424"/>
                  <a:pt x="11485" y="6226"/>
                </a:cubicBezTo>
                <a:cubicBezTo>
                  <a:pt x="11477" y="6201"/>
                  <a:pt x="11468" y="6177"/>
                  <a:pt x="11460" y="6152"/>
                </a:cubicBezTo>
                <a:cubicBezTo>
                  <a:pt x="11506" y="6291"/>
                  <a:pt x="11626" y="6422"/>
                  <a:pt x="11658" y="6573"/>
                </a:cubicBezTo>
                <a:cubicBezTo>
                  <a:pt x="11709" y="6815"/>
                  <a:pt x="11501" y="6941"/>
                  <a:pt x="11286" y="6945"/>
                </a:cubicBezTo>
                <a:cubicBezTo>
                  <a:pt x="11056" y="6950"/>
                  <a:pt x="11088" y="6893"/>
                  <a:pt x="11088" y="6722"/>
                </a:cubicBezTo>
              </a:path>
              <a:path w="4813" h="1366">
                <a:moveTo>
                  <a:pt x="11733" y="6300"/>
                </a:moveTo>
                <a:cubicBezTo>
                  <a:pt x="11757" y="6400"/>
                  <a:pt x="11765" y="6433"/>
                  <a:pt x="11782" y="6499"/>
                </a:cubicBezTo>
              </a:path>
              <a:path w="4813" h="1366">
                <a:moveTo>
                  <a:pt x="11683" y="6052"/>
                </a:moveTo>
                <a:lnTo>
                  <a:pt x="11683" y="6052"/>
                </a:lnTo>
              </a:path>
              <a:path w="4813" h="1366">
                <a:moveTo>
                  <a:pt x="11906" y="6226"/>
                </a:moveTo>
                <a:cubicBezTo>
                  <a:pt x="11954" y="6290"/>
                  <a:pt x="12030" y="6344"/>
                  <a:pt x="12030" y="6424"/>
                </a:cubicBezTo>
                <a:cubicBezTo>
                  <a:pt x="12030" y="6317"/>
                  <a:pt x="12002" y="6212"/>
                  <a:pt x="12080" y="6127"/>
                </a:cubicBezTo>
                <a:cubicBezTo>
                  <a:pt x="12206" y="5989"/>
                  <a:pt x="12405" y="6126"/>
                  <a:pt x="12477" y="6251"/>
                </a:cubicBezTo>
                <a:cubicBezTo>
                  <a:pt x="12500" y="6342"/>
                  <a:pt x="12506" y="6367"/>
                  <a:pt x="12526" y="6424"/>
                </a:cubicBezTo>
              </a:path>
              <a:path w="4813" h="1366">
                <a:moveTo>
                  <a:pt x="12700" y="6127"/>
                </a:moveTo>
                <a:cubicBezTo>
                  <a:pt x="12700" y="6226"/>
                  <a:pt x="12730" y="6291"/>
                  <a:pt x="12750" y="6375"/>
                </a:cubicBezTo>
                <a:cubicBezTo>
                  <a:pt x="12750" y="6391"/>
                  <a:pt x="12750" y="6408"/>
                  <a:pt x="12750" y="6424"/>
                </a:cubicBezTo>
                <a:cubicBezTo>
                  <a:pt x="12750" y="6343"/>
                  <a:pt x="12715" y="6191"/>
                  <a:pt x="12774" y="6127"/>
                </a:cubicBezTo>
                <a:cubicBezTo>
                  <a:pt x="12885" y="6007"/>
                  <a:pt x="13027" y="6110"/>
                  <a:pt x="13072" y="6226"/>
                </a:cubicBezTo>
                <a:cubicBezTo>
                  <a:pt x="13104" y="6308"/>
                  <a:pt x="13097" y="6389"/>
                  <a:pt x="13097" y="6474"/>
                </a:cubicBezTo>
              </a:path>
              <a:path w="4813" h="1366">
                <a:moveTo>
                  <a:pt x="13320" y="6300"/>
                </a:moveTo>
                <a:cubicBezTo>
                  <a:pt x="13320" y="6385"/>
                  <a:pt x="13313" y="6405"/>
                  <a:pt x="13345" y="6449"/>
                </a:cubicBezTo>
              </a:path>
              <a:path w="4813" h="1366">
                <a:moveTo>
                  <a:pt x="13271" y="5953"/>
                </a:moveTo>
                <a:lnTo>
                  <a:pt x="13271" y="5953"/>
                </a:lnTo>
                <a:lnTo>
                  <a:pt x="13271" y="5953"/>
                </a:lnTo>
              </a:path>
              <a:path w="4813" h="1366">
                <a:moveTo>
                  <a:pt x="13494" y="6176"/>
                </a:moveTo>
                <a:cubicBezTo>
                  <a:pt x="13514" y="6270"/>
                  <a:pt x="13547" y="6366"/>
                  <a:pt x="13568" y="6449"/>
                </a:cubicBezTo>
                <a:cubicBezTo>
                  <a:pt x="13568" y="6313"/>
                  <a:pt x="13585" y="6238"/>
                  <a:pt x="13667" y="6127"/>
                </a:cubicBezTo>
                <a:cubicBezTo>
                  <a:pt x="13684" y="6110"/>
                  <a:pt x="13700" y="6094"/>
                  <a:pt x="13717" y="6077"/>
                </a:cubicBezTo>
                <a:cubicBezTo>
                  <a:pt x="13843" y="6147"/>
                  <a:pt x="13884" y="6231"/>
                  <a:pt x="13965" y="6350"/>
                </a:cubicBezTo>
                <a:cubicBezTo>
                  <a:pt x="14012" y="6420"/>
                  <a:pt x="14024" y="6444"/>
                  <a:pt x="14089" y="6424"/>
                </a:cubicBezTo>
              </a:path>
              <a:path w="4813" h="1366">
                <a:moveTo>
                  <a:pt x="14337" y="6003"/>
                </a:moveTo>
                <a:cubicBezTo>
                  <a:pt x="14207" y="6115"/>
                  <a:pt x="14078" y="6275"/>
                  <a:pt x="14163" y="6474"/>
                </a:cubicBezTo>
                <a:cubicBezTo>
                  <a:pt x="14258" y="6697"/>
                  <a:pt x="14375" y="6320"/>
                  <a:pt x="14387" y="6276"/>
                </a:cubicBezTo>
                <a:cubicBezTo>
                  <a:pt x="14387" y="6251"/>
                  <a:pt x="14387" y="6226"/>
                  <a:pt x="14387" y="6201"/>
                </a:cubicBezTo>
                <a:cubicBezTo>
                  <a:pt x="14434" y="6342"/>
                  <a:pt x="14494" y="6539"/>
                  <a:pt x="14511" y="6697"/>
                </a:cubicBezTo>
                <a:cubicBezTo>
                  <a:pt x="14542" y="6990"/>
                  <a:pt x="14343" y="7182"/>
                  <a:pt x="14039" y="7144"/>
                </a:cubicBezTo>
                <a:cubicBezTo>
                  <a:pt x="13795" y="7114"/>
                  <a:pt x="13776" y="7007"/>
                  <a:pt x="13717" y="682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07000" y="2000160"/>
            <a:ext cx="644400" cy="312840"/>
          </a:xfrm>
          <a:custGeom>
            <a:avLst/>
            <a:gdLst/>
            <a:ahLst/>
            <a:rect l="l" t="t" r="r" b="b"/>
            <a:pathLst>
              <a:path w="1787" h="869">
                <a:moveTo>
                  <a:pt x="15974" y="6176"/>
                </a:moveTo>
                <a:cubicBezTo>
                  <a:pt x="15974" y="6234"/>
                  <a:pt x="15990" y="6108"/>
                  <a:pt x="15974" y="6052"/>
                </a:cubicBezTo>
                <a:cubicBezTo>
                  <a:pt x="15958" y="6019"/>
                  <a:pt x="15941" y="5986"/>
                  <a:pt x="15925" y="5953"/>
                </a:cubicBezTo>
                <a:cubicBezTo>
                  <a:pt x="15751" y="5953"/>
                  <a:pt x="15560" y="6043"/>
                  <a:pt x="15577" y="6276"/>
                </a:cubicBezTo>
                <a:cubicBezTo>
                  <a:pt x="15597" y="6546"/>
                  <a:pt x="15873" y="6236"/>
                  <a:pt x="15925" y="6176"/>
                </a:cubicBezTo>
                <a:cubicBezTo>
                  <a:pt x="15957" y="6241"/>
                  <a:pt x="16037" y="6461"/>
                  <a:pt x="16148" y="6424"/>
                </a:cubicBezTo>
                <a:cubicBezTo>
                  <a:pt x="16206" y="6405"/>
                  <a:pt x="16345" y="6101"/>
                  <a:pt x="16346" y="6102"/>
                </a:cubicBezTo>
                <a:cubicBezTo>
                  <a:pt x="16364" y="6137"/>
                  <a:pt x="16321" y="6373"/>
                  <a:pt x="16321" y="6325"/>
                </a:cubicBezTo>
                <a:cubicBezTo>
                  <a:pt x="16336" y="6202"/>
                  <a:pt x="16358" y="6136"/>
                  <a:pt x="16421" y="6028"/>
                </a:cubicBezTo>
                <a:cubicBezTo>
                  <a:pt x="16619" y="6077"/>
                  <a:pt x="16635" y="6164"/>
                  <a:pt x="16718" y="6350"/>
                </a:cubicBezTo>
                <a:cubicBezTo>
                  <a:pt x="16726" y="6367"/>
                  <a:pt x="16735" y="6383"/>
                  <a:pt x="16743" y="6400"/>
                </a:cubicBezTo>
              </a:path>
              <a:path w="1787" h="869">
                <a:moveTo>
                  <a:pt x="17115" y="6052"/>
                </a:moveTo>
                <a:cubicBezTo>
                  <a:pt x="16961" y="6017"/>
                  <a:pt x="16817" y="6022"/>
                  <a:pt x="16718" y="6176"/>
                </a:cubicBezTo>
                <a:cubicBezTo>
                  <a:pt x="16710" y="6209"/>
                  <a:pt x="16702" y="6243"/>
                  <a:pt x="16694" y="6276"/>
                </a:cubicBezTo>
                <a:cubicBezTo>
                  <a:pt x="16857" y="6375"/>
                  <a:pt x="17102" y="6512"/>
                  <a:pt x="17214" y="6251"/>
                </a:cubicBezTo>
                <a:cubicBezTo>
                  <a:pt x="17222" y="6185"/>
                  <a:pt x="17231" y="6118"/>
                  <a:pt x="17239" y="6052"/>
                </a:cubicBezTo>
              </a:path>
              <a:path w="1787" h="869">
                <a:moveTo>
                  <a:pt x="17090" y="5556"/>
                </a:moveTo>
                <a:cubicBezTo>
                  <a:pt x="17139" y="5740"/>
                  <a:pt x="17157" y="6019"/>
                  <a:pt x="17264" y="6176"/>
                </a:cubicBezTo>
                <a:cubicBezTo>
                  <a:pt x="17297" y="6201"/>
                  <a:pt x="17330" y="6226"/>
                  <a:pt x="17363" y="625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07080" y="2108160"/>
            <a:ext cx="743040" cy="347760"/>
          </a:xfrm>
          <a:custGeom>
            <a:avLst/>
            <a:gdLst/>
            <a:ahLst/>
            <a:rect l="l" t="t" r="r" b="b"/>
            <a:pathLst>
              <a:path w="2060" h="968">
                <a:moveTo>
                  <a:pt x="18777" y="6077"/>
                </a:moveTo>
                <a:cubicBezTo>
                  <a:pt x="18809" y="6077"/>
                  <a:pt x="18853" y="6077"/>
                  <a:pt x="18827" y="6028"/>
                </a:cubicBezTo>
                <a:cubicBezTo>
                  <a:pt x="18779" y="5937"/>
                  <a:pt x="18694" y="5830"/>
                  <a:pt x="18579" y="5904"/>
                </a:cubicBezTo>
                <a:cubicBezTo>
                  <a:pt x="18435" y="5996"/>
                  <a:pt x="18430" y="6087"/>
                  <a:pt x="18430" y="6226"/>
                </a:cubicBezTo>
                <a:cubicBezTo>
                  <a:pt x="18572" y="6297"/>
                  <a:pt x="18758" y="6377"/>
                  <a:pt x="18852" y="6176"/>
                </a:cubicBezTo>
                <a:cubicBezTo>
                  <a:pt x="18861" y="6157"/>
                  <a:pt x="18827" y="6015"/>
                  <a:pt x="18827" y="6077"/>
                </a:cubicBezTo>
                <a:cubicBezTo>
                  <a:pt x="18902" y="6266"/>
                  <a:pt x="19019" y="6553"/>
                  <a:pt x="18876" y="6747"/>
                </a:cubicBezTo>
                <a:cubicBezTo>
                  <a:pt x="18758" y="6907"/>
                  <a:pt x="18430" y="6831"/>
                  <a:pt x="18355" y="6672"/>
                </a:cubicBezTo>
                <a:cubicBezTo>
                  <a:pt x="18355" y="6639"/>
                  <a:pt x="18355" y="6606"/>
                  <a:pt x="18355" y="6573"/>
                </a:cubicBezTo>
              </a:path>
              <a:path w="2060" h="968">
                <a:moveTo>
                  <a:pt x="19174" y="6052"/>
                </a:moveTo>
                <a:cubicBezTo>
                  <a:pt x="19065" y="6017"/>
                  <a:pt x="18964" y="6126"/>
                  <a:pt x="18951" y="6251"/>
                </a:cubicBezTo>
                <a:cubicBezTo>
                  <a:pt x="18933" y="6423"/>
                  <a:pt x="19224" y="6457"/>
                  <a:pt x="19323" y="6375"/>
                </a:cubicBezTo>
                <a:cubicBezTo>
                  <a:pt x="19463" y="6259"/>
                  <a:pt x="19272" y="6106"/>
                  <a:pt x="19199" y="6028"/>
                </a:cubicBezTo>
                <a:cubicBezTo>
                  <a:pt x="19191" y="6020"/>
                  <a:pt x="19182" y="6011"/>
                  <a:pt x="19174" y="6003"/>
                </a:cubicBezTo>
              </a:path>
              <a:path w="2060" h="968">
                <a:moveTo>
                  <a:pt x="19695" y="6127"/>
                </a:moveTo>
                <a:cubicBezTo>
                  <a:pt x="19736" y="6086"/>
                  <a:pt x="19778" y="6044"/>
                  <a:pt x="19819" y="6003"/>
                </a:cubicBezTo>
                <a:cubicBezTo>
                  <a:pt x="19722" y="5983"/>
                  <a:pt x="19612" y="5979"/>
                  <a:pt x="19521" y="6052"/>
                </a:cubicBezTo>
                <a:cubicBezTo>
                  <a:pt x="19321" y="6212"/>
                  <a:pt x="19535" y="6323"/>
                  <a:pt x="19695" y="6325"/>
                </a:cubicBezTo>
                <a:cubicBezTo>
                  <a:pt x="19769" y="6317"/>
                  <a:pt x="19844" y="6308"/>
                  <a:pt x="19918" y="6300"/>
                </a:cubicBezTo>
              </a:path>
              <a:path w="2060" h="968">
                <a:moveTo>
                  <a:pt x="20290" y="5854"/>
                </a:moveTo>
                <a:cubicBezTo>
                  <a:pt x="20211" y="5875"/>
                  <a:pt x="20142" y="5896"/>
                  <a:pt x="20067" y="5928"/>
                </a:cubicBezTo>
                <a:cubicBezTo>
                  <a:pt x="20154" y="6058"/>
                  <a:pt x="20286" y="6108"/>
                  <a:pt x="20389" y="6226"/>
                </a:cubicBezTo>
                <a:cubicBezTo>
                  <a:pt x="20397" y="6243"/>
                  <a:pt x="20406" y="6259"/>
                  <a:pt x="20414" y="6276"/>
                </a:cubicBezTo>
                <a:cubicBezTo>
                  <a:pt x="20321" y="6335"/>
                  <a:pt x="20054" y="6444"/>
                  <a:pt x="19993" y="6251"/>
                </a:cubicBezTo>
                <a:cubicBezTo>
                  <a:pt x="20009" y="6218"/>
                  <a:pt x="20026" y="6185"/>
                  <a:pt x="20042" y="6152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43880" y="2089080"/>
            <a:ext cx="438120" cy="189000"/>
          </a:xfrm>
          <a:custGeom>
            <a:avLst/>
            <a:gdLst/>
            <a:ahLst/>
            <a:rect l="l" t="t" r="r" b="b"/>
            <a:pathLst>
              <a:path w="1216" h="522">
                <a:moveTo>
                  <a:pt x="21431" y="5854"/>
                </a:moveTo>
                <a:cubicBezTo>
                  <a:pt x="21317" y="5869"/>
                  <a:pt x="21236" y="5950"/>
                  <a:pt x="21233" y="6077"/>
                </a:cubicBezTo>
                <a:cubicBezTo>
                  <a:pt x="21241" y="6110"/>
                  <a:pt x="21250" y="6143"/>
                  <a:pt x="21258" y="6176"/>
                </a:cubicBezTo>
                <a:cubicBezTo>
                  <a:pt x="21394" y="6214"/>
                  <a:pt x="21669" y="6257"/>
                  <a:pt x="21729" y="6052"/>
                </a:cubicBezTo>
                <a:cubicBezTo>
                  <a:pt x="21777" y="5887"/>
                  <a:pt x="21475" y="5835"/>
                  <a:pt x="21382" y="5804"/>
                </a:cubicBezTo>
              </a:path>
              <a:path w="1216" h="522">
                <a:moveTo>
                  <a:pt x="21952" y="6176"/>
                </a:moveTo>
                <a:cubicBezTo>
                  <a:pt x="21913" y="6217"/>
                  <a:pt x="21923" y="6034"/>
                  <a:pt x="21927" y="6003"/>
                </a:cubicBezTo>
                <a:cubicBezTo>
                  <a:pt x="21955" y="5804"/>
                  <a:pt x="22154" y="5760"/>
                  <a:pt x="22299" y="5879"/>
                </a:cubicBezTo>
                <a:cubicBezTo>
                  <a:pt x="22442" y="5997"/>
                  <a:pt x="22468" y="6163"/>
                  <a:pt x="22423" y="6325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17800" y="2554200"/>
            <a:ext cx="366480" cy="241560"/>
          </a:xfrm>
          <a:custGeom>
            <a:avLst/>
            <a:gdLst/>
            <a:ahLst/>
            <a:rect l="l" t="t" r="r" b="b"/>
            <a:pathLst>
              <a:path w="1018" h="671">
                <a:moveTo>
                  <a:pt x="5755" y="7541"/>
                </a:moveTo>
                <a:cubicBezTo>
                  <a:pt x="5794" y="7527"/>
                  <a:pt x="5786" y="7500"/>
                  <a:pt x="5755" y="7466"/>
                </a:cubicBezTo>
                <a:cubicBezTo>
                  <a:pt x="5706" y="7414"/>
                  <a:pt x="5656" y="7405"/>
                  <a:pt x="5606" y="7367"/>
                </a:cubicBezTo>
                <a:cubicBezTo>
                  <a:pt x="5646" y="7448"/>
                  <a:pt x="5739" y="7511"/>
                  <a:pt x="5755" y="7615"/>
                </a:cubicBezTo>
                <a:cubicBezTo>
                  <a:pt x="5755" y="7699"/>
                  <a:pt x="5749" y="7719"/>
                  <a:pt x="5779" y="7764"/>
                </a:cubicBezTo>
              </a:path>
              <a:path w="1018" h="671">
                <a:moveTo>
                  <a:pt x="5655" y="7094"/>
                </a:moveTo>
                <a:cubicBezTo>
                  <a:pt x="5713" y="7094"/>
                  <a:pt x="5748" y="7114"/>
                  <a:pt x="5779" y="7169"/>
                </a:cubicBezTo>
              </a:path>
              <a:path w="1018" h="671">
                <a:moveTo>
                  <a:pt x="6127" y="7541"/>
                </a:moveTo>
                <a:cubicBezTo>
                  <a:pt x="6127" y="7615"/>
                  <a:pt x="6127" y="7640"/>
                  <a:pt x="6127" y="7689"/>
                </a:cubicBezTo>
                <a:cubicBezTo>
                  <a:pt x="6072" y="7676"/>
                  <a:pt x="5981" y="7607"/>
                  <a:pt x="5978" y="7541"/>
                </a:cubicBezTo>
                <a:cubicBezTo>
                  <a:pt x="5970" y="7387"/>
                  <a:pt x="6274" y="7381"/>
                  <a:pt x="6350" y="7392"/>
                </a:cubicBezTo>
                <a:cubicBezTo>
                  <a:pt x="6542" y="7419"/>
                  <a:pt x="6586" y="7548"/>
                  <a:pt x="6623" y="7714"/>
                </a:cubicBezTo>
                <a:cubicBezTo>
                  <a:pt x="6623" y="7747"/>
                  <a:pt x="6623" y="7747"/>
                  <a:pt x="6623" y="768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40040" y="2643120"/>
            <a:ext cx="544680" cy="162000"/>
          </a:xfrm>
          <a:custGeom>
            <a:avLst/>
            <a:gdLst/>
            <a:ahLst/>
            <a:rect l="l" t="t" r="r" b="b"/>
            <a:pathLst>
              <a:path w="1514" h="448">
                <a:moveTo>
                  <a:pt x="8260" y="7417"/>
                </a:moveTo>
                <a:cubicBezTo>
                  <a:pt x="8147" y="7383"/>
                  <a:pt x="7986" y="7391"/>
                  <a:pt x="7913" y="7516"/>
                </a:cubicBezTo>
                <a:cubicBezTo>
                  <a:pt x="7905" y="7557"/>
                  <a:pt x="7896" y="7599"/>
                  <a:pt x="7888" y="7640"/>
                </a:cubicBezTo>
                <a:cubicBezTo>
                  <a:pt x="8018" y="7805"/>
                  <a:pt x="8164" y="7839"/>
                  <a:pt x="8359" y="7689"/>
                </a:cubicBezTo>
                <a:cubicBezTo>
                  <a:pt x="8434" y="7590"/>
                  <a:pt x="8459" y="7557"/>
                  <a:pt x="8434" y="7466"/>
                </a:cubicBezTo>
                <a:cubicBezTo>
                  <a:pt x="8318" y="7398"/>
                  <a:pt x="8271" y="7377"/>
                  <a:pt x="8136" y="7367"/>
                </a:cubicBezTo>
              </a:path>
              <a:path w="1514" h="448">
                <a:moveTo>
                  <a:pt x="8657" y="7665"/>
                </a:moveTo>
                <a:cubicBezTo>
                  <a:pt x="8624" y="7761"/>
                  <a:pt x="8602" y="7559"/>
                  <a:pt x="8607" y="7541"/>
                </a:cubicBezTo>
                <a:cubicBezTo>
                  <a:pt x="8648" y="7386"/>
                  <a:pt x="8845" y="7333"/>
                  <a:pt x="8954" y="7466"/>
                </a:cubicBezTo>
                <a:cubicBezTo>
                  <a:pt x="9000" y="7522"/>
                  <a:pt x="8996" y="7687"/>
                  <a:pt x="8954" y="7714"/>
                </a:cubicBezTo>
              </a:path>
              <a:path w="1514" h="448">
                <a:moveTo>
                  <a:pt x="9153" y="7565"/>
                </a:moveTo>
                <a:cubicBezTo>
                  <a:pt x="9230" y="7546"/>
                  <a:pt x="9355" y="7552"/>
                  <a:pt x="9376" y="7466"/>
                </a:cubicBezTo>
                <a:cubicBezTo>
                  <a:pt x="9340" y="7357"/>
                  <a:pt x="9249" y="7311"/>
                  <a:pt x="9128" y="7342"/>
                </a:cubicBezTo>
                <a:cubicBezTo>
                  <a:pt x="8976" y="7380"/>
                  <a:pt x="8891" y="7618"/>
                  <a:pt x="9079" y="7689"/>
                </a:cubicBezTo>
                <a:cubicBezTo>
                  <a:pt x="9238" y="7689"/>
                  <a:pt x="9298" y="7686"/>
                  <a:pt x="9401" y="764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59120" y="2517840"/>
            <a:ext cx="1616040" cy="277920"/>
          </a:xfrm>
          <a:custGeom>
            <a:avLst/>
            <a:gdLst/>
            <a:ahLst/>
            <a:rect l="l" t="t" r="r" b="b"/>
            <a:pathLst>
              <a:path w="4490" h="770">
                <a:moveTo>
                  <a:pt x="10964" y="7367"/>
                </a:moveTo>
                <a:cubicBezTo>
                  <a:pt x="10950" y="7324"/>
                  <a:pt x="10859" y="7245"/>
                  <a:pt x="10790" y="7243"/>
                </a:cubicBezTo>
                <a:cubicBezTo>
                  <a:pt x="10595" y="7237"/>
                  <a:pt x="10451" y="7405"/>
                  <a:pt x="10443" y="7590"/>
                </a:cubicBezTo>
                <a:cubicBezTo>
                  <a:pt x="10425" y="7999"/>
                  <a:pt x="10920" y="7590"/>
                  <a:pt x="11013" y="7516"/>
                </a:cubicBezTo>
              </a:path>
              <a:path w="4490" h="770">
                <a:moveTo>
                  <a:pt x="10840" y="6995"/>
                </a:moveTo>
                <a:cubicBezTo>
                  <a:pt x="10869" y="7168"/>
                  <a:pt x="10929" y="7341"/>
                  <a:pt x="10964" y="7516"/>
                </a:cubicBezTo>
                <a:cubicBezTo>
                  <a:pt x="10979" y="7593"/>
                  <a:pt x="10988" y="7624"/>
                  <a:pt x="10988" y="7689"/>
                </a:cubicBezTo>
              </a:path>
              <a:path w="4490" h="770">
                <a:moveTo>
                  <a:pt x="11187" y="7417"/>
                </a:moveTo>
                <a:cubicBezTo>
                  <a:pt x="11237" y="7491"/>
                  <a:pt x="11252" y="7580"/>
                  <a:pt x="11286" y="7665"/>
                </a:cubicBezTo>
              </a:path>
              <a:path w="4490" h="770">
                <a:moveTo>
                  <a:pt x="11237" y="7193"/>
                </a:moveTo>
                <a:cubicBezTo>
                  <a:pt x="11261" y="7193"/>
                  <a:pt x="11270" y="7193"/>
                  <a:pt x="11286" y="7193"/>
                </a:cubicBezTo>
              </a:path>
              <a:path w="4490" h="770">
                <a:moveTo>
                  <a:pt x="11485" y="7491"/>
                </a:moveTo>
                <a:cubicBezTo>
                  <a:pt x="11533" y="7597"/>
                  <a:pt x="11534" y="7573"/>
                  <a:pt x="11534" y="7665"/>
                </a:cubicBezTo>
                <a:cubicBezTo>
                  <a:pt x="11534" y="7587"/>
                  <a:pt x="11488" y="7523"/>
                  <a:pt x="11509" y="7441"/>
                </a:cubicBezTo>
                <a:cubicBezTo>
                  <a:pt x="11553" y="7270"/>
                  <a:pt x="11702" y="7284"/>
                  <a:pt x="11832" y="7293"/>
                </a:cubicBezTo>
                <a:cubicBezTo>
                  <a:pt x="11857" y="7293"/>
                  <a:pt x="11881" y="7293"/>
                  <a:pt x="11906" y="7293"/>
                </a:cubicBezTo>
              </a:path>
              <a:path w="4490" h="770">
                <a:moveTo>
                  <a:pt x="12154" y="7441"/>
                </a:moveTo>
                <a:cubicBezTo>
                  <a:pt x="12257" y="7441"/>
                  <a:pt x="12347" y="7479"/>
                  <a:pt x="12452" y="7466"/>
                </a:cubicBezTo>
                <a:cubicBezTo>
                  <a:pt x="12477" y="7458"/>
                  <a:pt x="12501" y="7449"/>
                  <a:pt x="12526" y="7441"/>
                </a:cubicBezTo>
                <a:cubicBezTo>
                  <a:pt x="12440" y="7424"/>
                  <a:pt x="12364" y="7368"/>
                  <a:pt x="12278" y="7342"/>
                </a:cubicBezTo>
                <a:cubicBezTo>
                  <a:pt x="12164" y="7307"/>
                  <a:pt x="12026" y="7394"/>
                  <a:pt x="12080" y="7541"/>
                </a:cubicBezTo>
                <a:cubicBezTo>
                  <a:pt x="12174" y="7796"/>
                  <a:pt x="12482" y="7664"/>
                  <a:pt x="12650" y="7615"/>
                </a:cubicBezTo>
              </a:path>
              <a:path w="4490" h="770">
                <a:moveTo>
                  <a:pt x="12923" y="7342"/>
                </a:moveTo>
                <a:cubicBezTo>
                  <a:pt x="12944" y="7425"/>
                  <a:pt x="12977" y="7362"/>
                  <a:pt x="12898" y="7317"/>
                </a:cubicBezTo>
                <a:cubicBezTo>
                  <a:pt x="12771" y="7245"/>
                  <a:pt x="12650" y="7422"/>
                  <a:pt x="12675" y="7541"/>
                </a:cubicBezTo>
                <a:cubicBezTo>
                  <a:pt x="12741" y="7860"/>
                  <a:pt x="13102" y="7712"/>
                  <a:pt x="13271" y="7640"/>
                </a:cubicBezTo>
              </a:path>
              <a:path w="4490" h="770">
                <a:moveTo>
                  <a:pt x="13320" y="7069"/>
                </a:moveTo>
                <a:cubicBezTo>
                  <a:pt x="13335" y="7251"/>
                  <a:pt x="13377" y="7433"/>
                  <a:pt x="13395" y="7615"/>
                </a:cubicBezTo>
                <a:cubicBezTo>
                  <a:pt x="13402" y="7683"/>
                  <a:pt x="13370" y="7775"/>
                  <a:pt x="13419" y="7640"/>
                </a:cubicBezTo>
              </a:path>
              <a:path w="4490" h="770">
                <a:moveTo>
                  <a:pt x="13221" y="7367"/>
                </a:moveTo>
                <a:cubicBezTo>
                  <a:pt x="13357" y="7367"/>
                  <a:pt x="13583" y="7332"/>
                  <a:pt x="13692" y="7441"/>
                </a:cubicBezTo>
                <a:cubicBezTo>
                  <a:pt x="13760" y="7509"/>
                  <a:pt x="13752" y="7651"/>
                  <a:pt x="13767" y="7739"/>
                </a:cubicBezTo>
              </a:path>
              <a:path w="4490" h="770">
                <a:moveTo>
                  <a:pt x="13667" y="7169"/>
                </a:moveTo>
                <a:lnTo>
                  <a:pt x="13667" y="7169"/>
                </a:lnTo>
              </a:path>
              <a:path w="4490" h="770">
                <a:moveTo>
                  <a:pt x="14188" y="7342"/>
                </a:moveTo>
                <a:cubicBezTo>
                  <a:pt x="14163" y="7266"/>
                  <a:pt x="14075" y="7406"/>
                  <a:pt x="14064" y="7441"/>
                </a:cubicBezTo>
                <a:cubicBezTo>
                  <a:pt x="14005" y="7634"/>
                  <a:pt x="14270" y="7612"/>
                  <a:pt x="14362" y="7565"/>
                </a:cubicBezTo>
                <a:cubicBezTo>
                  <a:pt x="14539" y="7474"/>
                  <a:pt x="14328" y="7318"/>
                  <a:pt x="14238" y="7293"/>
                </a:cubicBezTo>
                <a:cubicBezTo>
                  <a:pt x="14195" y="7281"/>
                  <a:pt x="14105" y="7286"/>
                  <a:pt x="14139" y="7317"/>
                </a:cubicBezTo>
              </a:path>
              <a:path w="4490" h="770">
                <a:moveTo>
                  <a:pt x="14585" y="7491"/>
                </a:moveTo>
                <a:cubicBezTo>
                  <a:pt x="14585" y="7533"/>
                  <a:pt x="14585" y="7558"/>
                  <a:pt x="14585" y="7516"/>
                </a:cubicBezTo>
                <a:cubicBezTo>
                  <a:pt x="14557" y="7431"/>
                  <a:pt x="14548" y="7312"/>
                  <a:pt x="14660" y="7268"/>
                </a:cubicBezTo>
                <a:cubicBezTo>
                  <a:pt x="14803" y="7212"/>
                  <a:pt x="14906" y="7409"/>
                  <a:pt x="14932" y="7516"/>
                </a:cubicBezTo>
                <a:cubicBezTo>
                  <a:pt x="14932" y="7594"/>
                  <a:pt x="14947" y="7611"/>
                  <a:pt x="14908" y="764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13280" y="2428920"/>
            <a:ext cx="1241640" cy="285840"/>
          </a:xfrm>
          <a:custGeom>
            <a:avLst/>
            <a:gdLst/>
            <a:ahLst/>
            <a:rect l="l" t="t" r="r" b="b"/>
            <a:pathLst>
              <a:path w="3449" h="795">
                <a:moveTo>
                  <a:pt x="16619" y="6970"/>
                </a:moveTo>
                <a:cubicBezTo>
                  <a:pt x="16667" y="6907"/>
                  <a:pt x="16630" y="6847"/>
                  <a:pt x="16570" y="6796"/>
                </a:cubicBezTo>
                <a:cubicBezTo>
                  <a:pt x="16429" y="6675"/>
                  <a:pt x="16281" y="6783"/>
                  <a:pt x="16247" y="6945"/>
                </a:cubicBezTo>
                <a:cubicBezTo>
                  <a:pt x="16201" y="7164"/>
                  <a:pt x="16392" y="7301"/>
                  <a:pt x="16495" y="7466"/>
                </a:cubicBezTo>
                <a:cubicBezTo>
                  <a:pt x="16515" y="7507"/>
                  <a:pt x="16534" y="7523"/>
                  <a:pt x="16495" y="7516"/>
                </a:cubicBezTo>
              </a:path>
              <a:path w="3449" h="795">
                <a:moveTo>
                  <a:pt x="16148" y="7268"/>
                </a:moveTo>
                <a:cubicBezTo>
                  <a:pt x="16357" y="7268"/>
                  <a:pt x="16561" y="7258"/>
                  <a:pt x="16768" y="7243"/>
                </a:cubicBezTo>
                <a:cubicBezTo>
                  <a:pt x="16823" y="7239"/>
                  <a:pt x="16871" y="7250"/>
                  <a:pt x="16892" y="7218"/>
                </a:cubicBezTo>
                <a:cubicBezTo>
                  <a:pt x="16884" y="7218"/>
                  <a:pt x="16875" y="7218"/>
                  <a:pt x="16867" y="7218"/>
                </a:cubicBezTo>
                <a:cubicBezTo>
                  <a:pt x="16788" y="7332"/>
                  <a:pt x="16760" y="7480"/>
                  <a:pt x="16942" y="7541"/>
                </a:cubicBezTo>
                <a:cubicBezTo>
                  <a:pt x="17093" y="7591"/>
                  <a:pt x="17244" y="7482"/>
                  <a:pt x="17140" y="7342"/>
                </a:cubicBezTo>
                <a:cubicBezTo>
                  <a:pt x="17093" y="7279"/>
                  <a:pt x="17025" y="7242"/>
                  <a:pt x="16966" y="7193"/>
                </a:cubicBezTo>
                <a:cubicBezTo>
                  <a:pt x="17108" y="7220"/>
                  <a:pt x="17190" y="7266"/>
                  <a:pt x="17314" y="7367"/>
                </a:cubicBezTo>
                <a:cubicBezTo>
                  <a:pt x="17369" y="7422"/>
                  <a:pt x="17394" y="7420"/>
                  <a:pt x="17388" y="7466"/>
                </a:cubicBezTo>
                <a:cubicBezTo>
                  <a:pt x="17373" y="7348"/>
                  <a:pt x="17355" y="7311"/>
                  <a:pt x="17462" y="7218"/>
                </a:cubicBezTo>
                <a:cubicBezTo>
                  <a:pt x="17527" y="7161"/>
                  <a:pt x="17571" y="7147"/>
                  <a:pt x="17636" y="7169"/>
                </a:cubicBezTo>
              </a:path>
              <a:path w="3449" h="795">
                <a:moveTo>
                  <a:pt x="17611" y="7243"/>
                </a:moveTo>
                <a:cubicBezTo>
                  <a:pt x="17682" y="7243"/>
                  <a:pt x="17799" y="7240"/>
                  <a:pt x="17859" y="7218"/>
                </a:cubicBezTo>
                <a:cubicBezTo>
                  <a:pt x="17919" y="7179"/>
                  <a:pt x="17931" y="7175"/>
                  <a:pt x="17959" y="7144"/>
                </a:cubicBezTo>
                <a:cubicBezTo>
                  <a:pt x="17936" y="7028"/>
                  <a:pt x="17867" y="7026"/>
                  <a:pt x="17760" y="7020"/>
                </a:cubicBezTo>
                <a:cubicBezTo>
                  <a:pt x="17571" y="7009"/>
                  <a:pt x="17515" y="7225"/>
                  <a:pt x="17661" y="7342"/>
                </a:cubicBezTo>
                <a:cubicBezTo>
                  <a:pt x="17803" y="7455"/>
                  <a:pt x="17958" y="7397"/>
                  <a:pt x="18107" y="7367"/>
                </a:cubicBezTo>
              </a:path>
              <a:path w="3449" h="795">
                <a:moveTo>
                  <a:pt x="18231" y="7094"/>
                </a:moveTo>
                <a:cubicBezTo>
                  <a:pt x="18239" y="7201"/>
                  <a:pt x="18238" y="7358"/>
                  <a:pt x="18355" y="7417"/>
                </a:cubicBezTo>
                <a:cubicBezTo>
                  <a:pt x="18397" y="7417"/>
                  <a:pt x="18405" y="7417"/>
                  <a:pt x="18430" y="7417"/>
                </a:cubicBezTo>
                <a:cubicBezTo>
                  <a:pt x="18461" y="7315"/>
                  <a:pt x="18473" y="7204"/>
                  <a:pt x="18479" y="7094"/>
                </a:cubicBezTo>
                <a:cubicBezTo>
                  <a:pt x="18479" y="7069"/>
                  <a:pt x="18479" y="7061"/>
                  <a:pt x="18479" y="7045"/>
                </a:cubicBezTo>
              </a:path>
              <a:path w="3449" h="795">
                <a:moveTo>
                  <a:pt x="18728" y="7293"/>
                </a:moveTo>
                <a:cubicBezTo>
                  <a:pt x="18810" y="7251"/>
                  <a:pt x="18833" y="7239"/>
                  <a:pt x="18852" y="7144"/>
                </a:cubicBezTo>
                <a:cubicBezTo>
                  <a:pt x="18715" y="7155"/>
                  <a:pt x="18637" y="7179"/>
                  <a:pt x="18653" y="7342"/>
                </a:cubicBezTo>
                <a:cubicBezTo>
                  <a:pt x="18661" y="7367"/>
                  <a:pt x="18670" y="7392"/>
                  <a:pt x="18678" y="7417"/>
                </a:cubicBezTo>
                <a:cubicBezTo>
                  <a:pt x="18881" y="7443"/>
                  <a:pt x="18971" y="7400"/>
                  <a:pt x="19124" y="7268"/>
                </a:cubicBezTo>
                <a:cubicBezTo>
                  <a:pt x="19190" y="7211"/>
                  <a:pt x="19128" y="7343"/>
                  <a:pt x="19124" y="7367"/>
                </a:cubicBezTo>
                <a:cubicBezTo>
                  <a:pt x="19124" y="7384"/>
                  <a:pt x="19124" y="7400"/>
                  <a:pt x="19124" y="7417"/>
                </a:cubicBezTo>
                <a:cubicBezTo>
                  <a:pt x="19165" y="7274"/>
                  <a:pt x="19230" y="7212"/>
                  <a:pt x="19348" y="7119"/>
                </a:cubicBezTo>
                <a:cubicBezTo>
                  <a:pt x="19433" y="7053"/>
                  <a:pt x="19434" y="7044"/>
                  <a:pt x="19447" y="7119"/>
                </a:cubicBezTo>
              </a:path>
              <a:path w="3449" h="795">
                <a:moveTo>
                  <a:pt x="19596" y="7466"/>
                </a:moveTo>
                <a:lnTo>
                  <a:pt x="19596" y="7466"/>
                </a:ln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59280" y="3044880"/>
            <a:ext cx="258840" cy="349200"/>
          </a:xfrm>
          <a:custGeom>
            <a:avLst/>
            <a:gdLst/>
            <a:ahLst/>
            <a:rect l="l" t="t" r="r" b="b"/>
            <a:pathLst>
              <a:path w="720" h="969">
                <a:moveTo>
                  <a:pt x="15999" y="8458"/>
                </a:moveTo>
                <a:cubicBezTo>
                  <a:pt x="16117" y="8501"/>
                  <a:pt x="16223" y="8541"/>
                  <a:pt x="16346" y="8607"/>
                </a:cubicBezTo>
                <a:cubicBezTo>
                  <a:pt x="16480" y="8680"/>
                  <a:pt x="16700" y="8735"/>
                  <a:pt x="16718" y="8905"/>
                </a:cubicBezTo>
                <a:cubicBezTo>
                  <a:pt x="16725" y="8974"/>
                  <a:pt x="16655" y="8963"/>
                  <a:pt x="16594" y="9004"/>
                </a:cubicBezTo>
                <a:cubicBezTo>
                  <a:pt x="16429" y="9117"/>
                  <a:pt x="16316" y="9246"/>
                  <a:pt x="16173" y="9376"/>
                </a:cubicBezTo>
                <a:cubicBezTo>
                  <a:pt x="16132" y="9396"/>
                  <a:pt x="16116" y="9394"/>
                  <a:pt x="16123" y="9426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57280" y="3205080"/>
            <a:ext cx="3589560" cy="527040"/>
          </a:xfrm>
          <a:custGeom>
            <a:avLst/>
            <a:gdLst/>
            <a:ahLst/>
            <a:rect l="l" t="t" r="r" b="b"/>
            <a:pathLst>
              <a:path w="9973" h="1464">
                <a:moveTo>
                  <a:pt x="9153" y="9227"/>
                </a:moveTo>
                <a:cubicBezTo>
                  <a:pt x="9165" y="9223"/>
                  <a:pt x="9209" y="9185"/>
                  <a:pt x="9252" y="9178"/>
                </a:cubicBezTo>
                <a:cubicBezTo>
                  <a:pt x="9421" y="9151"/>
                  <a:pt x="9614" y="9170"/>
                  <a:pt x="9773" y="9178"/>
                </a:cubicBezTo>
                <a:cubicBezTo>
                  <a:pt x="9806" y="9180"/>
                  <a:pt x="9790" y="9177"/>
                  <a:pt x="9823" y="9178"/>
                </a:cubicBezTo>
                <a:cubicBezTo>
                  <a:pt x="10297" y="9195"/>
                  <a:pt x="10776" y="9159"/>
                  <a:pt x="11237" y="9178"/>
                </a:cubicBezTo>
                <a:cubicBezTo>
                  <a:pt x="11937" y="9206"/>
                  <a:pt x="12649" y="9191"/>
                  <a:pt x="13345" y="9128"/>
                </a:cubicBezTo>
                <a:cubicBezTo>
                  <a:pt x="13703" y="9096"/>
                  <a:pt x="14056" y="9049"/>
                  <a:pt x="14412" y="9004"/>
                </a:cubicBezTo>
                <a:cubicBezTo>
                  <a:pt x="14755" y="8961"/>
                  <a:pt x="15108" y="8941"/>
                  <a:pt x="15453" y="8930"/>
                </a:cubicBezTo>
                <a:cubicBezTo>
                  <a:pt x="15687" y="8922"/>
                  <a:pt x="15917" y="8920"/>
                  <a:pt x="16148" y="8905"/>
                </a:cubicBezTo>
                <a:cubicBezTo>
                  <a:pt x="16271" y="8897"/>
                  <a:pt x="16397" y="8905"/>
                  <a:pt x="16520" y="8905"/>
                </a:cubicBezTo>
              </a:path>
              <a:path w="9973" h="1464">
                <a:moveTo>
                  <a:pt x="6548" y="10344"/>
                </a:moveTo>
                <a:cubicBezTo>
                  <a:pt x="6548" y="10352"/>
                  <a:pt x="6548" y="10360"/>
                  <a:pt x="6548" y="1036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33640" y="4268880"/>
            <a:ext cx="715680" cy="312480"/>
          </a:xfrm>
          <a:custGeom>
            <a:avLst/>
            <a:gdLst/>
            <a:ahLst/>
            <a:rect l="l" t="t" r="r" b="b"/>
            <a:pathLst>
              <a:path w="1986" h="869">
                <a:moveTo>
                  <a:pt x="3249" y="12055"/>
                </a:moveTo>
                <a:cubicBezTo>
                  <a:pt x="3221" y="11998"/>
                  <a:pt x="3161" y="11934"/>
                  <a:pt x="3150" y="11881"/>
                </a:cubicBezTo>
                <a:cubicBezTo>
                  <a:pt x="3150" y="11873"/>
                  <a:pt x="3150" y="11865"/>
                  <a:pt x="3150" y="11857"/>
                </a:cubicBezTo>
                <a:cubicBezTo>
                  <a:pt x="3150" y="12037"/>
                  <a:pt x="3195" y="12201"/>
                  <a:pt x="3225" y="12378"/>
                </a:cubicBezTo>
                <a:cubicBezTo>
                  <a:pt x="3246" y="12526"/>
                  <a:pt x="3254" y="12558"/>
                  <a:pt x="3249" y="12650"/>
                </a:cubicBezTo>
                <a:cubicBezTo>
                  <a:pt x="3302" y="12685"/>
                  <a:pt x="3240" y="12528"/>
                  <a:pt x="3274" y="12452"/>
                </a:cubicBezTo>
                <a:cubicBezTo>
                  <a:pt x="3314" y="12362"/>
                  <a:pt x="3517" y="12120"/>
                  <a:pt x="3646" y="12204"/>
                </a:cubicBezTo>
                <a:cubicBezTo>
                  <a:pt x="3786" y="12295"/>
                  <a:pt x="3881" y="12518"/>
                  <a:pt x="3894" y="12675"/>
                </a:cubicBezTo>
                <a:cubicBezTo>
                  <a:pt x="3894" y="12692"/>
                  <a:pt x="3894" y="12708"/>
                  <a:pt x="3894" y="12725"/>
                </a:cubicBezTo>
              </a:path>
              <a:path w="1986" h="869">
                <a:moveTo>
                  <a:pt x="4490" y="12353"/>
                </a:moveTo>
                <a:cubicBezTo>
                  <a:pt x="4489" y="12302"/>
                  <a:pt x="4400" y="12160"/>
                  <a:pt x="4291" y="12204"/>
                </a:cubicBezTo>
                <a:cubicBezTo>
                  <a:pt x="4158" y="12257"/>
                  <a:pt x="3992" y="12554"/>
                  <a:pt x="4118" y="12675"/>
                </a:cubicBezTo>
                <a:cubicBezTo>
                  <a:pt x="4250" y="12801"/>
                  <a:pt x="4413" y="12572"/>
                  <a:pt x="4390" y="12452"/>
                </a:cubicBezTo>
                <a:cubicBezTo>
                  <a:pt x="4357" y="12452"/>
                  <a:pt x="4349" y="12461"/>
                  <a:pt x="4366" y="12502"/>
                </a:cubicBezTo>
                <a:cubicBezTo>
                  <a:pt x="4420" y="12633"/>
                  <a:pt x="4424" y="12650"/>
                  <a:pt x="4564" y="12650"/>
                </a:cubicBezTo>
              </a:path>
              <a:path w="1986" h="869">
                <a:moveTo>
                  <a:pt x="5011" y="12204"/>
                </a:moveTo>
                <a:cubicBezTo>
                  <a:pt x="4912" y="12262"/>
                  <a:pt x="4824" y="12301"/>
                  <a:pt x="4738" y="12378"/>
                </a:cubicBezTo>
                <a:cubicBezTo>
                  <a:pt x="4854" y="12388"/>
                  <a:pt x="5067" y="12408"/>
                  <a:pt x="5135" y="12526"/>
                </a:cubicBezTo>
                <a:cubicBezTo>
                  <a:pt x="5127" y="12543"/>
                  <a:pt x="5118" y="12559"/>
                  <a:pt x="5110" y="12576"/>
                </a:cubicBezTo>
                <a:cubicBezTo>
                  <a:pt x="4951" y="12645"/>
                  <a:pt x="4812" y="12709"/>
                  <a:pt x="4738" y="12576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24080" y="4313160"/>
            <a:ext cx="1884240" cy="438120"/>
          </a:xfrm>
          <a:custGeom>
            <a:avLst/>
            <a:gdLst/>
            <a:ahLst/>
            <a:rect l="l" t="t" r="r" b="b"/>
            <a:pathLst>
              <a:path w="5235" h="1216">
                <a:moveTo>
                  <a:pt x="6524" y="12328"/>
                </a:moveTo>
                <a:cubicBezTo>
                  <a:pt x="6591" y="12363"/>
                  <a:pt x="6466" y="12195"/>
                  <a:pt x="6400" y="12204"/>
                </a:cubicBezTo>
                <a:cubicBezTo>
                  <a:pt x="6247" y="12224"/>
                  <a:pt x="6114" y="12522"/>
                  <a:pt x="6201" y="12650"/>
                </a:cubicBezTo>
                <a:cubicBezTo>
                  <a:pt x="6340" y="12856"/>
                  <a:pt x="6441" y="12536"/>
                  <a:pt x="6449" y="12452"/>
                </a:cubicBezTo>
                <a:cubicBezTo>
                  <a:pt x="6449" y="12444"/>
                  <a:pt x="6449" y="12435"/>
                  <a:pt x="6449" y="12427"/>
                </a:cubicBezTo>
                <a:cubicBezTo>
                  <a:pt x="6492" y="12575"/>
                  <a:pt x="6585" y="12626"/>
                  <a:pt x="6747" y="12626"/>
                </a:cubicBezTo>
                <a:cubicBezTo>
                  <a:pt x="6797" y="12618"/>
                  <a:pt x="6846" y="12609"/>
                  <a:pt x="6896" y="12601"/>
                </a:cubicBezTo>
              </a:path>
              <a:path w="5235" h="1216">
                <a:moveTo>
                  <a:pt x="7243" y="11981"/>
                </a:moveTo>
                <a:cubicBezTo>
                  <a:pt x="7321" y="12195"/>
                  <a:pt x="7394" y="12410"/>
                  <a:pt x="7466" y="12626"/>
                </a:cubicBezTo>
                <a:cubicBezTo>
                  <a:pt x="7416" y="12512"/>
                  <a:pt x="7376" y="12272"/>
                  <a:pt x="7565" y="12229"/>
                </a:cubicBezTo>
                <a:cubicBezTo>
                  <a:pt x="7758" y="12186"/>
                  <a:pt x="7837" y="12357"/>
                  <a:pt x="7913" y="12477"/>
                </a:cubicBezTo>
                <a:cubicBezTo>
                  <a:pt x="7739" y="12613"/>
                  <a:pt x="7651" y="12618"/>
                  <a:pt x="7441" y="12551"/>
                </a:cubicBezTo>
              </a:path>
              <a:path w="5235" h="1216">
                <a:moveTo>
                  <a:pt x="8062" y="12278"/>
                </a:moveTo>
                <a:cubicBezTo>
                  <a:pt x="8186" y="12246"/>
                  <a:pt x="8230" y="12246"/>
                  <a:pt x="8310" y="12154"/>
                </a:cubicBezTo>
                <a:cubicBezTo>
                  <a:pt x="8216" y="12084"/>
                  <a:pt x="8058" y="12197"/>
                  <a:pt x="7987" y="12303"/>
                </a:cubicBezTo>
                <a:cubicBezTo>
                  <a:pt x="7941" y="12420"/>
                  <a:pt x="7921" y="12454"/>
                  <a:pt x="7987" y="12526"/>
                </a:cubicBezTo>
                <a:cubicBezTo>
                  <a:pt x="8213" y="12537"/>
                  <a:pt x="8338" y="12481"/>
                  <a:pt x="8558" y="12402"/>
                </a:cubicBezTo>
              </a:path>
              <a:path w="5235" h="1216">
                <a:moveTo>
                  <a:pt x="8806" y="12204"/>
                </a:moveTo>
                <a:cubicBezTo>
                  <a:pt x="8633" y="12152"/>
                  <a:pt x="8528" y="12211"/>
                  <a:pt x="8409" y="12353"/>
                </a:cubicBezTo>
                <a:cubicBezTo>
                  <a:pt x="8344" y="12461"/>
                  <a:pt x="8308" y="12487"/>
                  <a:pt x="8384" y="12551"/>
                </a:cubicBezTo>
                <a:cubicBezTo>
                  <a:pt x="8542" y="12559"/>
                  <a:pt x="8719" y="12568"/>
                  <a:pt x="8706" y="12353"/>
                </a:cubicBezTo>
                <a:cubicBezTo>
                  <a:pt x="8698" y="12328"/>
                  <a:pt x="8690" y="12303"/>
                  <a:pt x="8682" y="12278"/>
                </a:cubicBezTo>
                <a:cubicBezTo>
                  <a:pt x="8745" y="12356"/>
                  <a:pt x="8843" y="12486"/>
                  <a:pt x="8880" y="12601"/>
                </a:cubicBezTo>
                <a:cubicBezTo>
                  <a:pt x="8966" y="12870"/>
                  <a:pt x="8765" y="13030"/>
                  <a:pt x="8508" y="13047"/>
                </a:cubicBezTo>
                <a:cubicBezTo>
                  <a:pt x="8307" y="13024"/>
                  <a:pt x="8250" y="13030"/>
                  <a:pt x="8161" y="12923"/>
                </a:cubicBezTo>
              </a:path>
              <a:path w="5235" h="1216">
                <a:moveTo>
                  <a:pt x="8905" y="12452"/>
                </a:moveTo>
                <a:cubicBezTo>
                  <a:pt x="8924" y="12529"/>
                  <a:pt x="8917" y="12546"/>
                  <a:pt x="8954" y="12576"/>
                </a:cubicBezTo>
              </a:path>
              <a:path w="5235" h="1216">
                <a:moveTo>
                  <a:pt x="8806" y="12030"/>
                </a:moveTo>
                <a:lnTo>
                  <a:pt x="8806" y="12030"/>
                </a:lnTo>
              </a:path>
              <a:path w="5235" h="1216">
                <a:moveTo>
                  <a:pt x="9128" y="12427"/>
                </a:moveTo>
                <a:cubicBezTo>
                  <a:pt x="9147" y="12488"/>
                  <a:pt x="9153" y="12498"/>
                  <a:pt x="9153" y="12551"/>
                </a:cubicBezTo>
                <a:cubicBezTo>
                  <a:pt x="9135" y="12443"/>
                  <a:pt x="9122" y="12350"/>
                  <a:pt x="9203" y="12254"/>
                </a:cubicBezTo>
                <a:cubicBezTo>
                  <a:pt x="9322" y="12112"/>
                  <a:pt x="9515" y="12258"/>
                  <a:pt x="9575" y="12378"/>
                </a:cubicBezTo>
                <a:cubicBezTo>
                  <a:pt x="9594" y="12477"/>
                  <a:pt x="9602" y="12492"/>
                  <a:pt x="9599" y="12551"/>
                </a:cubicBezTo>
              </a:path>
              <a:path w="5235" h="1216">
                <a:moveTo>
                  <a:pt x="9723" y="12278"/>
                </a:moveTo>
                <a:cubicBezTo>
                  <a:pt x="9723" y="12367"/>
                  <a:pt x="9731" y="12444"/>
                  <a:pt x="9748" y="12526"/>
                </a:cubicBezTo>
                <a:cubicBezTo>
                  <a:pt x="9748" y="12432"/>
                  <a:pt x="9717" y="12282"/>
                  <a:pt x="9773" y="12204"/>
                </a:cubicBezTo>
                <a:cubicBezTo>
                  <a:pt x="9798" y="12196"/>
                  <a:pt x="9822" y="12187"/>
                  <a:pt x="9847" y="12179"/>
                </a:cubicBezTo>
                <a:cubicBezTo>
                  <a:pt x="10006" y="12242"/>
                  <a:pt x="10055" y="12358"/>
                  <a:pt x="10096" y="12526"/>
                </a:cubicBezTo>
                <a:cubicBezTo>
                  <a:pt x="10096" y="12534"/>
                  <a:pt x="10096" y="12543"/>
                  <a:pt x="10096" y="12551"/>
                </a:cubicBezTo>
              </a:path>
              <a:path w="5235" h="1216">
                <a:moveTo>
                  <a:pt x="10269" y="12402"/>
                </a:moveTo>
                <a:cubicBezTo>
                  <a:pt x="10291" y="12520"/>
                  <a:pt x="10271" y="12580"/>
                  <a:pt x="10319" y="12502"/>
                </a:cubicBezTo>
              </a:path>
              <a:path w="5235" h="1216">
                <a:moveTo>
                  <a:pt x="10096" y="12005"/>
                </a:moveTo>
                <a:cubicBezTo>
                  <a:pt x="10096" y="11973"/>
                  <a:pt x="10104" y="11965"/>
                  <a:pt x="10145" y="11981"/>
                </a:cubicBezTo>
              </a:path>
              <a:path w="5235" h="1216">
                <a:moveTo>
                  <a:pt x="10443" y="12427"/>
                </a:moveTo>
                <a:cubicBezTo>
                  <a:pt x="10465" y="12601"/>
                  <a:pt x="10473" y="12359"/>
                  <a:pt x="10517" y="12303"/>
                </a:cubicBezTo>
                <a:cubicBezTo>
                  <a:pt x="10582" y="12260"/>
                  <a:pt x="10597" y="12249"/>
                  <a:pt x="10641" y="12229"/>
                </a:cubicBezTo>
                <a:cubicBezTo>
                  <a:pt x="10682" y="12295"/>
                  <a:pt x="10767" y="12576"/>
                  <a:pt x="10864" y="12576"/>
                </a:cubicBezTo>
                <a:cubicBezTo>
                  <a:pt x="11083" y="12576"/>
                  <a:pt x="11120" y="12334"/>
                  <a:pt x="11137" y="12179"/>
                </a:cubicBezTo>
                <a:cubicBezTo>
                  <a:pt x="10995" y="12208"/>
                  <a:pt x="10840" y="12335"/>
                  <a:pt x="10840" y="12502"/>
                </a:cubicBezTo>
                <a:cubicBezTo>
                  <a:pt x="10840" y="12715"/>
                  <a:pt x="11057" y="12513"/>
                  <a:pt x="11088" y="12452"/>
                </a:cubicBezTo>
                <a:cubicBezTo>
                  <a:pt x="11108" y="12391"/>
                  <a:pt x="11106" y="12377"/>
                  <a:pt x="11137" y="12353"/>
                </a:cubicBezTo>
                <a:cubicBezTo>
                  <a:pt x="11249" y="12553"/>
                  <a:pt x="11402" y="12733"/>
                  <a:pt x="11410" y="12973"/>
                </a:cubicBezTo>
                <a:cubicBezTo>
                  <a:pt x="11402" y="13023"/>
                  <a:pt x="11393" y="13072"/>
                  <a:pt x="11385" y="13122"/>
                </a:cubicBezTo>
                <a:cubicBezTo>
                  <a:pt x="11183" y="13181"/>
                  <a:pt x="10694" y="13304"/>
                  <a:pt x="10542" y="13047"/>
                </a:cubicBezTo>
                <a:cubicBezTo>
                  <a:pt x="10550" y="12997"/>
                  <a:pt x="10559" y="12948"/>
                  <a:pt x="10567" y="1289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00720" y="4232160"/>
            <a:ext cx="733320" cy="312840"/>
          </a:xfrm>
          <a:custGeom>
            <a:avLst/>
            <a:gdLst/>
            <a:ahLst/>
            <a:rect l="l" t="t" r="r" b="b"/>
            <a:pathLst>
              <a:path w="2035" h="870">
                <a:moveTo>
                  <a:pt x="12948" y="12303"/>
                </a:moveTo>
                <a:cubicBezTo>
                  <a:pt x="12839" y="12209"/>
                  <a:pt x="12747" y="12102"/>
                  <a:pt x="12601" y="12204"/>
                </a:cubicBezTo>
                <a:cubicBezTo>
                  <a:pt x="12454" y="12307"/>
                  <a:pt x="12444" y="12639"/>
                  <a:pt x="12675" y="12626"/>
                </a:cubicBezTo>
                <a:cubicBezTo>
                  <a:pt x="12862" y="12616"/>
                  <a:pt x="12866" y="12399"/>
                  <a:pt x="12898" y="12278"/>
                </a:cubicBezTo>
                <a:cubicBezTo>
                  <a:pt x="12913" y="12393"/>
                  <a:pt x="12905" y="12464"/>
                  <a:pt x="13047" y="12502"/>
                </a:cubicBezTo>
                <a:cubicBezTo>
                  <a:pt x="13111" y="12519"/>
                  <a:pt x="13330" y="12390"/>
                  <a:pt x="13320" y="12427"/>
                </a:cubicBezTo>
                <a:cubicBezTo>
                  <a:pt x="13280" y="12427"/>
                  <a:pt x="13261" y="12438"/>
                  <a:pt x="13246" y="12477"/>
                </a:cubicBezTo>
                <a:cubicBezTo>
                  <a:pt x="13235" y="12390"/>
                  <a:pt x="13196" y="12270"/>
                  <a:pt x="13295" y="12204"/>
                </a:cubicBezTo>
                <a:cubicBezTo>
                  <a:pt x="13443" y="12105"/>
                  <a:pt x="13630" y="12295"/>
                  <a:pt x="13667" y="12427"/>
                </a:cubicBezTo>
                <a:cubicBezTo>
                  <a:pt x="13721" y="12624"/>
                  <a:pt x="13592" y="12493"/>
                  <a:pt x="13742" y="12526"/>
                </a:cubicBezTo>
              </a:path>
              <a:path w="2035" h="870">
                <a:moveTo>
                  <a:pt x="14064" y="12204"/>
                </a:moveTo>
                <a:cubicBezTo>
                  <a:pt x="14023" y="12014"/>
                  <a:pt x="13902" y="12042"/>
                  <a:pt x="13742" y="12179"/>
                </a:cubicBezTo>
                <a:cubicBezTo>
                  <a:pt x="13650" y="12294"/>
                  <a:pt x="13617" y="12324"/>
                  <a:pt x="13643" y="12427"/>
                </a:cubicBezTo>
                <a:cubicBezTo>
                  <a:pt x="13823" y="12518"/>
                  <a:pt x="14072" y="12568"/>
                  <a:pt x="14163" y="12303"/>
                </a:cubicBezTo>
                <a:cubicBezTo>
                  <a:pt x="14226" y="12120"/>
                  <a:pt x="14094" y="11895"/>
                  <a:pt x="13990" y="11757"/>
                </a:cubicBezTo>
                <a:cubicBezTo>
                  <a:pt x="14175" y="12110"/>
                  <a:pt x="14140" y="12292"/>
                  <a:pt x="14536" y="12402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72080" y="4330800"/>
            <a:ext cx="465120" cy="187200"/>
          </a:xfrm>
          <a:custGeom>
            <a:avLst/>
            <a:gdLst/>
            <a:ahLst/>
            <a:rect l="l" t="t" r="r" b="b"/>
            <a:pathLst>
              <a:path w="1291" h="522">
                <a:moveTo>
                  <a:pt x="15949" y="12278"/>
                </a:moveTo>
                <a:cubicBezTo>
                  <a:pt x="15898" y="12334"/>
                  <a:pt x="15967" y="12210"/>
                  <a:pt x="15875" y="12105"/>
                </a:cubicBezTo>
                <a:cubicBezTo>
                  <a:pt x="15703" y="11907"/>
                  <a:pt x="15500" y="12145"/>
                  <a:pt x="15478" y="12328"/>
                </a:cubicBezTo>
                <a:cubicBezTo>
                  <a:pt x="15486" y="12369"/>
                  <a:pt x="15495" y="12411"/>
                  <a:pt x="15503" y="12452"/>
                </a:cubicBezTo>
                <a:cubicBezTo>
                  <a:pt x="15750" y="12562"/>
                  <a:pt x="15797" y="12471"/>
                  <a:pt x="15949" y="12254"/>
                </a:cubicBezTo>
                <a:cubicBezTo>
                  <a:pt x="15990" y="12172"/>
                  <a:pt x="15922" y="12314"/>
                  <a:pt x="15999" y="12402"/>
                </a:cubicBezTo>
                <a:cubicBezTo>
                  <a:pt x="16114" y="12533"/>
                  <a:pt x="16273" y="12358"/>
                  <a:pt x="16346" y="12402"/>
                </a:cubicBezTo>
                <a:cubicBezTo>
                  <a:pt x="16372" y="12418"/>
                  <a:pt x="16324" y="12471"/>
                  <a:pt x="16321" y="12477"/>
                </a:cubicBezTo>
                <a:cubicBezTo>
                  <a:pt x="16212" y="12398"/>
                  <a:pt x="16223" y="12308"/>
                  <a:pt x="16321" y="12204"/>
                </a:cubicBezTo>
                <a:cubicBezTo>
                  <a:pt x="16477" y="12037"/>
                  <a:pt x="16678" y="12141"/>
                  <a:pt x="16743" y="12328"/>
                </a:cubicBezTo>
                <a:cubicBezTo>
                  <a:pt x="16776" y="12423"/>
                  <a:pt x="16663" y="12643"/>
                  <a:pt x="16768" y="1247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11960" y="4152960"/>
            <a:ext cx="749160" cy="365040"/>
          </a:xfrm>
          <a:custGeom>
            <a:avLst/>
            <a:gdLst/>
            <a:ahLst/>
            <a:rect l="l" t="t" r="r" b="b"/>
            <a:pathLst>
              <a:path w="2084" h="1018">
                <a:moveTo>
                  <a:pt x="17810" y="12229"/>
                </a:moveTo>
                <a:cubicBezTo>
                  <a:pt x="17980" y="12229"/>
                  <a:pt x="18139" y="12238"/>
                  <a:pt x="18306" y="12254"/>
                </a:cubicBezTo>
                <a:cubicBezTo>
                  <a:pt x="18322" y="12254"/>
                  <a:pt x="18339" y="12254"/>
                  <a:pt x="18355" y="12254"/>
                </a:cubicBezTo>
                <a:cubicBezTo>
                  <a:pt x="18267" y="12224"/>
                  <a:pt x="18224" y="12144"/>
                  <a:pt x="18132" y="12105"/>
                </a:cubicBezTo>
                <a:cubicBezTo>
                  <a:pt x="17968" y="12035"/>
                  <a:pt x="17759" y="12153"/>
                  <a:pt x="17835" y="12353"/>
                </a:cubicBezTo>
                <a:cubicBezTo>
                  <a:pt x="17931" y="12607"/>
                  <a:pt x="18291" y="12595"/>
                  <a:pt x="18479" y="12477"/>
                </a:cubicBezTo>
                <a:cubicBezTo>
                  <a:pt x="18587" y="12409"/>
                  <a:pt x="18596" y="12090"/>
                  <a:pt x="18653" y="12204"/>
                </a:cubicBezTo>
                <a:cubicBezTo>
                  <a:pt x="18692" y="12282"/>
                  <a:pt x="18713" y="12393"/>
                  <a:pt x="18728" y="12477"/>
                </a:cubicBezTo>
                <a:cubicBezTo>
                  <a:pt x="18728" y="12369"/>
                  <a:pt x="18696" y="12196"/>
                  <a:pt x="18777" y="12105"/>
                </a:cubicBezTo>
                <a:cubicBezTo>
                  <a:pt x="18935" y="11928"/>
                  <a:pt x="19104" y="12132"/>
                  <a:pt x="19149" y="12278"/>
                </a:cubicBezTo>
                <a:cubicBezTo>
                  <a:pt x="19202" y="12450"/>
                  <a:pt x="19115" y="12447"/>
                  <a:pt x="19248" y="12477"/>
                </a:cubicBezTo>
              </a:path>
              <a:path w="2084" h="1018">
                <a:moveTo>
                  <a:pt x="19769" y="12080"/>
                </a:moveTo>
                <a:cubicBezTo>
                  <a:pt x="19513" y="12057"/>
                  <a:pt x="19425" y="12091"/>
                  <a:pt x="19248" y="12278"/>
                </a:cubicBezTo>
                <a:cubicBezTo>
                  <a:pt x="19340" y="12462"/>
                  <a:pt x="19591" y="12602"/>
                  <a:pt x="19819" y="12427"/>
                </a:cubicBezTo>
                <a:cubicBezTo>
                  <a:pt x="19844" y="12377"/>
                  <a:pt x="19868" y="12328"/>
                  <a:pt x="19893" y="12278"/>
                </a:cubicBezTo>
              </a:path>
              <a:path w="2084" h="1018">
                <a:moveTo>
                  <a:pt x="19745" y="11534"/>
                </a:moveTo>
                <a:cubicBezTo>
                  <a:pt x="19753" y="11859"/>
                  <a:pt x="19773" y="12164"/>
                  <a:pt x="19869" y="12477"/>
                </a:cubicBezTo>
                <a:cubicBezTo>
                  <a:pt x="19889" y="12517"/>
                  <a:pt x="19897" y="12543"/>
                  <a:pt x="19893" y="12502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97160" y="4956120"/>
            <a:ext cx="3152880" cy="1366920"/>
          </a:xfrm>
          <a:custGeom>
            <a:avLst/>
            <a:gdLst/>
            <a:ahLst/>
            <a:rect l="l" t="t" r="r" b="b"/>
            <a:pathLst>
              <a:path w="8757" h="3796">
                <a:moveTo>
                  <a:pt x="8880" y="14114"/>
                </a:moveTo>
                <a:cubicBezTo>
                  <a:pt x="8946" y="14117"/>
                  <a:pt x="8904" y="14101"/>
                  <a:pt x="9004" y="14114"/>
                </a:cubicBezTo>
                <a:cubicBezTo>
                  <a:pt x="9169" y="14136"/>
                  <a:pt x="9332" y="14139"/>
                  <a:pt x="9500" y="14139"/>
                </a:cubicBezTo>
                <a:cubicBezTo>
                  <a:pt x="9619" y="14139"/>
                  <a:pt x="9737" y="14156"/>
                  <a:pt x="9847" y="14163"/>
                </a:cubicBezTo>
                <a:cubicBezTo>
                  <a:pt x="10507" y="14208"/>
                  <a:pt x="11175" y="14141"/>
                  <a:pt x="11832" y="14114"/>
                </a:cubicBezTo>
                <a:cubicBezTo>
                  <a:pt x="12197" y="14099"/>
                  <a:pt x="12557" y="14050"/>
                  <a:pt x="12923" y="14015"/>
                </a:cubicBezTo>
                <a:cubicBezTo>
                  <a:pt x="13229" y="13986"/>
                  <a:pt x="13535" y="13953"/>
                  <a:pt x="13841" y="13940"/>
                </a:cubicBezTo>
                <a:cubicBezTo>
                  <a:pt x="14049" y="13931"/>
                  <a:pt x="14252" y="13915"/>
                  <a:pt x="14461" y="13915"/>
                </a:cubicBezTo>
                <a:cubicBezTo>
                  <a:pt x="14602" y="13915"/>
                  <a:pt x="14742" y="13915"/>
                  <a:pt x="14883" y="13915"/>
                </a:cubicBezTo>
                <a:cubicBezTo>
                  <a:pt x="14825" y="13968"/>
                  <a:pt x="14757" y="13965"/>
                  <a:pt x="14784" y="14039"/>
                </a:cubicBezTo>
                <a:cubicBezTo>
                  <a:pt x="14833" y="14176"/>
                  <a:pt x="14951" y="14194"/>
                  <a:pt x="15056" y="14089"/>
                </a:cubicBezTo>
                <a:cubicBezTo>
                  <a:pt x="15146" y="13999"/>
                  <a:pt x="15030" y="13791"/>
                  <a:pt x="14908" y="13816"/>
                </a:cubicBezTo>
                <a:cubicBezTo>
                  <a:pt x="14862" y="13862"/>
                  <a:pt x="14847" y="13874"/>
                  <a:pt x="14833" y="13915"/>
                </a:cubicBezTo>
                <a:cubicBezTo>
                  <a:pt x="14870" y="13938"/>
                  <a:pt x="14983" y="14120"/>
                  <a:pt x="15081" y="13990"/>
                </a:cubicBezTo>
                <a:cubicBezTo>
                  <a:pt x="15106" y="13915"/>
                  <a:pt x="15114" y="13891"/>
                  <a:pt x="15081" y="13841"/>
                </a:cubicBezTo>
                <a:cubicBezTo>
                  <a:pt x="14877" y="13864"/>
                  <a:pt x="14917" y="13843"/>
                  <a:pt x="14808" y="13990"/>
                </a:cubicBezTo>
                <a:cubicBezTo>
                  <a:pt x="14879" y="14003"/>
                  <a:pt x="15223" y="14057"/>
                  <a:pt x="15081" y="13841"/>
                </a:cubicBezTo>
                <a:cubicBezTo>
                  <a:pt x="14960" y="13657"/>
                  <a:pt x="14897" y="13831"/>
                  <a:pt x="14808" y="13915"/>
                </a:cubicBezTo>
                <a:cubicBezTo>
                  <a:pt x="14872" y="13938"/>
                  <a:pt x="14898" y="13936"/>
                  <a:pt x="14957" y="13940"/>
                </a:cubicBezTo>
              </a:path>
              <a:path w="8757" h="3796">
                <a:moveTo>
                  <a:pt x="9029" y="17487"/>
                </a:moveTo>
                <a:cubicBezTo>
                  <a:pt x="9297" y="17487"/>
                  <a:pt x="9559" y="17525"/>
                  <a:pt x="9823" y="17537"/>
                </a:cubicBezTo>
                <a:cubicBezTo>
                  <a:pt x="10025" y="17546"/>
                  <a:pt x="10219" y="17543"/>
                  <a:pt x="10418" y="17537"/>
                </a:cubicBezTo>
                <a:cubicBezTo>
                  <a:pt x="10718" y="17528"/>
                  <a:pt x="11015" y="17544"/>
                  <a:pt x="11311" y="17512"/>
                </a:cubicBezTo>
                <a:cubicBezTo>
                  <a:pt x="11465" y="17495"/>
                  <a:pt x="11628" y="17469"/>
                  <a:pt x="11782" y="17462"/>
                </a:cubicBezTo>
                <a:cubicBezTo>
                  <a:pt x="12038" y="17450"/>
                  <a:pt x="12295" y="17441"/>
                  <a:pt x="12551" y="17438"/>
                </a:cubicBezTo>
                <a:cubicBezTo>
                  <a:pt x="12712" y="17436"/>
                  <a:pt x="12863" y="17419"/>
                  <a:pt x="13022" y="17413"/>
                </a:cubicBezTo>
                <a:cubicBezTo>
                  <a:pt x="14235" y="17371"/>
                  <a:pt x="15460" y="17408"/>
                  <a:pt x="16669" y="17462"/>
                </a:cubicBezTo>
                <a:cubicBezTo>
                  <a:pt x="16985" y="17476"/>
                  <a:pt x="17298" y="17457"/>
                  <a:pt x="17611" y="17487"/>
                </a:cubicBezTo>
                <a:cubicBezTo>
                  <a:pt x="17711" y="17496"/>
                  <a:pt x="17479" y="17474"/>
                  <a:pt x="17537" y="1748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39960" y="5705640"/>
            <a:ext cx="803160" cy="403200"/>
          </a:xfrm>
          <a:custGeom>
            <a:avLst/>
            <a:gdLst/>
            <a:ahLst/>
            <a:rect l="l" t="t" r="r" b="b"/>
            <a:pathLst>
              <a:path w="2233" h="1117">
                <a:moveTo>
                  <a:pt x="5680" y="15999"/>
                </a:moveTo>
                <a:cubicBezTo>
                  <a:pt x="5624" y="15930"/>
                  <a:pt x="5575" y="15850"/>
                  <a:pt x="5457" y="15850"/>
                </a:cubicBezTo>
                <a:cubicBezTo>
                  <a:pt x="5279" y="15850"/>
                  <a:pt x="5094" y="16007"/>
                  <a:pt x="5110" y="16197"/>
                </a:cubicBezTo>
                <a:cubicBezTo>
                  <a:pt x="5127" y="16391"/>
                  <a:pt x="5342" y="16425"/>
                  <a:pt x="5457" y="16297"/>
                </a:cubicBezTo>
                <a:cubicBezTo>
                  <a:pt x="5502" y="16207"/>
                  <a:pt x="5515" y="16185"/>
                  <a:pt x="5531" y="16123"/>
                </a:cubicBezTo>
                <a:cubicBezTo>
                  <a:pt x="5658" y="16268"/>
                  <a:pt x="5774" y="16406"/>
                  <a:pt x="5829" y="16594"/>
                </a:cubicBezTo>
                <a:cubicBezTo>
                  <a:pt x="5900" y="16836"/>
                  <a:pt x="5678" y="16962"/>
                  <a:pt x="5457" y="16966"/>
                </a:cubicBezTo>
                <a:cubicBezTo>
                  <a:pt x="5236" y="16970"/>
                  <a:pt x="5240" y="16912"/>
                  <a:pt x="5184" y="16743"/>
                </a:cubicBezTo>
              </a:path>
              <a:path w="2233" h="1117">
                <a:moveTo>
                  <a:pt x="6028" y="16073"/>
                </a:moveTo>
                <a:cubicBezTo>
                  <a:pt x="5900" y="16073"/>
                  <a:pt x="5851" y="16083"/>
                  <a:pt x="5804" y="16222"/>
                </a:cubicBezTo>
                <a:cubicBezTo>
                  <a:pt x="5782" y="16330"/>
                  <a:pt x="5769" y="16357"/>
                  <a:pt x="5804" y="16421"/>
                </a:cubicBezTo>
                <a:cubicBezTo>
                  <a:pt x="5898" y="16463"/>
                  <a:pt x="6057" y="16477"/>
                  <a:pt x="6127" y="16346"/>
                </a:cubicBezTo>
                <a:cubicBezTo>
                  <a:pt x="6191" y="16228"/>
                  <a:pt x="6083" y="16118"/>
                  <a:pt x="5978" y="16073"/>
                </a:cubicBezTo>
                <a:cubicBezTo>
                  <a:pt x="5970" y="16073"/>
                  <a:pt x="5961" y="16073"/>
                  <a:pt x="5953" y="16073"/>
                </a:cubicBezTo>
              </a:path>
              <a:path w="2233" h="1117">
                <a:moveTo>
                  <a:pt x="6400" y="16173"/>
                </a:moveTo>
                <a:cubicBezTo>
                  <a:pt x="6525" y="16148"/>
                  <a:pt x="6634" y="16111"/>
                  <a:pt x="6747" y="16073"/>
                </a:cubicBezTo>
                <a:cubicBezTo>
                  <a:pt x="6628" y="16040"/>
                  <a:pt x="6530" y="15967"/>
                  <a:pt x="6400" y="16024"/>
                </a:cubicBezTo>
                <a:cubicBezTo>
                  <a:pt x="6223" y="16102"/>
                  <a:pt x="6333" y="16327"/>
                  <a:pt x="6474" y="16371"/>
                </a:cubicBezTo>
                <a:cubicBezTo>
                  <a:pt x="6636" y="16371"/>
                  <a:pt x="6698" y="16366"/>
                  <a:pt x="6796" y="16297"/>
                </a:cubicBezTo>
              </a:path>
              <a:path w="2233" h="1117">
                <a:moveTo>
                  <a:pt x="7045" y="15900"/>
                </a:moveTo>
                <a:cubicBezTo>
                  <a:pt x="6938" y="15975"/>
                  <a:pt x="6910" y="15960"/>
                  <a:pt x="6871" y="16073"/>
                </a:cubicBezTo>
                <a:cubicBezTo>
                  <a:pt x="7066" y="16073"/>
                  <a:pt x="7199" y="16053"/>
                  <a:pt x="7342" y="16173"/>
                </a:cubicBezTo>
                <a:cubicBezTo>
                  <a:pt x="7259" y="16265"/>
                  <a:pt x="7035" y="16434"/>
                  <a:pt x="6896" y="16321"/>
                </a:cubicBezTo>
                <a:cubicBezTo>
                  <a:pt x="6879" y="16280"/>
                  <a:pt x="6863" y="16238"/>
                  <a:pt x="6846" y="1619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54240" y="5018040"/>
            <a:ext cx="411120" cy="1482840"/>
          </a:xfrm>
          <a:custGeom>
            <a:avLst/>
            <a:gdLst/>
            <a:ahLst/>
            <a:rect l="l" t="t" r="r" b="b"/>
            <a:pathLst>
              <a:path w="1142" h="4119">
                <a:moveTo>
                  <a:pt x="8830" y="13965"/>
                </a:moveTo>
                <a:cubicBezTo>
                  <a:pt x="8765" y="13915"/>
                  <a:pt x="8707" y="13933"/>
                  <a:pt x="8657" y="14015"/>
                </a:cubicBezTo>
                <a:cubicBezTo>
                  <a:pt x="8608" y="14137"/>
                  <a:pt x="8591" y="14176"/>
                  <a:pt x="8632" y="14263"/>
                </a:cubicBezTo>
                <a:cubicBezTo>
                  <a:pt x="8762" y="14304"/>
                  <a:pt x="9004" y="14353"/>
                  <a:pt x="9004" y="14114"/>
                </a:cubicBezTo>
                <a:cubicBezTo>
                  <a:pt x="9004" y="13966"/>
                  <a:pt x="8776" y="13855"/>
                  <a:pt x="8682" y="13990"/>
                </a:cubicBezTo>
                <a:cubicBezTo>
                  <a:pt x="8674" y="14023"/>
                  <a:pt x="8665" y="14056"/>
                  <a:pt x="8657" y="14089"/>
                </a:cubicBezTo>
                <a:cubicBezTo>
                  <a:pt x="8727" y="14165"/>
                  <a:pt x="8858" y="14299"/>
                  <a:pt x="8930" y="14114"/>
                </a:cubicBezTo>
                <a:cubicBezTo>
                  <a:pt x="8979" y="13988"/>
                  <a:pt x="8809" y="13933"/>
                  <a:pt x="8731" y="14015"/>
                </a:cubicBezTo>
                <a:cubicBezTo>
                  <a:pt x="8723" y="14040"/>
                  <a:pt x="8714" y="14064"/>
                  <a:pt x="8706" y="14089"/>
                </a:cubicBezTo>
                <a:cubicBezTo>
                  <a:pt x="8750" y="14155"/>
                  <a:pt x="8838" y="14098"/>
                  <a:pt x="8905" y="14064"/>
                </a:cubicBezTo>
              </a:path>
              <a:path w="1142" h="4119">
                <a:moveTo>
                  <a:pt x="8682" y="15776"/>
                </a:moveTo>
                <a:cubicBezTo>
                  <a:pt x="8533" y="15914"/>
                  <a:pt x="8464" y="15980"/>
                  <a:pt x="8533" y="16173"/>
                </a:cubicBezTo>
                <a:cubicBezTo>
                  <a:pt x="8656" y="16142"/>
                  <a:pt x="8978" y="16069"/>
                  <a:pt x="8954" y="15875"/>
                </a:cubicBezTo>
                <a:cubicBezTo>
                  <a:pt x="8938" y="15749"/>
                  <a:pt x="8711" y="15780"/>
                  <a:pt x="8632" y="15776"/>
                </a:cubicBezTo>
                <a:cubicBezTo>
                  <a:pt x="8586" y="15822"/>
                  <a:pt x="8607" y="15825"/>
                  <a:pt x="8731" y="15776"/>
                </a:cubicBezTo>
              </a:path>
              <a:path w="1142" h="4119">
                <a:moveTo>
                  <a:pt x="9103" y="15974"/>
                </a:moveTo>
                <a:cubicBezTo>
                  <a:pt x="9122" y="16032"/>
                  <a:pt x="9131" y="16038"/>
                  <a:pt x="9128" y="16073"/>
                </a:cubicBezTo>
                <a:cubicBezTo>
                  <a:pt x="9107" y="15970"/>
                  <a:pt x="9020" y="15916"/>
                  <a:pt x="9079" y="15801"/>
                </a:cubicBezTo>
                <a:cubicBezTo>
                  <a:pt x="9189" y="15587"/>
                  <a:pt x="9471" y="15729"/>
                  <a:pt x="9575" y="15850"/>
                </a:cubicBezTo>
                <a:cubicBezTo>
                  <a:pt x="9603" y="15883"/>
                  <a:pt x="9624" y="16022"/>
                  <a:pt x="9624" y="15974"/>
                </a:cubicBezTo>
              </a:path>
              <a:path w="1142" h="4119">
                <a:moveTo>
                  <a:pt x="9401" y="17140"/>
                </a:moveTo>
                <a:cubicBezTo>
                  <a:pt x="9379" y="17073"/>
                  <a:pt x="9308" y="17183"/>
                  <a:pt x="9277" y="17214"/>
                </a:cubicBezTo>
                <a:cubicBezTo>
                  <a:pt x="9122" y="17370"/>
                  <a:pt x="8931" y="17458"/>
                  <a:pt x="8756" y="17587"/>
                </a:cubicBezTo>
                <a:cubicBezTo>
                  <a:pt x="8739" y="17603"/>
                  <a:pt x="8723" y="17620"/>
                  <a:pt x="8706" y="17636"/>
                </a:cubicBezTo>
                <a:cubicBezTo>
                  <a:pt x="8828" y="17636"/>
                  <a:pt x="8844" y="17636"/>
                  <a:pt x="8954" y="17711"/>
                </a:cubicBezTo>
                <a:cubicBezTo>
                  <a:pt x="9084" y="17800"/>
                  <a:pt x="9199" y="17892"/>
                  <a:pt x="9302" y="18008"/>
                </a:cubicBezTo>
                <a:cubicBezTo>
                  <a:pt x="9329" y="18038"/>
                  <a:pt x="9341" y="18049"/>
                  <a:pt x="9376" y="1805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40120" y="5554800"/>
            <a:ext cx="1312920" cy="347400"/>
          </a:xfrm>
          <a:custGeom>
            <a:avLst/>
            <a:gdLst/>
            <a:ahLst/>
            <a:rect l="l" t="t" r="r" b="b"/>
            <a:pathLst>
              <a:path w="3647" h="968">
                <a:moveTo>
                  <a:pt x="11112" y="15478"/>
                </a:moveTo>
                <a:cubicBezTo>
                  <a:pt x="10963" y="15410"/>
                  <a:pt x="10769" y="15418"/>
                  <a:pt x="10765" y="15652"/>
                </a:cubicBezTo>
                <a:cubicBezTo>
                  <a:pt x="10761" y="15918"/>
                  <a:pt x="11021" y="16081"/>
                  <a:pt x="11088" y="16321"/>
                </a:cubicBezTo>
                <a:cubicBezTo>
                  <a:pt x="11127" y="16460"/>
                  <a:pt x="11021" y="16372"/>
                  <a:pt x="10964" y="16346"/>
                </a:cubicBezTo>
              </a:path>
              <a:path w="3647" h="968">
                <a:moveTo>
                  <a:pt x="10666" y="15974"/>
                </a:moveTo>
                <a:cubicBezTo>
                  <a:pt x="10856" y="15965"/>
                  <a:pt x="11110" y="15856"/>
                  <a:pt x="11286" y="15925"/>
                </a:cubicBezTo>
                <a:cubicBezTo>
                  <a:pt x="11354" y="15952"/>
                  <a:pt x="11244" y="16240"/>
                  <a:pt x="11237" y="16297"/>
                </a:cubicBezTo>
                <a:cubicBezTo>
                  <a:pt x="11390" y="16318"/>
                  <a:pt x="11631" y="16302"/>
                  <a:pt x="11708" y="16123"/>
                </a:cubicBezTo>
                <a:cubicBezTo>
                  <a:pt x="11790" y="15933"/>
                  <a:pt x="11402" y="15967"/>
                  <a:pt x="11336" y="15974"/>
                </a:cubicBezTo>
              </a:path>
              <a:path w="3647" h="968">
                <a:moveTo>
                  <a:pt x="11807" y="16049"/>
                </a:moveTo>
                <a:cubicBezTo>
                  <a:pt x="11856" y="16116"/>
                  <a:pt x="11906" y="16172"/>
                  <a:pt x="11931" y="16247"/>
                </a:cubicBezTo>
                <a:cubicBezTo>
                  <a:pt x="11931" y="16124"/>
                  <a:pt x="11907" y="16025"/>
                  <a:pt x="11931" y="15900"/>
                </a:cubicBezTo>
                <a:cubicBezTo>
                  <a:pt x="11956" y="15825"/>
                  <a:pt x="11964" y="15801"/>
                  <a:pt x="12030" y="15801"/>
                </a:cubicBezTo>
              </a:path>
              <a:path w="3647" h="968">
                <a:moveTo>
                  <a:pt x="12254" y="15999"/>
                </a:moveTo>
                <a:cubicBezTo>
                  <a:pt x="12368" y="15942"/>
                  <a:pt x="12526" y="15894"/>
                  <a:pt x="12427" y="15776"/>
                </a:cubicBezTo>
                <a:cubicBezTo>
                  <a:pt x="12253" y="15846"/>
                  <a:pt x="12216" y="15891"/>
                  <a:pt x="12105" y="16049"/>
                </a:cubicBezTo>
                <a:cubicBezTo>
                  <a:pt x="12262" y="16233"/>
                  <a:pt x="12282" y="16180"/>
                  <a:pt x="12551" y="16173"/>
                </a:cubicBezTo>
              </a:path>
              <a:path w="3647" h="968">
                <a:moveTo>
                  <a:pt x="12824" y="15925"/>
                </a:moveTo>
                <a:cubicBezTo>
                  <a:pt x="12933" y="16042"/>
                  <a:pt x="13025" y="16170"/>
                  <a:pt x="13146" y="16272"/>
                </a:cubicBezTo>
                <a:cubicBezTo>
                  <a:pt x="13243" y="16102"/>
                  <a:pt x="13246" y="16016"/>
                  <a:pt x="13221" y="15825"/>
                </a:cubicBezTo>
                <a:cubicBezTo>
                  <a:pt x="13221" y="15801"/>
                  <a:pt x="13221" y="15793"/>
                  <a:pt x="13221" y="15825"/>
                </a:cubicBezTo>
              </a:path>
              <a:path w="3647" h="968">
                <a:moveTo>
                  <a:pt x="13568" y="16024"/>
                </a:moveTo>
                <a:cubicBezTo>
                  <a:pt x="13658" y="15970"/>
                  <a:pt x="13655" y="15984"/>
                  <a:pt x="13667" y="15875"/>
                </a:cubicBezTo>
                <a:cubicBezTo>
                  <a:pt x="13484" y="15861"/>
                  <a:pt x="13466" y="15922"/>
                  <a:pt x="13444" y="16098"/>
                </a:cubicBezTo>
                <a:cubicBezTo>
                  <a:pt x="13643" y="16169"/>
                  <a:pt x="13774" y="16155"/>
                  <a:pt x="13940" y="15999"/>
                </a:cubicBezTo>
                <a:cubicBezTo>
                  <a:pt x="14090" y="15858"/>
                  <a:pt x="14003" y="15972"/>
                  <a:pt x="14039" y="16148"/>
                </a:cubicBezTo>
                <a:cubicBezTo>
                  <a:pt x="14039" y="16025"/>
                  <a:pt x="14000" y="15974"/>
                  <a:pt x="14064" y="15850"/>
                </a:cubicBezTo>
                <a:cubicBezTo>
                  <a:pt x="14132" y="15718"/>
                  <a:pt x="14186" y="15718"/>
                  <a:pt x="14312" y="1570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27800" y="5562720"/>
            <a:ext cx="357120" cy="268200"/>
          </a:xfrm>
          <a:custGeom>
            <a:avLst/>
            <a:gdLst/>
            <a:ahLst/>
            <a:rect l="l" t="t" r="r" b="b"/>
            <a:pathLst>
              <a:path w="993" h="745">
                <a:moveTo>
                  <a:pt x="15404" y="15875"/>
                </a:moveTo>
                <a:cubicBezTo>
                  <a:pt x="15438" y="15946"/>
                  <a:pt x="15528" y="16293"/>
                  <a:pt x="15553" y="16123"/>
                </a:cubicBezTo>
              </a:path>
              <a:path w="993" h="745">
                <a:moveTo>
                  <a:pt x="15354" y="15453"/>
                </a:moveTo>
                <a:cubicBezTo>
                  <a:pt x="15387" y="15486"/>
                  <a:pt x="15420" y="15520"/>
                  <a:pt x="15453" y="15553"/>
                </a:cubicBezTo>
              </a:path>
              <a:path w="993" h="745">
                <a:moveTo>
                  <a:pt x="15875" y="16049"/>
                </a:moveTo>
                <a:cubicBezTo>
                  <a:pt x="15875" y="16181"/>
                  <a:pt x="15827" y="15914"/>
                  <a:pt x="15825" y="15900"/>
                </a:cubicBezTo>
                <a:cubicBezTo>
                  <a:pt x="15794" y="15677"/>
                  <a:pt x="16097" y="15746"/>
                  <a:pt x="16197" y="15825"/>
                </a:cubicBezTo>
                <a:cubicBezTo>
                  <a:pt x="16292" y="15900"/>
                  <a:pt x="16324" y="16015"/>
                  <a:pt x="16346" y="16123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62760" y="5483160"/>
            <a:ext cx="2376360" cy="366840"/>
          </a:xfrm>
          <a:custGeom>
            <a:avLst/>
            <a:gdLst/>
            <a:ahLst/>
            <a:rect l="l" t="t" r="r" b="b"/>
            <a:pathLst>
              <a:path w="6599" h="1018">
                <a:moveTo>
                  <a:pt x="16842" y="15329"/>
                </a:moveTo>
                <a:cubicBezTo>
                  <a:pt x="16884" y="15618"/>
                  <a:pt x="16967" y="15870"/>
                  <a:pt x="17041" y="16148"/>
                </a:cubicBezTo>
                <a:cubicBezTo>
                  <a:pt x="17041" y="16164"/>
                  <a:pt x="17041" y="16181"/>
                  <a:pt x="17041" y="16197"/>
                </a:cubicBezTo>
                <a:cubicBezTo>
                  <a:pt x="17041" y="16085"/>
                  <a:pt x="16978" y="15954"/>
                  <a:pt x="17041" y="15850"/>
                </a:cubicBezTo>
                <a:cubicBezTo>
                  <a:pt x="17201" y="15589"/>
                  <a:pt x="17410" y="15919"/>
                  <a:pt x="17438" y="16073"/>
                </a:cubicBezTo>
                <a:cubicBezTo>
                  <a:pt x="17438" y="16114"/>
                  <a:pt x="17438" y="16156"/>
                  <a:pt x="17438" y="16197"/>
                </a:cubicBezTo>
                <a:cubicBezTo>
                  <a:pt x="17212" y="16273"/>
                  <a:pt x="17152" y="16246"/>
                  <a:pt x="16991" y="16073"/>
                </a:cubicBezTo>
              </a:path>
              <a:path w="6599" h="1018">
                <a:moveTo>
                  <a:pt x="17661" y="15776"/>
                </a:moveTo>
                <a:cubicBezTo>
                  <a:pt x="17499" y="15847"/>
                  <a:pt x="17498" y="15859"/>
                  <a:pt x="17438" y="16024"/>
                </a:cubicBezTo>
                <a:cubicBezTo>
                  <a:pt x="17582" y="16157"/>
                  <a:pt x="17818" y="16204"/>
                  <a:pt x="18008" y="16073"/>
                </a:cubicBezTo>
                <a:cubicBezTo>
                  <a:pt x="18025" y="16040"/>
                  <a:pt x="18041" y="16007"/>
                  <a:pt x="18058" y="15974"/>
                </a:cubicBezTo>
                <a:cubicBezTo>
                  <a:pt x="17927" y="15822"/>
                  <a:pt x="17785" y="15817"/>
                  <a:pt x="17587" y="15751"/>
                </a:cubicBezTo>
              </a:path>
              <a:path w="6599" h="1018">
                <a:moveTo>
                  <a:pt x="18033" y="15379"/>
                </a:moveTo>
                <a:cubicBezTo>
                  <a:pt x="18056" y="15636"/>
                  <a:pt x="18110" y="15857"/>
                  <a:pt x="18207" y="16098"/>
                </a:cubicBezTo>
              </a:path>
              <a:path w="6599" h="1018">
                <a:moveTo>
                  <a:pt x="17735" y="15801"/>
                </a:moveTo>
                <a:cubicBezTo>
                  <a:pt x="17911" y="15881"/>
                  <a:pt x="18164" y="15984"/>
                  <a:pt x="18331" y="15801"/>
                </a:cubicBezTo>
                <a:cubicBezTo>
                  <a:pt x="18379" y="15680"/>
                  <a:pt x="18395" y="15642"/>
                  <a:pt x="18380" y="15553"/>
                </a:cubicBezTo>
                <a:cubicBezTo>
                  <a:pt x="18256" y="15531"/>
                  <a:pt x="18340" y="15846"/>
                  <a:pt x="18355" y="15949"/>
                </a:cubicBezTo>
                <a:cubicBezTo>
                  <a:pt x="18376" y="16055"/>
                  <a:pt x="18372" y="16083"/>
                  <a:pt x="18430" y="16123"/>
                </a:cubicBezTo>
                <a:cubicBezTo>
                  <a:pt x="18463" y="16004"/>
                  <a:pt x="18452" y="15824"/>
                  <a:pt x="18554" y="15726"/>
                </a:cubicBezTo>
                <a:cubicBezTo>
                  <a:pt x="18579" y="15718"/>
                  <a:pt x="18603" y="15709"/>
                  <a:pt x="18628" y="15701"/>
                </a:cubicBezTo>
                <a:cubicBezTo>
                  <a:pt x="18701" y="15829"/>
                  <a:pt x="18739" y="15975"/>
                  <a:pt x="18802" y="16098"/>
                </a:cubicBezTo>
                <a:cubicBezTo>
                  <a:pt x="18802" y="16090"/>
                  <a:pt x="18802" y="16081"/>
                  <a:pt x="18802" y="16073"/>
                </a:cubicBezTo>
              </a:path>
              <a:path w="6599" h="1018">
                <a:moveTo>
                  <a:pt x="19621" y="15875"/>
                </a:moveTo>
                <a:cubicBezTo>
                  <a:pt x="19700" y="15821"/>
                  <a:pt x="19688" y="15782"/>
                  <a:pt x="19596" y="15726"/>
                </a:cubicBezTo>
                <a:cubicBezTo>
                  <a:pt x="19371" y="15588"/>
                  <a:pt x="19274" y="15808"/>
                  <a:pt x="19199" y="15974"/>
                </a:cubicBezTo>
                <a:cubicBezTo>
                  <a:pt x="19362" y="16087"/>
                  <a:pt x="19626" y="16183"/>
                  <a:pt x="19769" y="15949"/>
                </a:cubicBezTo>
                <a:cubicBezTo>
                  <a:pt x="19786" y="15883"/>
                  <a:pt x="19802" y="15817"/>
                  <a:pt x="19819" y="15751"/>
                </a:cubicBezTo>
              </a:path>
              <a:path w="6599" h="1018">
                <a:moveTo>
                  <a:pt x="19521" y="15230"/>
                </a:moveTo>
                <a:cubicBezTo>
                  <a:pt x="19635" y="15343"/>
                  <a:pt x="19649" y="15657"/>
                  <a:pt x="19695" y="15825"/>
                </a:cubicBezTo>
                <a:cubicBezTo>
                  <a:pt x="19732" y="15935"/>
                  <a:pt x="19720" y="15955"/>
                  <a:pt x="19769" y="15999"/>
                </a:cubicBezTo>
              </a:path>
              <a:path w="6599" h="1018">
                <a:moveTo>
                  <a:pt x="19968" y="15801"/>
                </a:moveTo>
                <a:cubicBezTo>
                  <a:pt x="19971" y="15815"/>
                  <a:pt x="20042" y="16260"/>
                  <a:pt x="20042" y="16049"/>
                </a:cubicBezTo>
              </a:path>
              <a:path w="6599" h="1018">
                <a:moveTo>
                  <a:pt x="19918" y="15503"/>
                </a:moveTo>
                <a:cubicBezTo>
                  <a:pt x="19926" y="15503"/>
                  <a:pt x="19935" y="15503"/>
                  <a:pt x="19943" y="15503"/>
                </a:cubicBezTo>
              </a:path>
              <a:path w="6599" h="1018">
                <a:moveTo>
                  <a:pt x="20166" y="15925"/>
                </a:moveTo>
                <a:cubicBezTo>
                  <a:pt x="20209" y="16031"/>
                  <a:pt x="20225" y="16052"/>
                  <a:pt x="20216" y="16123"/>
                </a:cubicBezTo>
                <a:cubicBezTo>
                  <a:pt x="20271" y="16014"/>
                  <a:pt x="20258" y="15880"/>
                  <a:pt x="20315" y="15751"/>
                </a:cubicBezTo>
                <a:cubicBezTo>
                  <a:pt x="20357" y="15655"/>
                  <a:pt x="20372" y="15633"/>
                  <a:pt x="20464" y="15602"/>
                </a:cubicBezTo>
              </a:path>
              <a:path w="6599" h="1018">
                <a:moveTo>
                  <a:pt x="20613" y="15875"/>
                </a:moveTo>
                <a:cubicBezTo>
                  <a:pt x="20702" y="15847"/>
                  <a:pt x="20762" y="15827"/>
                  <a:pt x="20836" y="15776"/>
                </a:cubicBezTo>
                <a:cubicBezTo>
                  <a:pt x="20754" y="15625"/>
                  <a:pt x="20613" y="15623"/>
                  <a:pt x="20513" y="15801"/>
                </a:cubicBezTo>
                <a:cubicBezTo>
                  <a:pt x="20342" y="16105"/>
                  <a:pt x="20797" y="16018"/>
                  <a:pt x="20910" y="15999"/>
                </a:cubicBezTo>
              </a:path>
              <a:path w="6599" h="1018">
                <a:moveTo>
                  <a:pt x="21158" y="15652"/>
                </a:moveTo>
                <a:cubicBezTo>
                  <a:pt x="21166" y="15686"/>
                  <a:pt x="21163" y="15716"/>
                  <a:pt x="21183" y="15677"/>
                </a:cubicBezTo>
                <a:cubicBezTo>
                  <a:pt x="21148" y="15571"/>
                  <a:pt x="21061" y="15523"/>
                  <a:pt x="20960" y="15627"/>
                </a:cubicBezTo>
                <a:cubicBezTo>
                  <a:pt x="20815" y="15778"/>
                  <a:pt x="20903" y="16052"/>
                  <a:pt x="21134" y="16024"/>
                </a:cubicBezTo>
                <a:cubicBezTo>
                  <a:pt x="21443" y="15986"/>
                  <a:pt x="21531" y="15749"/>
                  <a:pt x="21555" y="15478"/>
                </a:cubicBezTo>
                <a:cubicBezTo>
                  <a:pt x="21555" y="15353"/>
                  <a:pt x="21563" y="15325"/>
                  <a:pt x="21530" y="15255"/>
                </a:cubicBezTo>
                <a:cubicBezTo>
                  <a:pt x="21499" y="15418"/>
                  <a:pt x="21482" y="15632"/>
                  <a:pt x="21506" y="15801"/>
                </a:cubicBezTo>
                <a:cubicBezTo>
                  <a:pt x="21541" y="15908"/>
                  <a:pt x="21558" y="15913"/>
                  <a:pt x="21555" y="15974"/>
                </a:cubicBezTo>
              </a:path>
              <a:path w="6599" h="1018">
                <a:moveTo>
                  <a:pt x="21208" y="15553"/>
                </a:moveTo>
                <a:cubicBezTo>
                  <a:pt x="21384" y="15606"/>
                  <a:pt x="21689" y="15597"/>
                  <a:pt x="21828" y="15726"/>
                </a:cubicBezTo>
                <a:cubicBezTo>
                  <a:pt x="21905" y="15798"/>
                  <a:pt x="21878" y="15933"/>
                  <a:pt x="21878" y="16024"/>
                </a:cubicBezTo>
                <a:cubicBezTo>
                  <a:pt x="21878" y="16016"/>
                  <a:pt x="21878" y="16007"/>
                  <a:pt x="21878" y="15999"/>
                </a:cubicBezTo>
              </a:path>
              <a:path w="6599" h="1018">
                <a:moveTo>
                  <a:pt x="21779" y="15404"/>
                </a:moveTo>
                <a:cubicBezTo>
                  <a:pt x="21804" y="15420"/>
                  <a:pt x="21828" y="15437"/>
                  <a:pt x="21853" y="15453"/>
                </a:cubicBezTo>
              </a:path>
              <a:path w="6599" h="1018">
                <a:moveTo>
                  <a:pt x="22374" y="15701"/>
                </a:moveTo>
                <a:cubicBezTo>
                  <a:pt x="22260" y="15684"/>
                  <a:pt x="22061" y="15696"/>
                  <a:pt x="22051" y="15875"/>
                </a:cubicBezTo>
                <a:cubicBezTo>
                  <a:pt x="22068" y="15908"/>
                  <a:pt x="22084" y="15941"/>
                  <a:pt x="22101" y="15974"/>
                </a:cubicBezTo>
                <a:cubicBezTo>
                  <a:pt x="22278" y="16004"/>
                  <a:pt x="22391" y="16033"/>
                  <a:pt x="22498" y="15900"/>
                </a:cubicBezTo>
                <a:cubicBezTo>
                  <a:pt x="22433" y="15751"/>
                  <a:pt x="22398" y="15668"/>
                  <a:pt x="22225" y="15701"/>
                </a:cubicBezTo>
              </a:path>
              <a:path w="6599" h="1018">
                <a:moveTo>
                  <a:pt x="22671" y="15949"/>
                </a:moveTo>
                <a:cubicBezTo>
                  <a:pt x="22652" y="16050"/>
                  <a:pt x="22612" y="15847"/>
                  <a:pt x="22647" y="15751"/>
                </a:cubicBezTo>
                <a:cubicBezTo>
                  <a:pt x="22718" y="15657"/>
                  <a:pt x="22738" y="15628"/>
                  <a:pt x="22796" y="15577"/>
                </a:cubicBezTo>
                <a:cubicBezTo>
                  <a:pt x="22985" y="15688"/>
                  <a:pt x="22911" y="15754"/>
                  <a:pt x="22944" y="15949"/>
                </a:cubicBezTo>
                <a:cubicBezTo>
                  <a:pt x="22952" y="15966"/>
                  <a:pt x="22961" y="15982"/>
                  <a:pt x="22969" y="15999"/>
                </a:cubicBezTo>
              </a:path>
              <a:path w="6599" h="1018">
                <a:moveTo>
                  <a:pt x="23217" y="15627"/>
                </a:moveTo>
                <a:cubicBezTo>
                  <a:pt x="23134" y="15669"/>
                  <a:pt x="23118" y="15677"/>
                  <a:pt x="23068" y="15701"/>
                </a:cubicBezTo>
                <a:cubicBezTo>
                  <a:pt x="23166" y="15813"/>
                  <a:pt x="23322" y="15803"/>
                  <a:pt x="23416" y="15925"/>
                </a:cubicBezTo>
                <a:cubicBezTo>
                  <a:pt x="23424" y="15950"/>
                  <a:pt x="23432" y="15974"/>
                  <a:pt x="23440" y="15999"/>
                </a:cubicBezTo>
                <a:cubicBezTo>
                  <a:pt x="23222" y="16089"/>
                  <a:pt x="23099" y="16056"/>
                  <a:pt x="22870" y="1599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80120" y="6089760"/>
            <a:ext cx="231840" cy="322200"/>
          </a:xfrm>
          <a:custGeom>
            <a:avLst/>
            <a:gdLst/>
            <a:ahLst/>
            <a:rect l="l" t="t" r="r" b="b"/>
            <a:pathLst>
              <a:path w="646" h="894">
                <a:moveTo>
                  <a:pt x="17165" y="16917"/>
                </a:moveTo>
                <a:cubicBezTo>
                  <a:pt x="17288" y="17050"/>
                  <a:pt x="17444" y="17170"/>
                  <a:pt x="17587" y="17289"/>
                </a:cubicBezTo>
                <a:cubicBezTo>
                  <a:pt x="17642" y="17335"/>
                  <a:pt x="17739" y="17445"/>
                  <a:pt x="17810" y="17462"/>
                </a:cubicBezTo>
                <a:cubicBezTo>
                  <a:pt x="17810" y="17572"/>
                  <a:pt x="17693" y="17610"/>
                  <a:pt x="17611" y="17661"/>
                </a:cubicBezTo>
                <a:cubicBezTo>
                  <a:pt x="17522" y="17716"/>
                  <a:pt x="17471" y="17725"/>
                  <a:pt x="17438" y="1781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78080" y="3214800"/>
            <a:ext cx="152640" cy="169920"/>
          </a:xfrm>
          <a:custGeom>
            <a:avLst/>
            <a:gdLst/>
            <a:ahLst/>
            <a:rect l="l" t="t" r="r" b="b"/>
            <a:pathLst>
              <a:path w="423" h="472">
                <a:moveTo>
                  <a:pt x="9203" y="9128"/>
                </a:moveTo>
                <a:cubicBezTo>
                  <a:pt x="9146" y="9015"/>
                  <a:pt x="9128" y="8996"/>
                  <a:pt x="9004" y="8954"/>
                </a:cubicBezTo>
                <a:cubicBezTo>
                  <a:pt x="8979" y="8946"/>
                  <a:pt x="8955" y="8938"/>
                  <a:pt x="8930" y="8930"/>
                </a:cubicBezTo>
                <a:cubicBezTo>
                  <a:pt x="8842" y="9043"/>
                  <a:pt x="8752" y="9212"/>
                  <a:pt x="8880" y="9351"/>
                </a:cubicBezTo>
                <a:cubicBezTo>
                  <a:pt x="9021" y="9503"/>
                  <a:pt x="9242" y="9237"/>
                  <a:pt x="9252" y="9103"/>
                </a:cubicBezTo>
                <a:cubicBezTo>
                  <a:pt x="9244" y="9070"/>
                  <a:pt x="9235" y="9037"/>
                  <a:pt x="9227" y="9004"/>
                </a:cubicBezTo>
                <a:cubicBezTo>
                  <a:pt x="9105" y="8957"/>
                  <a:pt x="8898" y="8979"/>
                  <a:pt x="8880" y="9178"/>
                </a:cubicBezTo>
                <a:cubicBezTo>
                  <a:pt x="8897" y="9203"/>
                  <a:pt x="8913" y="9227"/>
                  <a:pt x="8930" y="9252"/>
                </a:cubicBezTo>
                <a:cubicBezTo>
                  <a:pt x="9042" y="9295"/>
                  <a:pt x="9210" y="9312"/>
                  <a:pt x="9203" y="9128"/>
                </a:cubicBezTo>
                <a:cubicBezTo>
                  <a:pt x="9196" y="8943"/>
                  <a:pt x="8994" y="9119"/>
                  <a:pt x="8979" y="9203"/>
                </a:cubicBezTo>
                <a:cubicBezTo>
                  <a:pt x="8956" y="9328"/>
                  <a:pt x="9140" y="9209"/>
                  <a:pt x="9153" y="9203"/>
                </a:cubicBezTo>
                <a:cubicBezTo>
                  <a:pt x="9198" y="9143"/>
                  <a:pt x="9221" y="9024"/>
                  <a:pt x="9103" y="9103"/>
                </a:cubicBezTo>
                <a:cubicBezTo>
                  <a:pt x="9041" y="9144"/>
                  <a:pt x="9039" y="9176"/>
                  <a:pt x="9079" y="9203"/>
                </a:cubicBezTo>
                <a:cubicBezTo>
                  <a:pt x="9090" y="9198"/>
                  <a:pt x="9254" y="9112"/>
                  <a:pt x="9227" y="9103"/>
                </a:cubicBezTo>
                <a:cubicBezTo>
                  <a:pt x="9204" y="9095"/>
                  <a:pt x="9126" y="9128"/>
                  <a:pt x="9178" y="9128"/>
                </a:cubicBezTo>
                <a:cubicBezTo>
                  <a:pt x="9186" y="9128"/>
                  <a:pt x="9195" y="9128"/>
                  <a:pt x="9203" y="912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nit 6: Geomet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ctive: Students will identify and describe line segm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84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bjective: Students will identify and describe line segm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66"/>
                </a:solidFill>
                <a:uFillTx/>
                <a:latin typeface="Comic Sans MS"/>
              </a:rPr>
              <a:t>Vocabul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Polygon: closed plane figure that is formed by 3 or more segments called sides. Exampl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Vertex: point where 2 sides of a polygon m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2438280"/>
            <a:ext cx="1447920" cy="1295640"/>
          </a:xfrm>
          <a:prstGeom prst="pentagon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15000" y="2895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565360" y="144792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65360" y="144792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571680" y="1776240"/>
            <a:ext cx="7135560" cy="1528920"/>
          </a:xfrm>
          <a:custGeom>
            <a:avLst/>
            <a:gdLst/>
            <a:ahLst/>
            <a:rect l="l" t="t" r="r" b="b"/>
            <a:pathLst>
              <a:path w="19819" h="4243">
                <a:moveTo>
                  <a:pt x="1588" y="5085"/>
                </a:moveTo>
                <a:cubicBezTo>
                  <a:pt x="1638" y="5103"/>
                  <a:pt x="1699" y="5129"/>
                  <a:pt x="1761" y="5135"/>
                </a:cubicBezTo>
                <a:cubicBezTo>
                  <a:pt x="1848" y="5143"/>
                  <a:pt x="1923" y="5113"/>
                  <a:pt x="2009" y="5110"/>
                </a:cubicBezTo>
                <a:cubicBezTo>
                  <a:pt x="2161" y="5105"/>
                  <a:pt x="2312" y="5101"/>
                  <a:pt x="2456" y="5085"/>
                </a:cubicBezTo>
                <a:cubicBezTo>
                  <a:pt x="2644" y="5064"/>
                  <a:pt x="2844" y="5090"/>
                  <a:pt x="3026" y="5110"/>
                </a:cubicBezTo>
                <a:cubicBezTo>
                  <a:pt x="3213" y="5131"/>
                  <a:pt x="3412" y="5118"/>
                  <a:pt x="3597" y="5135"/>
                </a:cubicBezTo>
                <a:cubicBezTo>
                  <a:pt x="3720" y="5147"/>
                  <a:pt x="3849" y="5148"/>
                  <a:pt x="3969" y="5159"/>
                </a:cubicBezTo>
                <a:cubicBezTo>
                  <a:pt x="4085" y="5169"/>
                  <a:pt x="4202" y="5180"/>
                  <a:pt x="4316" y="5184"/>
                </a:cubicBezTo>
                <a:cubicBezTo>
                  <a:pt x="4621" y="5195"/>
                  <a:pt x="4929" y="5184"/>
                  <a:pt x="5234" y="5184"/>
                </a:cubicBezTo>
              </a:path>
              <a:path w="19819" h="4243">
                <a:moveTo>
                  <a:pt x="8310" y="6400"/>
                </a:moveTo>
                <a:cubicBezTo>
                  <a:pt x="8397" y="6405"/>
                  <a:pt x="8485" y="6400"/>
                  <a:pt x="8558" y="6400"/>
                </a:cubicBezTo>
                <a:cubicBezTo>
                  <a:pt x="8673" y="6400"/>
                  <a:pt x="8799" y="6411"/>
                  <a:pt x="8880" y="6424"/>
                </a:cubicBezTo>
                <a:cubicBezTo>
                  <a:pt x="8898" y="6427"/>
                  <a:pt x="8941" y="6411"/>
                  <a:pt x="8979" y="6424"/>
                </a:cubicBezTo>
                <a:cubicBezTo>
                  <a:pt x="9027" y="6441"/>
                  <a:pt x="9085" y="6487"/>
                  <a:pt x="9128" y="6499"/>
                </a:cubicBezTo>
                <a:cubicBezTo>
                  <a:pt x="9220" y="6525"/>
                  <a:pt x="9329" y="6522"/>
                  <a:pt x="9426" y="6524"/>
                </a:cubicBezTo>
                <a:cubicBezTo>
                  <a:pt x="9529" y="6526"/>
                  <a:pt x="9635" y="6537"/>
                  <a:pt x="9723" y="6548"/>
                </a:cubicBezTo>
                <a:cubicBezTo>
                  <a:pt x="9790" y="6556"/>
                  <a:pt x="9831" y="6557"/>
                  <a:pt x="9897" y="6573"/>
                </a:cubicBezTo>
                <a:cubicBezTo>
                  <a:pt x="9965" y="6590"/>
                  <a:pt x="10026" y="6611"/>
                  <a:pt x="10096" y="6623"/>
                </a:cubicBezTo>
                <a:cubicBezTo>
                  <a:pt x="10164" y="6635"/>
                  <a:pt x="10254" y="6649"/>
                  <a:pt x="10319" y="6648"/>
                </a:cubicBezTo>
                <a:cubicBezTo>
                  <a:pt x="10402" y="6647"/>
                  <a:pt x="10492" y="6652"/>
                  <a:pt x="10567" y="6648"/>
                </a:cubicBezTo>
                <a:cubicBezTo>
                  <a:pt x="10742" y="6638"/>
                  <a:pt x="10894" y="6639"/>
                  <a:pt x="11063" y="6648"/>
                </a:cubicBezTo>
                <a:cubicBezTo>
                  <a:pt x="11224" y="6656"/>
                  <a:pt x="11378" y="6641"/>
                  <a:pt x="11534" y="6623"/>
                </a:cubicBezTo>
                <a:cubicBezTo>
                  <a:pt x="11685" y="6605"/>
                  <a:pt x="11827" y="6600"/>
                  <a:pt x="11981" y="6598"/>
                </a:cubicBezTo>
                <a:cubicBezTo>
                  <a:pt x="12174" y="6596"/>
                  <a:pt x="12363" y="6616"/>
                  <a:pt x="12551" y="6623"/>
                </a:cubicBezTo>
                <a:cubicBezTo>
                  <a:pt x="12855" y="6635"/>
                  <a:pt x="13168" y="6633"/>
                  <a:pt x="13469" y="6598"/>
                </a:cubicBezTo>
                <a:cubicBezTo>
                  <a:pt x="13599" y="6583"/>
                  <a:pt x="13736" y="6556"/>
                  <a:pt x="13866" y="6548"/>
                </a:cubicBezTo>
                <a:cubicBezTo>
                  <a:pt x="14070" y="6536"/>
                  <a:pt x="14239" y="6581"/>
                  <a:pt x="14436" y="6623"/>
                </a:cubicBezTo>
                <a:cubicBezTo>
                  <a:pt x="14600" y="6658"/>
                  <a:pt x="14740" y="6668"/>
                  <a:pt x="14908" y="6672"/>
                </a:cubicBezTo>
                <a:cubicBezTo>
                  <a:pt x="15101" y="6676"/>
                  <a:pt x="15286" y="6651"/>
                  <a:pt x="15478" y="6648"/>
                </a:cubicBezTo>
                <a:cubicBezTo>
                  <a:pt x="16214" y="6635"/>
                  <a:pt x="16952" y="6634"/>
                  <a:pt x="17686" y="6623"/>
                </a:cubicBezTo>
                <a:cubicBezTo>
                  <a:pt x="17785" y="6621"/>
                  <a:pt x="17785" y="6623"/>
                  <a:pt x="17884" y="6623"/>
                </a:cubicBezTo>
              </a:path>
              <a:path w="19819" h="4243">
                <a:moveTo>
                  <a:pt x="6276" y="5060"/>
                </a:moveTo>
                <a:cubicBezTo>
                  <a:pt x="6300" y="5049"/>
                  <a:pt x="6337" y="5019"/>
                  <a:pt x="6400" y="5011"/>
                </a:cubicBezTo>
                <a:cubicBezTo>
                  <a:pt x="6563" y="4990"/>
                  <a:pt x="6738" y="5006"/>
                  <a:pt x="6896" y="4986"/>
                </a:cubicBezTo>
                <a:cubicBezTo>
                  <a:pt x="6975" y="4976"/>
                  <a:pt x="7070" y="4967"/>
                  <a:pt x="7144" y="4961"/>
                </a:cubicBezTo>
                <a:cubicBezTo>
                  <a:pt x="7237" y="4953"/>
                  <a:pt x="7325" y="4939"/>
                  <a:pt x="7417" y="4936"/>
                </a:cubicBezTo>
                <a:cubicBezTo>
                  <a:pt x="7539" y="4932"/>
                  <a:pt x="7644" y="4957"/>
                  <a:pt x="7764" y="4961"/>
                </a:cubicBezTo>
                <a:cubicBezTo>
                  <a:pt x="8096" y="4972"/>
                  <a:pt x="8427" y="4953"/>
                  <a:pt x="8756" y="4986"/>
                </a:cubicBezTo>
                <a:cubicBezTo>
                  <a:pt x="8902" y="5001"/>
                  <a:pt x="9059" y="5000"/>
                  <a:pt x="9203" y="5011"/>
                </a:cubicBezTo>
                <a:cubicBezTo>
                  <a:pt x="9347" y="5022"/>
                  <a:pt x="9493" y="5003"/>
                  <a:pt x="9624" y="5035"/>
                </a:cubicBezTo>
              </a:path>
              <a:path w="19819" h="4243">
                <a:moveTo>
                  <a:pt x="18083" y="7491"/>
                </a:moveTo>
                <a:cubicBezTo>
                  <a:pt x="18129" y="7601"/>
                  <a:pt x="18107" y="7670"/>
                  <a:pt x="18107" y="7789"/>
                </a:cubicBezTo>
                <a:cubicBezTo>
                  <a:pt x="18107" y="8015"/>
                  <a:pt x="18070" y="8235"/>
                  <a:pt x="18033" y="8458"/>
                </a:cubicBezTo>
                <a:cubicBezTo>
                  <a:pt x="18008" y="8609"/>
                  <a:pt x="17953" y="8737"/>
                  <a:pt x="17909" y="8880"/>
                </a:cubicBezTo>
                <a:cubicBezTo>
                  <a:pt x="17909" y="8888"/>
                  <a:pt x="17909" y="8897"/>
                  <a:pt x="17909" y="8905"/>
                </a:cubicBezTo>
                <a:cubicBezTo>
                  <a:pt x="17966" y="8887"/>
                  <a:pt x="18018" y="8868"/>
                  <a:pt x="18083" y="8855"/>
                </a:cubicBezTo>
                <a:cubicBezTo>
                  <a:pt x="18299" y="8811"/>
                  <a:pt x="18556" y="8794"/>
                  <a:pt x="18777" y="8806"/>
                </a:cubicBezTo>
                <a:cubicBezTo>
                  <a:pt x="19018" y="8820"/>
                  <a:pt x="19254" y="8830"/>
                  <a:pt x="19496" y="8830"/>
                </a:cubicBezTo>
                <a:cubicBezTo>
                  <a:pt x="19845" y="8830"/>
                  <a:pt x="20192" y="8830"/>
                  <a:pt x="20538" y="8855"/>
                </a:cubicBezTo>
                <a:cubicBezTo>
                  <a:pt x="20622" y="8861"/>
                  <a:pt x="20690" y="8869"/>
                  <a:pt x="20762" y="8880"/>
                </a:cubicBezTo>
                <a:cubicBezTo>
                  <a:pt x="20781" y="8794"/>
                  <a:pt x="20811" y="8717"/>
                  <a:pt x="20836" y="8632"/>
                </a:cubicBezTo>
                <a:cubicBezTo>
                  <a:pt x="20880" y="8483"/>
                  <a:pt x="20923" y="8339"/>
                  <a:pt x="20960" y="8186"/>
                </a:cubicBezTo>
                <a:cubicBezTo>
                  <a:pt x="20992" y="8053"/>
                  <a:pt x="21027" y="7920"/>
                  <a:pt x="21059" y="7789"/>
                </a:cubicBezTo>
                <a:cubicBezTo>
                  <a:pt x="21073" y="7731"/>
                  <a:pt x="21100" y="7699"/>
                  <a:pt x="21109" y="7640"/>
                </a:cubicBezTo>
                <a:cubicBezTo>
                  <a:pt x="21113" y="7616"/>
                  <a:pt x="21107" y="7589"/>
                  <a:pt x="21109" y="7565"/>
                </a:cubicBezTo>
                <a:cubicBezTo>
                  <a:pt x="21049" y="7570"/>
                  <a:pt x="20992" y="7575"/>
                  <a:pt x="20935" y="7590"/>
                </a:cubicBezTo>
                <a:cubicBezTo>
                  <a:pt x="20894" y="7601"/>
                  <a:pt x="20834" y="7633"/>
                  <a:pt x="20786" y="7640"/>
                </a:cubicBezTo>
                <a:cubicBezTo>
                  <a:pt x="20654" y="7660"/>
                  <a:pt x="20496" y="7654"/>
                  <a:pt x="20365" y="7665"/>
                </a:cubicBezTo>
                <a:cubicBezTo>
                  <a:pt x="20224" y="7677"/>
                  <a:pt x="20081" y="7676"/>
                  <a:pt x="19943" y="7689"/>
                </a:cubicBezTo>
                <a:cubicBezTo>
                  <a:pt x="19852" y="7697"/>
                  <a:pt x="19758" y="7706"/>
                  <a:pt x="19670" y="7714"/>
                </a:cubicBezTo>
                <a:cubicBezTo>
                  <a:pt x="19594" y="7721"/>
                  <a:pt x="19546" y="7736"/>
                  <a:pt x="19472" y="7739"/>
                </a:cubicBezTo>
                <a:cubicBezTo>
                  <a:pt x="19409" y="7741"/>
                  <a:pt x="19397" y="7750"/>
                  <a:pt x="19348" y="7764"/>
                </a:cubicBezTo>
                <a:cubicBezTo>
                  <a:pt x="19316" y="7773"/>
                  <a:pt x="19279" y="7779"/>
                  <a:pt x="19248" y="7789"/>
                </a:cubicBezTo>
              </a:path>
              <a:path w="19819" h="4243">
                <a:moveTo>
                  <a:pt x="19323" y="7789"/>
                </a:moveTo>
                <a:cubicBezTo>
                  <a:pt x="19309" y="7831"/>
                  <a:pt x="19253" y="7813"/>
                  <a:pt x="19199" y="7813"/>
                </a:cubicBezTo>
                <a:cubicBezTo>
                  <a:pt x="19134" y="7813"/>
                  <a:pt x="19113" y="7794"/>
                  <a:pt x="19075" y="7789"/>
                </a:cubicBezTo>
                <a:cubicBezTo>
                  <a:pt x="19007" y="7781"/>
                  <a:pt x="18960" y="7784"/>
                  <a:pt x="18901" y="7764"/>
                </a:cubicBezTo>
                <a:cubicBezTo>
                  <a:pt x="18835" y="7742"/>
                  <a:pt x="18721" y="7750"/>
                  <a:pt x="18653" y="7739"/>
                </a:cubicBezTo>
                <a:cubicBezTo>
                  <a:pt x="18586" y="7728"/>
                  <a:pt x="18519" y="7735"/>
                  <a:pt x="18455" y="7714"/>
                </a:cubicBezTo>
                <a:cubicBezTo>
                  <a:pt x="18383" y="7690"/>
                  <a:pt x="18330" y="7706"/>
                  <a:pt x="18256" y="7689"/>
                </a:cubicBezTo>
                <a:cubicBezTo>
                  <a:pt x="18198" y="7676"/>
                  <a:pt x="18171" y="7665"/>
                  <a:pt x="18107" y="7665"/>
                </a:cubicBezTo>
                <a:cubicBezTo>
                  <a:pt x="18058" y="7665"/>
                  <a:pt x="18008" y="7665"/>
                  <a:pt x="17959" y="7665"/>
                </a:cubicBezTo>
              </a:path>
              <a:path w="19819" h="4243">
                <a:moveTo>
                  <a:pt x="18207" y="7714"/>
                </a:moveTo>
                <a:cubicBezTo>
                  <a:pt x="18658" y="7714"/>
                  <a:pt x="19130" y="7745"/>
                  <a:pt x="19571" y="7689"/>
                </a:cubicBezTo>
                <a:cubicBezTo>
                  <a:pt x="19630" y="7682"/>
                  <a:pt x="19696" y="7673"/>
                  <a:pt x="19745" y="7665"/>
                </a:cubicBezTo>
                <a:cubicBezTo>
                  <a:pt x="19824" y="7652"/>
                  <a:pt x="19917" y="7650"/>
                  <a:pt x="19993" y="7640"/>
                </a:cubicBezTo>
                <a:cubicBezTo>
                  <a:pt x="20090" y="7628"/>
                  <a:pt x="20193" y="7625"/>
                  <a:pt x="20290" y="7615"/>
                </a:cubicBezTo>
                <a:cubicBezTo>
                  <a:pt x="20408" y="7603"/>
                  <a:pt x="20525" y="7608"/>
                  <a:pt x="20638" y="7590"/>
                </a:cubicBezTo>
                <a:cubicBezTo>
                  <a:pt x="20716" y="7578"/>
                  <a:pt x="20785" y="7611"/>
                  <a:pt x="20861" y="7615"/>
                </a:cubicBezTo>
                <a:cubicBezTo>
                  <a:pt x="20927" y="7618"/>
                  <a:pt x="20993" y="7615"/>
                  <a:pt x="21059" y="7615"/>
                </a:cubicBezTo>
                <a:cubicBezTo>
                  <a:pt x="20976" y="7615"/>
                  <a:pt x="20944" y="7615"/>
                  <a:pt x="20861" y="7615"/>
                </a:cubicBezTo>
                <a:cubicBezTo>
                  <a:pt x="20570" y="7615"/>
                  <a:pt x="20281" y="7621"/>
                  <a:pt x="19993" y="7640"/>
                </a:cubicBezTo>
                <a:cubicBezTo>
                  <a:pt x="19761" y="7655"/>
                  <a:pt x="19472" y="7681"/>
                  <a:pt x="19248" y="7665"/>
                </a:cubicBezTo>
                <a:cubicBezTo>
                  <a:pt x="19142" y="7658"/>
                  <a:pt x="19041" y="7665"/>
                  <a:pt x="18926" y="7665"/>
                </a:cubicBezTo>
                <a:cubicBezTo>
                  <a:pt x="18808" y="7665"/>
                  <a:pt x="18699" y="7689"/>
                  <a:pt x="18579" y="7689"/>
                </a:cubicBezTo>
                <a:cubicBezTo>
                  <a:pt x="18481" y="7689"/>
                  <a:pt x="18397" y="7700"/>
                  <a:pt x="18306" y="7714"/>
                </a:cubicBezTo>
                <a:cubicBezTo>
                  <a:pt x="18289" y="7717"/>
                  <a:pt x="18174" y="7726"/>
                  <a:pt x="18231" y="7714"/>
                </a:cubicBezTo>
                <a:cubicBezTo>
                  <a:pt x="18282" y="7714"/>
                  <a:pt x="18315" y="7708"/>
                  <a:pt x="18355" y="7689"/>
                </a:cubicBezTo>
              </a:path>
              <a:path w="19819" h="4243">
                <a:moveTo>
                  <a:pt x="16073" y="8210"/>
                </a:moveTo>
                <a:cubicBezTo>
                  <a:pt x="16031" y="8179"/>
                  <a:pt x="16005" y="8164"/>
                  <a:pt x="15949" y="8161"/>
                </a:cubicBezTo>
                <a:cubicBezTo>
                  <a:pt x="15884" y="8157"/>
                  <a:pt x="15821" y="8267"/>
                  <a:pt x="15825" y="8334"/>
                </a:cubicBezTo>
                <a:cubicBezTo>
                  <a:pt x="15855" y="8364"/>
                  <a:pt x="15869" y="8375"/>
                  <a:pt x="15900" y="8384"/>
                </a:cubicBezTo>
                <a:cubicBezTo>
                  <a:pt x="15958" y="8342"/>
                  <a:pt x="16024" y="8273"/>
                  <a:pt x="15999" y="8186"/>
                </a:cubicBezTo>
                <a:cubicBezTo>
                  <a:pt x="15991" y="8157"/>
                  <a:pt x="15931" y="8119"/>
                  <a:pt x="15900" y="8136"/>
                </a:cubicBezTo>
                <a:cubicBezTo>
                  <a:pt x="15828" y="8176"/>
                  <a:pt x="15875" y="8271"/>
                  <a:pt x="15925" y="8285"/>
                </a:cubicBezTo>
                <a:cubicBezTo>
                  <a:pt x="15967" y="8285"/>
                  <a:pt x="15981" y="8268"/>
                  <a:pt x="15974" y="8210"/>
                </a:cubicBezTo>
                <a:cubicBezTo>
                  <a:pt x="15974" y="8167"/>
                  <a:pt x="15975" y="8171"/>
                  <a:pt x="15949" y="8136"/>
                </a:cubicBezTo>
                <a:cubicBezTo>
                  <a:pt x="15904" y="8148"/>
                  <a:pt x="15868" y="8209"/>
                  <a:pt x="15900" y="8260"/>
                </a:cubicBezTo>
                <a:cubicBezTo>
                  <a:pt x="15942" y="8326"/>
                  <a:pt x="16005" y="8203"/>
                  <a:pt x="15999" y="8161"/>
                </a:cubicBezTo>
                <a:cubicBezTo>
                  <a:pt x="15978" y="8013"/>
                  <a:pt x="15926" y="8048"/>
                  <a:pt x="15875" y="8136"/>
                </a:cubicBezTo>
                <a:cubicBezTo>
                  <a:pt x="15888" y="8263"/>
                  <a:pt x="15912" y="8241"/>
                  <a:pt x="15999" y="8161"/>
                </a:cubicBezTo>
                <a:cubicBezTo>
                  <a:pt x="16007" y="8153"/>
                  <a:pt x="16016" y="8144"/>
                  <a:pt x="16024" y="8136"/>
                </a:cubicBezTo>
                <a:cubicBezTo>
                  <a:pt x="15964" y="8052"/>
                  <a:pt x="15893" y="8054"/>
                  <a:pt x="15925" y="8186"/>
                </a:cubicBezTo>
                <a:cubicBezTo>
                  <a:pt x="15949" y="8284"/>
                  <a:pt x="16044" y="8134"/>
                  <a:pt x="16049" y="8111"/>
                </a:cubicBezTo>
                <a:cubicBezTo>
                  <a:pt x="16049" y="8053"/>
                  <a:pt x="16065" y="8029"/>
                  <a:pt x="16024" y="8037"/>
                </a:cubicBezTo>
                <a:cubicBezTo>
                  <a:pt x="15952" y="8027"/>
                  <a:pt x="15900" y="8082"/>
                  <a:pt x="15925" y="8186"/>
                </a:cubicBezTo>
                <a:cubicBezTo>
                  <a:pt x="15944" y="8266"/>
                  <a:pt x="16085" y="8171"/>
                  <a:pt x="16098" y="8136"/>
                </a:cubicBezTo>
                <a:cubicBezTo>
                  <a:pt x="16125" y="8063"/>
                  <a:pt x="16043" y="7984"/>
                  <a:pt x="15999" y="8062"/>
                </a:cubicBezTo>
                <a:cubicBezTo>
                  <a:pt x="15952" y="8146"/>
                  <a:pt x="15979" y="8161"/>
                  <a:pt x="16049" y="8161"/>
                </a:cubicBezTo>
              </a:path>
              <a:path w="19819" h="4243">
                <a:moveTo>
                  <a:pt x="14064" y="7020"/>
                </a:moveTo>
                <a:cubicBezTo>
                  <a:pt x="14030" y="7089"/>
                  <a:pt x="14047" y="6928"/>
                  <a:pt x="14039" y="6896"/>
                </a:cubicBezTo>
                <a:cubicBezTo>
                  <a:pt x="14022" y="6831"/>
                  <a:pt x="13991" y="6777"/>
                  <a:pt x="13940" y="6747"/>
                </a:cubicBezTo>
                <a:cubicBezTo>
                  <a:pt x="13885" y="6780"/>
                  <a:pt x="13800" y="6929"/>
                  <a:pt x="13891" y="6995"/>
                </a:cubicBezTo>
                <a:cubicBezTo>
                  <a:pt x="14036" y="7100"/>
                  <a:pt x="14150" y="6784"/>
                  <a:pt x="14139" y="6697"/>
                </a:cubicBezTo>
                <a:cubicBezTo>
                  <a:pt x="14094" y="6608"/>
                  <a:pt x="14088" y="6578"/>
                  <a:pt x="14015" y="6573"/>
                </a:cubicBezTo>
                <a:cubicBezTo>
                  <a:pt x="13968" y="6616"/>
                  <a:pt x="13734" y="6845"/>
                  <a:pt x="13915" y="6896"/>
                </a:cubicBezTo>
                <a:cubicBezTo>
                  <a:pt x="14114" y="6952"/>
                  <a:pt x="14142" y="6806"/>
                  <a:pt x="14213" y="6672"/>
                </a:cubicBezTo>
                <a:cubicBezTo>
                  <a:pt x="14095" y="6567"/>
                  <a:pt x="13953" y="6589"/>
                  <a:pt x="13940" y="6796"/>
                </a:cubicBezTo>
                <a:cubicBezTo>
                  <a:pt x="13948" y="6821"/>
                  <a:pt x="13957" y="6846"/>
                  <a:pt x="13965" y="6871"/>
                </a:cubicBezTo>
                <a:cubicBezTo>
                  <a:pt x="14008" y="6867"/>
                  <a:pt x="14213" y="6858"/>
                  <a:pt x="14139" y="6747"/>
                </a:cubicBezTo>
                <a:cubicBezTo>
                  <a:pt x="14131" y="6747"/>
                  <a:pt x="14122" y="6747"/>
                  <a:pt x="14114" y="6747"/>
                </a:cubicBezTo>
              </a:path>
              <a:path w="19819" h="4243">
                <a:moveTo>
                  <a:pt x="18008" y="7689"/>
                </a:moveTo>
                <a:cubicBezTo>
                  <a:pt x="18013" y="7670"/>
                  <a:pt x="18038" y="7516"/>
                  <a:pt x="17983" y="7516"/>
                </a:cubicBezTo>
                <a:cubicBezTo>
                  <a:pt x="17967" y="7524"/>
                  <a:pt x="17950" y="7533"/>
                  <a:pt x="17934" y="7541"/>
                </a:cubicBezTo>
                <a:cubicBezTo>
                  <a:pt x="17878" y="7663"/>
                  <a:pt x="17880" y="7845"/>
                  <a:pt x="18083" y="7813"/>
                </a:cubicBezTo>
                <a:cubicBezTo>
                  <a:pt x="18297" y="7779"/>
                  <a:pt x="18363" y="7517"/>
                  <a:pt x="18157" y="7417"/>
                </a:cubicBezTo>
                <a:cubicBezTo>
                  <a:pt x="18124" y="7417"/>
                  <a:pt x="18091" y="7417"/>
                  <a:pt x="18058" y="7417"/>
                </a:cubicBezTo>
                <a:cubicBezTo>
                  <a:pt x="18037" y="7478"/>
                  <a:pt x="17910" y="7875"/>
                  <a:pt x="18157" y="7789"/>
                </a:cubicBezTo>
                <a:cubicBezTo>
                  <a:pt x="18318" y="7733"/>
                  <a:pt x="18269" y="7613"/>
                  <a:pt x="18256" y="7491"/>
                </a:cubicBezTo>
                <a:cubicBezTo>
                  <a:pt x="18105" y="7503"/>
                  <a:pt x="18120" y="7554"/>
                  <a:pt x="18033" y="7714"/>
                </a:cubicBezTo>
              </a:path>
              <a:path w="19819" h="4243">
                <a:moveTo>
                  <a:pt x="17983" y="8781"/>
                </a:moveTo>
                <a:cubicBezTo>
                  <a:pt x="17983" y="8737"/>
                  <a:pt x="17988" y="8636"/>
                  <a:pt x="17959" y="8607"/>
                </a:cubicBezTo>
                <a:cubicBezTo>
                  <a:pt x="17942" y="8599"/>
                  <a:pt x="17926" y="8590"/>
                  <a:pt x="17909" y="8582"/>
                </a:cubicBezTo>
                <a:cubicBezTo>
                  <a:pt x="17812" y="8655"/>
                  <a:pt x="17719" y="8772"/>
                  <a:pt x="17785" y="8905"/>
                </a:cubicBezTo>
                <a:cubicBezTo>
                  <a:pt x="17883" y="9100"/>
                  <a:pt x="18173" y="8925"/>
                  <a:pt x="18182" y="8756"/>
                </a:cubicBezTo>
                <a:cubicBezTo>
                  <a:pt x="18165" y="8723"/>
                  <a:pt x="18149" y="8690"/>
                  <a:pt x="18132" y="8657"/>
                </a:cubicBezTo>
                <a:cubicBezTo>
                  <a:pt x="18000" y="8616"/>
                  <a:pt x="17845" y="8670"/>
                  <a:pt x="17810" y="8855"/>
                </a:cubicBezTo>
                <a:cubicBezTo>
                  <a:pt x="17782" y="9003"/>
                  <a:pt x="18019" y="8863"/>
                  <a:pt x="18033" y="8756"/>
                </a:cubicBezTo>
                <a:cubicBezTo>
                  <a:pt x="18053" y="8604"/>
                  <a:pt x="17926" y="8772"/>
                  <a:pt x="17934" y="8880"/>
                </a:cubicBezTo>
              </a:path>
              <a:path w="19819" h="4243">
                <a:moveTo>
                  <a:pt x="20886" y="8806"/>
                </a:moveTo>
                <a:cubicBezTo>
                  <a:pt x="20913" y="8806"/>
                  <a:pt x="20764" y="8884"/>
                  <a:pt x="20737" y="8954"/>
                </a:cubicBezTo>
                <a:cubicBezTo>
                  <a:pt x="20681" y="9100"/>
                  <a:pt x="20760" y="9287"/>
                  <a:pt x="20886" y="9103"/>
                </a:cubicBezTo>
                <a:cubicBezTo>
                  <a:pt x="20931" y="8989"/>
                  <a:pt x="20950" y="8957"/>
                  <a:pt x="20910" y="8880"/>
                </a:cubicBezTo>
                <a:cubicBezTo>
                  <a:pt x="20793" y="8893"/>
                  <a:pt x="20696" y="8937"/>
                  <a:pt x="20712" y="9079"/>
                </a:cubicBezTo>
                <a:cubicBezTo>
                  <a:pt x="20720" y="9087"/>
                  <a:pt x="20729" y="9095"/>
                  <a:pt x="20737" y="9103"/>
                </a:cubicBezTo>
                <a:cubicBezTo>
                  <a:pt x="20763" y="9089"/>
                  <a:pt x="20944" y="8908"/>
                  <a:pt x="20861" y="8930"/>
                </a:cubicBezTo>
                <a:cubicBezTo>
                  <a:pt x="20853" y="8938"/>
                  <a:pt x="20844" y="8946"/>
                  <a:pt x="20836" y="8954"/>
                </a:cubicBezTo>
              </a:path>
              <a:path w="19819" h="4243">
                <a:moveTo>
                  <a:pt x="21134" y="7441"/>
                </a:moveTo>
                <a:cubicBezTo>
                  <a:pt x="21068" y="7467"/>
                  <a:pt x="20991" y="7550"/>
                  <a:pt x="21034" y="7640"/>
                </a:cubicBezTo>
                <a:cubicBezTo>
                  <a:pt x="21051" y="7648"/>
                  <a:pt x="21067" y="7657"/>
                  <a:pt x="21084" y="7665"/>
                </a:cubicBezTo>
                <a:cubicBezTo>
                  <a:pt x="21274" y="7683"/>
                  <a:pt x="21286" y="7567"/>
                  <a:pt x="21258" y="7392"/>
                </a:cubicBezTo>
                <a:cubicBezTo>
                  <a:pt x="21230" y="7215"/>
                  <a:pt x="21054" y="7363"/>
                  <a:pt x="21084" y="7491"/>
                </a:cubicBezTo>
                <a:cubicBezTo>
                  <a:pt x="21101" y="7516"/>
                  <a:pt x="21117" y="7540"/>
                  <a:pt x="21134" y="7565"/>
                </a:cubicBezTo>
                <a:cubicBezTo>
                  <a:pt x="21301" y="7537"/>
                  <a:pt x="21312" y="7480"/>
                  <a:pt x="21332" y="7317"/>
                </a:cubicBezTo>
                <a:cubicBezTo>
                  <a:pt x="21228" y="7318"/>
                  <a:pt x="21087" y="7447"/>
                  <a:pt x="21183" y="7590"/>
                </a:cubicBezTo>
                <a:cubicBezTo>
                  <a:pt x="21276" y="7728"/>
                  <a:pt x="21381" y="7509"/>
                  <a:pt x="21406" y="7466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14880" y="2847960"/>
            <a:ext cx="160200" cy="162000"/>
          </a:xfrm>
          <a:custGeom>
            <a:avLst/>
            <a:gdLst/>
            <a:ahLst/>
            <a:rect l="l" t="t" r="r" b="b"/>
            <a:pathLst>
              <a:path w="447" h="447">
                <a:moveTo>
                  <a:pt x="12030" y="8310"/>
                </a:moveTo>
                <a:cubicBezTo>
                  <a:pt x="12022" y="8244"/>
                  <a:pt x="11994" y="8143"/>
                  <a:pt x="11956" y="8086"/>
                </a:cubicBezTo>
                <a:cubicBezTo>
                  <a:pt x="11905" y="8036"/>
                  <a:pt x="11887" y="8020"/>
                  <a:pt x="11832" y="8037"/>
                </a:cubicBezTo>
                <a:cubicBezTo>
                  <a:pt x="11722" y="8077"/>
                  <a:pt x="11620" y="8210"/>
                  <a:pt x="11782" y="8310"/>
                </a:cubicBezTo>
                <a:cubicBezTo>
                  <a:pt x="11926" y="8399"/>
                  <a:pt x="12105" y="8205"/>
                  <a:pt x="12030" y="8062"/>
                </a:cubicBezTo>
                <a:cubicBezTo>
                  <a:pt x="11997" y="8037"/>
                  <a:pt x="11964" y="8012"/>
                  <a:pt x="11931" y="7987"/>
                </a:cubicBezTo>
                <a:cubicBezTo>
                  <a:pt x="11790" y="8034"/>
                  <a:pt x="11695" y="8183"/>
                  <a:pt x="11832" y="8334"/>
                </a:cubicBezTo>
                <a:cubicBezTo>
                  <a:pt x="12008" y="8527"/>
                  <a:pt x="12095" y="8063"/>
                  <a:pt x="12080" y="7987"/>
                </a:cubicBezTo>
                <a:cubicBezTo>
                  <a:pt x="12063" y="7962"/>
                  <a:pt x="12047" y="7938"/>
                  <a:pt x="12030" y="7913"/>
                </a:cubicBezTo>
                <a:cubicBezTo>
                  <a:pt x="11899" y="8068"/>
                  <a:pt x="11867" y="8157"/>
                  <a:pt x="12005" y="8310"/>
                </a:cubicBezTo>
                <a:cubicBezTo>
                  <a:pt x="12033" y="8288"/>
                  <a:pt x="12304" y="8028"/>
                  <a:pt x="12129" y="7987"/>
                </a:cubicBezTo>
                <a:cubicBezTo>
                  <a:pt x="12070" y="8017"/>
                  <a:pt x="12047" y="8035"/>
                  <a:pt x="12030" y="8086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47840" y="6697800"/>
            <a:ext cx="27000" cy="81000"/>
          </a:xfrm>
          <a:custGeom>
            <a:avLst/>
            <a:gdLst/>
            <a:ahLst/>
            <a:rect l="l" t="t" r="r" b="b"/>
            <a:pathLst>
              <a:path w="75" h="224">
                <a:moveTo>
                  <a:pt x="3820" y="18604"/>
                </a:moveTo>
                <a:lnTo>
                  <a:pt x="3820" y="18604"/>
                </a:lnTo>
              </a:path>
              <a:path w="75" h="224">
                <a:moveTo>
                  <a:pt x="3770" y="18827"/>
                </a:moveTo>
                <a:cubicBezTo>
                  <a:pt x="3762" y="18827"/>
                  <a:pt x="3754" y="18827"/>
                  <a:pt x="3746" y="1882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60680" y="6249960"/>
            <a:ext cx="9360" cy="28440"/>
          </a:xfrm>
          <a:custGeom>
            <a:avLst/>
            <a:gdLst/>
            <a:ahLst/>
            <a:rect l="l" t="t" r="r" b="b"/>
            <a:pathLst>
              <a:path w="25" h="76">
                <a:moveTo>
                  <a:pt x="4638" y="17438"/>
                </a:moveTo>
                <a:cubicBezTo>
                  <a:pt x="4613" y="17403"/>
                  <a:pt x="4614" y="17406"/>
                  <a:pt x="4614" y="17363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48200" y="1231920"/>
            <a:ext cx="180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16247" y="3423"/>
                </a:moveTo>
                <a:cubicBezTo>
                  <a:pt x="16247" y="3431"/>
                  <a:pt x="16247" y="3440"/>
                  <a:pt x="16247" y="344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670200"/>
            <a:ext cx="115920" cy="152640"/>
          </a:xfrm>
          <a:custGeom>
            <a:avLst/>
            <a:gdLst/>
            <a:ahLst/>
            <a:rect l="l" t="t" r="r" b="b"/>
            <a:pathLst>
              <a:path w="324" h="422">
                <a:moveTo>
                  <a:pt x="12948" y="10492"/>
                </a:moveTo>
                <a:cubicBezTo>
                  <a:pt x="12938" y="10397"/>
                  <a:pt x="12934" y="10300"/>
                  <a:pt x="12824" y="10269"/>
                </a:cubicBezTo>
                <a:cubicBezTo>
                  <a:pt x="12694" y="10233"/>
                  <a:pt x="12681" y="10472"/>
                  <a:pt x="12700" y="10542"/>
                </a:cubicBezTo>
                <a:cubicBezTo>
                  <a:pt x="12717" y="10567"/>
                  <a:pt x="12733" y="10591"/>
                  <a:pt x="12750" y="10616"/>
                </a:cubicBezTo>
                <a:cubicBezTo>
                  <a:pt x="12934" y="10504"/>
                  <a:pt x="12959" y="10405"/>
                  <a:pt x="12948" y="10195"/>
                </a:cubicBezTo>
                <a:cubicBezTo>
                  <a:pt x="12794" y="10222"/>
                  <a:pt x="12564" y="10321"/>
                  <a:pt x="12650" y="10542"/>
                </a:cubicBezTo>
                <a:cubicBezTo>
                  <a:pt x="12730" y="10748"/>
                  <a:pt x="12953" y="10458"/>
                  <a:pt x="12923" y="10319"/>
                </a:cubicBezTo>
                <a:cubicBezTo>
                  <a:pt x="12887" y="10152"/>
                  <a:pt x="12775" y="10314"/>
                  <a:pt x="12750" y="10344"/>
                </a:cubicBezTo>
                <a:cubicBezTo>
                  <a:pt x="12767" y="10493"/>
                  <a:pt x="12778" y="10578"/>
                  <a:pt x="12898" y="10443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73800" y="3679920"/>
            <a:ext cx="169920" cy="150840"/>
          </a:xfrm>
          <a:custGeom>
            <a:avLst/>
            <a:gdLst/>
            <a:ahLst/>
            <a:rect l="l" t="t" r="r" b="b"/>
            <a:pathLst>
              <a:path w="473" h="422">
                <a:moveTo>
                  <a:pt x="15255" y="10244"/>
                </a:moveTo>
                <a:cubicBezTo>
                  <a:pt x="15313" y="10333"/>
                  <a:pt x="15289" y="10193"/>
                  <a:pt x="15230" y="10319"/>
                </a:cubicBezTo>
                <a:cubicBezTo>
                  <a:pt x="15162" y="10466"/>
                  <a:pt x="15258" y="10639"/>
                  <a:pt x="15429" y="10567"/>
                </a:cubicBezTo>
                <a:cubicBezTo>
                  <a:pt x="15624" y="10485"/>
                  <a:pt x="15588" y="10329"/>
                  <a:pt x="15478" y="10220"/>
                </a:cubicBezTo>
                <a:cubicBezTo>
                  <a:pt x="15308" y="10277"/>
                  <a:pt x="15300" y="10386"/>
                  <a:pt x="15280" y="10567"/>
                </a:cubicBezTo>
                <a:cubicBezTo>
                  <a:pt x="15467" y="10655"/>
                  <a:pt x="15671" y="10595"/>
                  <a:pt x="15677" y="10319"/>
                </a:cubicBezTo>
                <a:cubicBezTo>
                  <a:pt x="15682" y="10074"/>
                  <a:pt x="15357" y="10302"/>
                  <a:pt x="15329" y="10418"/>
                </a:cubicBezTo>
                <a:cubicBezTo>
                  <a:pt x="15337" y="10451"/>
                  <a:pt x="15346" y="10484"/>
                  <a:pt x="15354" y="10517"/>
                </a:cubicBezTo>
                <a:cubicBezTo>
                  <a:pt x="15427" y="10523"/>
                  <a:pt x="15651" y="10468"/>
                  <a:pt x="15553" y="10319"/>
                </a:cubicBezTo>
                <a:cubicBezTo>
                  <a:pt x="15477" y="10203"/>
                  <a:pt x="15399" y="10382"/>
                  <a:pt x="15379" y="1041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0680" y="2598840"/>
            <a:ext cx="2501640" cy="1866960"/>
          </a:xfrm>
          <a:custGeom>
            <a:avLst/>
            <a:gdLst/>
            <a:ahLst/>
            <a:rect l="l" t="t" r="r" b="b"/>
            <a:pathLst>
              <a:path w="6947" h="5185">
                <a:moveTo>
                  <a:pt x="6623" y="8458"/>
                </a:moveTo>
                <a:cubicBezTo>
                  <a:pt x="6568" y="8477"/>
                  <a:pt x="6583" y="8379"/>
                  <a:pt x="6524" y="8558"/>
                </a:cubicBezTo>
                <a:cubicBezTo>
                  <a:pt x="6319" y="9178"/>
                  <a:pt x="6123" y="9786"/>
                  <a:pt x="5879" y="10393"/>
                </a:cubicBezTo>
                <a:cubicBezTo>
                  <a:pt x="5811" y="10562"/>
                  <a:pt x="5762" y="10731"/>
                  <a:pt x="5730" y="10716"/>
                </a:cubicBezTo>
              </a:path>
              <a:path w="6947" h="5185">
                <a:moveTo>
                  <a:pt x="6548" y="8458"/>
                </a:moveTo>
                <a:cubicBezTo>
                  <a:pt x="6559" y="8423"/>
                  <a:pt x="6563" y="8393"/>
                  <a:pt x="6573" y="8359"/>
                </a:cubicBezTo>
                <a:cubicBezTo>
                  <a:pt x="6651" y="8528"/>
                  <a:pt x="6777" y="8685"/>
                  <a:pt x="6896" y="8830"/>
                </a:cubicBezTo>
                <a:cubicBezTo>
                  <a:pt x="7181" y="9177"/>
                  <a:pt x="7437" y="9519"/>
                  <a:pt x="7640" y="9922"/>
                </a:cubicBezTo>
                <a:cubicBezTo>
                  <a:pt x="7704" y="10048"/>
                  <a:pt x="7760" y="10230"/>
                  <a:pt x="7838" y="10344"/>
                </a:cubicBezTo>
                <a:cubicBezTo>
                  <a:pt x="7888" y="10416"/>
                  <a:pt x="7939" y="10497"/>
                  <a:pt x="7987" y="10567"/>
                </a:cubicBezTo>
                <a:cubicBezTo>
                  <a:pt x="7998" y="10584"/>
                  <a:pt x="8062" y="10664"/>
                  <a:pt x="8086" y="10691"/>
                </a:cubicBezTo>
                <a:cubicBezTo>
                  <a:pt x="8097" y="10704"/>
                  <a:pt x="8114" y="10716"/>
                  <a:pt x="8136" y="10740"/>
                </a:cubicBezTo>
                <a:cubicBezTo>
                  <a:pt x="8053" y="10749"/>
                  <a:pt x="7972" y="10759"/>
                  <a:pt x="7888" y="10765"/>
                </a:cubicBezTo>
                <a:cubicBezTo>
                  <a:pt x="7741" y="10775"/>
                  <a:pt x="7612" y="10785"/>
                  <a:pt x="7466" y="10815"/>
                </a:cubicBezTo>
                <a:cubicBezTo>
                  <a:pt x="7310" y="10846"/>
                  <a:pt x="7151" y="10876"/>
                  <a:pt x="6995" y="10889"/>
                </a:cubicBezTo>
                <a:cubicBezTo>
                  <a:pt x="6938" y="10894"/>
                  <a:pt x="6873" y="10910"/>
                  <a:pt x="6821" y="10914"/>
                </a:cubicBezTo>
                <a:cubicBezTo>
                  <a:pt x="6758" y="10919"/>
                  <a:pt x="6653" y="10942"/>
                  <a:pt x="6598" y="10939"/>
                </a:cubicBezTo>
                <a:cubicBezTo>
                  <a:pt x="6510" y="10935"/>
                  <a:pt x="6441" y="10903"/>
                  <a:pt x="6350" y="10914"/>
                </a:cubicBezTo>
                <a:cubicBezTo>
                  <a:pt x="6299" y="10920"/>
                  <a:pt x="6252" y="10926"/>
                  <a:pt x="6201" y="10939"/>
                </a:cubicBezTo>
                <a:cubicBezTo>
                  <a:pt x="6140" y="10954"/>
                  <a:pt x="6090" y="10952"/>
                  <a:pt x="6028" y="10964"/>
                </a:cubicBezTo>
                <a:cubicBezTo>
                  <a:pt x="5974" y="10975"/>
                  <a:pt x="5936" y="10984"/>
                  <a:pt x="5879" y="10988"/>
                </a:cubicBezTo>
                <a:cubicBezTo>
                  <a:pt x="5777" y="10996"/>
                  <a:pt x="5672" y="11000"/>
                  <a:pt x="5581" y="11013"/>
                </a:cubicBezTo>
                <a:cubicBezTo>
                  <a:pt x="5573" y="11013"/>
                  <a:pt x="5564" y="11013"/>
                  <a:pt x="5556" y="11013"/>
                </a:cubicBezTo>
                <a:cubicBezTo>
                  <a:pt x="5610" y="10886"/>
                  <a:pt x="5664" y="10762"/>
                  <a:pt x="5730" y="10641"/>
                </a:cubicBezTo>
                <a:cubicBezTo>
                  <a:pt x="5738" y="10625"/>
                  <a:pt x="5747" y="10608"/>
                  <a:pt x="5755" y="10592"/>
                </a:cubicBezTo>
              </a:path>
              <a:path w="6947" h="5185">
                <a:moveTo>
                  <a:pt x="8161" y="10641"/>
                </a:moveTo>
                <a:cubicBezTo>
                  <a:pt x="8175" y="10584"/>
                  <a:pt x="8174" y="10551"/>
                  <a:pt x="8161" y="10517"/>
                </a:cubicBezTo>
                <a:cubicBezTo>
                  <a:pt x="8161" y="10509"/>
                  <a:pt x="8161" y="10500"/>
                  <a:pt x="8161" y="10492"/>
                </a:cubicBezTo>
                <a:cubicBezTo>
                  <a:pt x="8112" y="10569"/>
                  <a:pt x="8003" y="10768"/>
                  <a:pt x="8086" y="10864"/>
                </a:cubicBezTo>
                <a:cubicBezTo>
                  <a:pt x="8192" y="10987"/>
                  <a:pt x="8281" y="10648"/>
                  <a:pt x="8235" y="10567"/>
                </a:cubicBezTo>
                <a:cubicBezTo>
                  <a:pt x="8210" y="10559"/>
                  <a:pt x="8186" y="10550"/>
                  <a:pt x="8161" y="10542"/>
                </a:cubicBezTo>
                <a:cubicBezTo>
                  <a:pt x="8116" y="10587"/>
                  <a:pt x="7962" y="10808"/>
                  <a:pt x="8136" y="10840"/>
                </a:cubicBezTo>
                <a:cubicBezTo>
                  <a:pt x="8277" y="10866"/>
                  <a:pt x="8400" y="10630"/>
                  <a:pt x="8285" y="10542"/>
                </a:cubicBezTo>
                <a:cubicBezTo>
                  <a:pt x="8221" y="10492"/>
                  <a:pt x="8116" y="10666"/>
                  <a:pt x="8186" y="10666"/>
                </a:cubicBezTo>
              </a:path>
              <a:path w="6947" h="5185">
                <a:moveTo>
                  <a:pt x="6499" y="8334"/>
                </a:moveTo>
                <a:cubicBezTo>
                  <a:pt x="6386" y="8398"/>
                  <a:pt x="6424" y="8477"/>
                  <a:pt x="6499" y="8582"/>
                </a:cubicBezTo>
                <a:cubicBezTo>
                  <a:pt x="6628" y="8554"/>
                  <a:pt x="6689" y="8454"/>
                  <a:pt x="6648" y="8310"/>
                </a:cubicBezTo>
                <a:cubicBezTo>
                  <a:pt x="6614" y="8188"/>
                  <a:pt x="6536" y="8203"/>
                  <a:pt x="6449" y="8210"/>
                </a:cubicBezTo>
                <a:cubicBezTo>
                  <a:pt x="6422" y="8299"/>
                  <a:pt x="6408" y="8487"/>
                  <a:pt x="6573" y="8434"/>
                </a:cubicBezTo>
                <a:cubicBezTo>
                  <a:pt x="6723" y="8386"/>
                  <a:pt x="6652" y="8238"/>
                  <a:pt x="6598" y="8161"/>
                </a:cubicBezTo>
                <a:cubicBezTo>
                  <a:pt x="6496" y="8212"/>
                  <a:pt x="6507" y="8259"/>
                  <a:pt x="6474" y="8384"/>
                </a:cubicBezTo>
              </a:path>
              <a:path w="6947" h="5185">
                <a:moveTo>
                  <a:pt x="5631" y="11013"/>
                </a:moveTo>
                <a:cubicBezTo>
                  <a:pt x="5583" y="10977"/>
                  <a:pt x="5537" y="10972"/>
                  <a:pt x="5482" y="10939"/>
                </a:cubicBezTo>
                <a:cubicBezTo>
                  <a:pt x="5474" y="10931"/>
                  <a:pt x="5465" y="10922"/>
                  <a:pt x="5457" y="10914"/>
                </a:cubicBezTo>
                <a:cubicBezTo>
                  <a:pt x="5442" y="11003"/>
                  <a:pt x="5423" y="11136"/>
                  <a:pt x="5556" y="11162"/>
                </a:cubicBezTo>
                <a:cubicBezTo>
                  <a:pt x="5687" y="11187"/>
                  <a:pt x="5734" y="10891"/>
                  <a:pt x="5705" y="10815"/>
                </a:cubicBezTo>
                <a:cubicBezTo>
                  <a:pt x="5662" y="10702"/>
                  <a:pt x="5537" y="10918"/>
                  <a:pt x="5556" y="10988"/>
                </a:cubicBezTo>
                <a:cubicBezTo>
                  <a:pt x="5573" y="11013"/>
                  <a:pt x="5589" y="11038"/>
                  <a:pt x="5606" y="11063"/>
                </a:cubicBezTo>
                <a:cubicBezTo>
                  <a:pt x="5678" y="11042"/>
                  <a:pt x="5725" y="10970"/>
                  <a:pt x="5655" y="10889"/>
                </a:cubicBezTo>
                <a:cubicBezTo>
                  <a:pt x="5605" y="10889"/>
                  <a:pt x="5591" y="10914"/>
                  <a:pt x="5606" y="10988"/>
                </a:cubicBezTo>
              </a:path>
              <a:path w="6947" h="5185">
                <a:moveTo>
                  <a:pt x="2679" y="8458"/>
                </a:moveTo>
                <a:cubicBezTo>
                  <a:pt x="2587" y="8463"/>
                  <a:pt x="2520" y="8462"/>
                  <a:pt x="2431" y="8483"/>
                </a:cubicBezTo>
                <a:cubicBezTo>
                  <a:pt x="2274" y="8520"/>
                  <a:pt x="2141" y="8588"/>
                  <a:pt x="2009" y="8682"/>
                </a:cubicBezTo>
                <a:cubicBezTo>
                  <a:pt x="1849" y="8796"/>
                  <a:pt x="1806" y="8917"/>
                  <a:pt x="1712" y="9079"/>
                </a:cubicBezTo>
                <a:cubicBezTo>
                  <a:pt x="1634" y="9213"/>
                  <a:pt x="1637" y="9294"/>
                  <a:pt x="1637" y="9451"/>
                </a:cubicBezTo>
                <a:cubicBezTo>
                  <a:pt x="1637" y="9613"/>
                  <a:pt x="1672" y="9773"/>
                  <a:pt x="1736" y="9922"/>
                </a:cubicBezTo>
                <a:cubicBezTo>
                  <a:pt x="1811" y="10097"/>
                  <a:pt x="1938" y="10251"/>
                  <a:pt x="2084" y="10368"/>
                </a:cubicBezTo>
                <a:cubicBezTo>
                  <a:pt x="2215" y="10473"/>
                  <a:pt x="2411" y="10597"/>
                  <a:pt x="2580" y="10616"/>
                </a:cubicBezTo>
                <a:cubicBezTo>
                  <a:pt x="2757" y="10636"/>
                  <a:pt x="2987" y="10607"/>
                  <a:pt x="3150" y="10542"/>
                </a:cubicBezTo>
                <a:cubicBezTo>
                  <a:pt x="3305" y="10480"/>
                  <a:pt x="3512" y="10400"/>
                  <a:pt x="3646" y="10294"/>
                </a:cubicBezTo>
                <a:cubicBezTo>
                  <a:pt x="3762" y="10202"/>
                  <a:pt x="3899" y="10053"/>
                  <a:pt x="3969" y="9922"/>
                </a:cubicBezTo>
                <a:cubicBezTo>
                  <a:pt x="4038" y="9793"/>
                  <a:pt x="4122" y="9599"/>
                  <a:pt x="4118" y="9451"/>
                </a:cubicBezTo>
                <a:cubicBezTo>
                  <a:pt x="4115" y="9339"/>
                  <a:pt x="4088" y="9206"/>
                  <a:pt x="4043" y="9103"/>
                </a:cubicBezTo>
                <a:cubicBezTo>
                  <a:pt x="4010" y="9026"/>
                  <a:pt x="3921" y="8921"/>
                  <a:pt x="3870" y="8855"/>
                </a:cubicBezTo>
                <a:cubicBezTo>
                  <a:pt x="3813" y="8782"/>
                  <a:pt x="3751" y="8744"/>
                  <a:pt x="3671" y="8706"/>
                </a:cubicBezTo>
                <a:cubicBezTo>
                  <a:pt x="3586" y="8665"/>
                  <a:pt x="3507" y="8635"/>
                  <a:pt x="3423" y="8607"/>
                </a:cubicBezTo>
                <a:cubicBezTo>
                  <a:pt x="3317" y="8572"/>
                  <a:pt x="3210" y="8545"/>
                  <a:pt x="3101" y="8533"/>
                </a:cubicBezTo>
                <a:cubicBezTo>
                  <a:pt x="2998" y="8522"/>
                  <a:pt x="2898" y="8536"/>
                  <a:pt x="2803" y="8558"/>
                </a:cubicBezTo>
                <a:cubicBezTo>
                  <a:pt x="2747" y="8571"/>
                  <a:pt x="2712" y="8571"/>
                  <a:pt x="2654" y="8582"/>
                </a:cubicBezTo>
                <a:cubicBezTo>
                  <a:pt x="2594" y="8593"/>
                  <a:pt x="2543" y="8605"/>
                  <a:pt x="2480" y="8607"/>
                </a:cubicBezTo>
                <a:cubicBezTo>
                  <a:pt x="2423" y="8609"/>
                  <a:pt x="2358" y="8612"/>
                  <a:pt x="2307" y="8632"/>
                </a:cubicBezTo>
                <a:cubicBezTo>
                  <a:pt x="2282" y="8632"/>
                  <a:pt x="2274" y="8632"/>
                  <a:pt x="2282" y="8657"/>
                </a:cubicBezTo>
              </a:path>
              <a:path w="6947" h="5185">
                <a:moveTo>
                  <a:pt x="5705" y="12402"/>
                </a:moveTo>
                <a:cubicBezTo>
                  <a:pt x="5705" y="12378"/>
                  <a:pt x="5705" y="12370"/>
                  <a:pt x="5680" y="12378"/>
                </a:cubicBezTo>
              </a:path>
              <a:path w="6947" h="5185">
                <a:moveTo>
                  <a:pt x="5457" y="9649"/>
                </a:moveTo>
                <a:cubicBezTo>
                  <a:pt x="5416" y="9649"/>
                  <a:pt x="5444" y="9662"/>
                  <a:pt x="5407" y="9674"/>
                </a:cubicBezTo>
              </a:path>
              <a:path w="6947" h="5185">
                <a:moveTo>
                  <a:pt x="4589" y="11063"/>
                </a:moveTo>
                <a:cubicBezTo>
                  <a:pt x="4581" y="11063"/>
                  <a:pt x="4572" y="11063"/>
                  <a:pt x="4564" y="11063"/>
                </a:cubicBezTo>
              </a:path>
              <a:path w="6947" h="5185">
                <a:moveTo>
                  <a:pt x="5333" y="7962"/>
                </a:moveTo>
                <a:cubicBezTo>
                  <a:pt x="5321" y="7911"/>
                  <a:pt x="5256" y="7855"/>
                  <a:pt x="5259" y="7789"/>
                </a:cubicBezTo>
                <a:cubicBezTo>
                  <a:pt x="5265" y="7666"/>
                  <a:pt x="5300" y="7510"/>
                  <a:pt x="5333" y="7392"/>
                </a:cubicBezTo>
                <a:cubicBezTo>
                  <a:pt x="5346" y="7344"/>
                  <a:pt x="5401" y="7261"/>
                  <a:pt x="5407" y="7243"/>
                </a:cubicBezTo>
                <a:cubicBezTo>
                  <a:pt x="5407" y="7235"/>
                  <a:pt x="5407" y="7226"/>
                  <a:pt x="5407" y="7218"/>
                </a:cubicBezTo>
                <a:cubicBezTo>
                  <a:pt x="5328" y="7315"/>
                  <a:pt x="5176" y="7472"/>
                  <a:pt x="5085" y="7590"/>
                </a:cubicBezTo>
                <a:cubicBezTo>
                  <a:pt x="4878" y="7858"/>
                  <a:pt x="4673" y="8087"/>
                  <a:pt x="4415" y="8310"/>
                </a:cubicBezTo>
                <a:cubicBezTo>
                  <a:pt x="4181" y="8512"/>
                  <a:pt x="3936" y="8690"/>
                  <a:pt x="3696" y="8880"/>
                </a:cubicBezTo>
                <a:cubicBezTo>
                  <a:pt x="3394" y="9118"/>
                  <a:pt x="3083" y="9359"/>
                  <a:pt x="2803" y="9624"/>
                </a:cubicBezTo>
                <a:cubicBezTo>
                  <a:pt x="2412" y="9994"/>
                  <a:pt x="2067" y="10391"/>
                  <a:pt x="1736" y="10815"/>
                </a:cubicBezTo>
                <a:cubicBezTo>
                  <a:pt x="1632" y="10948"/>
                  <a:pt x="1509" y="11109"/>
                  <a:pt x="1414" y="11237"/>
                </a:cubicBezTo>
                <a:cubicBezTo>
                  <a:pt x="1386" y="11275"/>
                  <a:pt x="1392" y="11273"/>
                  <a:pt x="1364" y="11311"/>
                </a:cubicBezTo>
              </a:path>
              <a:path w="6947" h="5185">
                <a:moveTo>
                  <a:pt x="1662" y="7392"/>
                </a:moveTo>
                <a:cubicBezTo>
                  <a:pt x="1687" y="7367"/>
                  <a:pt x="1695" y="7359"/>
                  <a:pt x="1712" y="7342"/>
                </a:cubicBezTo>
                <a:cubicBezTo>
                  <a:pt x="1805" y="7477"/>
                  <a:pt x="1871" y="7612"/>
                  <a:pt x="1935" y="7764"/>
                </a:cubicBezTo>
                <a:cubicBezTo>
                  <a:pt x="2050" y="8034"/>
                  <a:pt x="2149" y="8310"/>
                  <a:pt x="2257" y="8582"/>
                </a:cubicBezTo>
                <a:cubicBezTo>
                  <a:pt x="2406" y="8959"/>
                  <a:pt x="2574" y="9325"/>
                  <a:pt x="2729" y="9699"/>
                </a:cubicBezTo>
                <a:cubicBezTo>
                  <a:pt x="2862" y="10019"/>
                  <a:pt x="3051" y="10272"/>
                  <a:pt x="3225" y="10567"/>
                </a:cubicBezTo>
                <a:cubicBezTo>
                  <a:pt x="3351" y="10781"/>
                  <a:pt x="3501" y="11007"/>
                  <a:pt x="3597" y="11237"/>
                </a:cubicBezTo>
                <a:cubicBezTo>
                  <a:pt x="3643" y="11348"/>
                  <a:pt x="3693" y="11457"/>
                  <a:pt x="3746" y="1155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15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6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bjective: Students will identify and describe line segments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ocabulary continued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Diagonal: A segment, other than a side, that connects two vertices of a polyg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Example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2666880" y="3048120"/>
            <a:ext cx="1905120" cy="1600200"/>
          </a:xfrm>
          <a:prstGeom prst="pentagon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3657600"/>
            <a:ext cx="1981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3657600"/>
            <a:ext cx="152424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040" y="2419200"/>
            <a:ext cx="1517760" cy="54000"/>
          </a:xfrm>
          <a:custGeom>
            <a:avLst/>
            <a:gdLst/>
            <a:ahLst/>
            <a:rect l="l" t="t" r="r" b="b"/>
            <a:pathLst>
              <a:path w="4218" h="150">
                <a:moveTo>
                  <a:pt x="1687" y="6772"/>
                </a:moveTo>
                <a:cubicBezTo>
                  <a:pt x="1696" y="6776"/>
                  <a:pt x="1754" y="6810"/>
                  <a:pt x="1786" y="6821"/>
                </a:cubicBezTo>
                <a:cubicBezTo>
                  <a:pt x="1818" y="6832"/>
                  <a:pt x="1880" y="6865"/>
                  <a:pt x="1910" y="6871"/>
                </a:cubicBezTo>
                <a:cubicBezTo>
                  <a:pt x="2059" y="6899"/>
                  <a:pt x="2193" y="6840"/>
                  <a:pt x="2332" y="6821"/>
                </a:cubicBezTo>
                <a:cubicBezTo>
                  <a:pt x="2398" y="6812"/>
                  <a:pt x="2466" y="6811"/>
                  <a:pt x="2530" y="6796"/>
                </a:cubicBezTo>
                <a:cubicBezTo>
                  <a:pt x="2590" y="6782"/>
                  <a:pt x="2600" y="6775"/>
                  <a:pt x="2679" y="6772"/>
                </a:cubicBezTo>
                <a:cubicBezTo>
                  <a:pt x="2960" y="6762"/>
                  <a:pt x="3250" y="6773"/>
                  <a:pt x="3522" y="6796"/>
                </a:cubicBezTo>
                <a:cubicBezTo>
                  <a:pt x="3549" y="6798"/>
                  <a:pt x="3623" y="6796"/>
                  <a:pt x="3671" y="6796"/>
                </a:cubicBezTo>
                <a:cubicBezTo>
                  <a:pt x="3807" y="6796"/>
                  <a:pt x="3967" y="6763"/>
                  <a:pt x="4093" y="6772"/>
                </a:cubicBezTo>
                <a:cubicBezTo>
                  <a:pt x="4187" y="6779"/>
                  <a:pt x="4268" y="6790"/>
                  <a:pt x="4366" y="6796"/>
                </a:cubicBezTo>
                <a:cubicBezTo>
                  <a:pt x="4789" y="6821"/>
                  <a:pt x="5240" y="6807"/>
                  <a:pt x="5655" y="6772"/>
                </a:cubicBezTo>
                <a:cubicBezTo>
                  <a:pt x="5770" y="6762"/>
                  <a:pt x="5823" y="6766"/>
                  <a:pt x="5904" y="6722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68280" y="6562800"/>
            <a:ext cx="180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3522" y="18256"/>
                </a:moveTo>
                <a:cubicBezTo>
                  <a:pt x="3522" y="18248"/>
                  <a:pt x="3522" y="18239"/>
                  <a:pt x="3522" y="1823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25840" y="2973240"/>
            <a:ext cx="3490920" cy="1785960"/>
          </a:xfrm>
          <a:custGeom>
            <a:avLst/>
            <a:gdLst/>
            <a:ahLst/>
            <a:rect l="l" t="t" r="r" b="b"/>
            <a:pathLst>
              <a:path w="9699" h="4962">
                <a:moveTo>
                  <a:pt x="7417" y="10145"/>
                </a:moveTo>
                <a:cubicBezTo>
                  <a:pt x="7487" y="10121"/>
                  <a:pt x="7401" y="10109"/>
                  <a:pt x="7392" y="10120"/>
                </a:cubicBezTo>
                <a:cubicBezTo>
                  <a:pt x="7365" y="10154"/>
                  <a:pt x="7294" y="10195"/>
                  <a:pt x="7392" y="10220"/>
                </a:cubicBezTo>
                <a:cubicBezTo>
                  <a:pt x="7459" y="10237"/>
                  <a:pt x="7478" y="10172"/>
                  <a:pt x="7491" y="10120"/>
                </a:cubicBezTo>
                <a:cubicBezTo>
                  <a:pt x="7491" y="10112"/>
                  <a:pt x="7491" y="10104"/>
                  <a:pt x="7491" y="10096"/>
                </a:cubicBezTo>
                <a:cubicBezTo>
                  <a:pt x="7466" y="10096"/>
                  <a:pt x="7417" y="10071"/>
                  <a:pt x="7417" y="10071"/>
                </a:cubicBezTo>
                <a:cubicBezTo>
                  <a:pt x="7378" y="10125"/>
                  <a:pt x="7439" y="10228"/>
                  <a:pt x="7466" y="10269"/>
                </a:cubicBezTo>
                <a:cubicBezTo>
                  <a:pt x="7510" y="10183"/>
                  <a:pt x="7509" y="10192"/>
                  <a:pt x="7491" y="10096"/>
                </a:cubicBezTo>
                <a:cubicBezTo>
                  <a:pt x="7387" y="10080"/>
                  <a:pt x="7386" y="10196"/>
                  <a:pt x="7441" y="10294"/>
                </a:cubicBezTo>
                <a:cubicBezTo>
                  <a:pt x="7521" y="10437"/>
                  <a:pt x="7577" y="10239"/>
                  <a:pt x="7565" y="10170"/>
                </a:cubicBezTo>
                <a:cubicBezTo>
                  <a:pt x="7557" y="10153"/>
                  <a:pt x="7549" y="10137"/>
                  <a:pt x="7541" y="10120"/>
                </a:cubicBezTo>
                <a:cubicBezTo>
                  <a:pt x="7480" y="10135"/>
                  <a:pt x="7471" y="10205"/>
                  <a:pt x="7491" y="10269"/>
                </a:cubicBezTo>
                <a:cubicBezTo>
                  <a:pt x="7499" y="10277"/>
                  <a:pt x="7508" y="10286"/>
                  <a:pt x="7516" y="10294"/>
                </a:cubicBezTo>
              </a:path>
              <a:path w="9699" h="4962">
                <a:moveTo>
                  <a:pt x="7466" y="10170"/>
                </a:moveTo>
                <a:cubicBezTo>
                  <a:pt x="7466" y="10187"/>
                  <a:pt x="7466" y="10203"/>
                  <a:pt x="7466" y="10220"/>
                </a:cubicBezTo>
                <a:cubicBezTo>
                  <a:pt x="7504" y="10211"/>
                  <a:pt x="7580" y="10144"/>
                  <a:pt x="7541" y="10096"/>
                </a:cubicBezTo>
                <a:cubicBezTo>
                  <a:pt x="7477" y="10019"/>
                  <a:pt x="7420" y="10093"/>
                  <a:pt x="7392" y="10145"/>
                </a:cubicBezTo>
                <a:cubicBezTo>
                  <a:pt x="7378" y="10172"/>
                  <a:pt x="7374" y="10324"/>
                  <a:pt x="7441" y="10269"/>
                </a:cubicBezTo>
                <a:cubicBezTo>
                  <a:pt x="7466" y="10220"/>
                  <a:pt x="7475" y="10203"/>
                  <a:pt x="7491" y="10170"/>
                </a:cubicBezTo>
                <a:cubicBezTo>
                  <a:pt x="7477" y="10128"/>
                  <a:pt x="7478" y="10142"/>
                  <a:pt x="7441" y="10170"/>
                </a:cubicBezTo>
              </a:path>
              <a:path w="9699" h="4962">
                <a:moveTo>
                  <a:pt x="7541" y="10220"/>
                </a:moveTo>
                <a:cubicBezTo>
                  <a:pt x="7482" y="10220"/>
                  <a:pt x="7504" y="10213"/>
                  <a:pt x="7466" y="10269"/>
                </a:cubicBezTo>
              </a:path>
              <a:path w="9699" h="4962">
                <a:moveTo>
                  <a:pt x="7317" y="10145"/>
                </a:moveTo>
                <a:cubicBezTo>
                  <a:pt x="7317" y="10120"/>
                  <a:pt x="7317" y="10112"/>
                  <a:pt x="7293" y="10120"/>
                </a:cubicBezTo>
              </a:path>
              <a:path w="9699" h="4962">
                <a:moveTo>
                  <a:pt x="14536" y="9153"/>
                </a:moveTo>
                <a:cubicBezTo>
                  <a:pt x="14536" y="9092"/>
                  <a:pt x="14527" y="9077"/>
                  <a:pt x="14560" y="9054"/>
                </a:cubicBezTo>
                <a:cubicBezTo>
                  <a:pt x="14560" y="9255"/>
                  <a:pt x="14572" y="9474"/>
                  <a:pt x="14585" y="9674"/>
                </a:cubicBezTo>
                <a:cubicBezTo>
                  <a:pt x="14595" y="9820"/>
                  <a:pt x="14610" y="9951"/>
                  <a:pt x="14610" y="10096"/>
                </a:cubicBezTo>
              </a:path>
              <a:path w="9699" h="4962">
                <a:moveTo>
                  <a:pt x="7541" y="10220"/>
                </a:moveTo>
                <a:cubicBezTo>
                  <a:pt x="7533" y="10220"/>
                  <a:pt x="7524" y="10220"/>
                  <a:pt x="7516" y="10220"/>
                </a:cubicBezTo>
                <a:cubicBezTo>
                  <a:pt x="7590" y="10273"/>
                  <a:pt x="7613" y="10293"/>
                  <a:pt x="7714" y="10319"/>
                </a:cubicBezTo>
                <a:cubicBezTo>
                  <a:pt x="7797" y="10340"/>
                  <a:pt x="7855" y="10360"/>
                  <a:pt x="7938" y="10393"/>
                </a:cubicBezTo>
                <a:cubicBezTo>
                  <a:pt x="7993" y="10415"/>
                  <a:pt x="8058" y="10425"/>
                  <a:pt x="8111" y="10443"/>
                </a:cubicBezTo>
                <a:cubicBezTo>
                  <a:pt x="8125" y="10452"/>
                  <a:pt x="8156" y="10472"/>
                  <a:pt x="8186" y="10492"/>
                </a:cubicBezTo>
                <a:cubicBezTo>
                  <a:pt x="8206" y="10505"/>
                  <a:pt x="8234" y="10523"/>
                  <a:pt x="8260" y="10542"/>
                </a:cubicBezTo>
                <a:cubicBezTo>
                  <a:pt x="8315" y="10582"/>
                  <a:pt x="8358" y="10619"/>
                  <a:pt x="8409" y="10666"/>
                </a:cubicBezTo>
                <a:cubicBezTo>
                  <a:pt x="8421" y="10677"/>
                  <a:pt x="8447" y="10705"/>
                  <a:pt x="8458" y="10716"/>
                </a:cubicBezTo>
                <a:cubicBezTo>
                  <a:pt x="8504" y="10745"/>
                  <a:pt x="8575" y="10782"/>
                  <a:pt x="8632" y="10815"/>
                </a:cubicBezTo>
                <a:cubicBezTo>
                  <a:pt x="8677" y="10859"/>
                  <a:pt x="8687" y="10875"/>
                  <a:pt x="8731" y="10864"/>
                </a:cubicBezTo>
                <a:cubicBezTo>
                  <a:pt x="8784" y="10909"/>
                  <a:pt x="8830" y="10947"/>
                  <a:pt x="8905" y="10988"/>
                </a:cubicBezTo>
                <a:cubicBezTo>
                  <a:pt x="8993" y="11036"/>
                  <a:pt x="9069" y="11088"/>
                  <a:pt x="9153" y="11137"/>
                </a:cubicBezTo>
                <a:cubicBezTo>
                  <a:pt x="9206" y="11168"/>
                  <a:pt x="9249" y="11176"/>
                  <a:pt x="9302" y="11212"/>
                </a:cubicBezTo>
                <a:cubicBezTo>
                  <a:pt x="9355" y="11249"/>
                  <a:pt x="9408" y="11272"/>
                  <a:pt x="9451" y="11311"/>
                </a:cubicBezTo>
                <a:cubicBezTo>
                  <a:pt x="9525" y="11378"/>
                  <a:pt x="9593" y="11437"/>
                  <a:pt x="9674" y="11485"/>
                </a:cubicBezTo>
                <a:cubicBezTo>
                  <a:pt x="9730" y="11518"/>
                  <a:pt x="9772" y="11546"/>
                  <a:pt x="9823" y="11584"/>
                </a:cubicBezTo>
                <a:cubicBezTo>
                  <a:pt x="9866" y="11616"/>
                  <a:pt x="9908" y="11630"/>
                  <a:pt x="9947" y="11658"/>
                </a:cubicBezTo>
                <a:cubicBezTo>
                  <a:pt x="9998" y="11695"/>
                  <a:pt x="10043" y="11748"/>
                  <a:pt x="10096" y="11782"/>
                </a:cubicBezTo>
                <a:cubicBezTo>
                  <a:pt x="10132" y="11805"/>
                  <a:pt x="10180" y="11828"/>
                  <a:pt x="10220" y="11857"/>
                </a:cubicBezTo>
                <a:cubicBezTo>
                  <a:pt x="10259" y="11885"/>
                  <a:pt x="10310" y="11908"/>
                  <a:pt x="10344" y="11931"/>
                </a:cubicBezTo>
                <a:cubicBezTo>
                  <a:pt x="10384" y="11957"/>
                  <a:pt x="10415" y="12001"/>
                  <a:pt x="10468" y="12030"/>
                </a:cubicBezTo>
                <a:cubicBezTo>
                  <a:pt x="10509" y="12052"/>
                  <a:pt x="10548" y="12085"/>
                  <a:pt x="10592" y="12105"/>
                </a:cubicBezTo>
                <a:cubicBezTo>
                  <a:pt x="10666" y="12139"/>
                  <a:pt x="10741" y="12168"/>
                  <a:pt x="10815" y="12204"/>
                </a:cubicBezTo>
                <a:cubicBezTo>
                  <a:pt x="10866" y="12229"/>
                  <a:pt x="10916" y="12283"/>
                  <a:pt x="10964" y="12303"/>
                </a:cubicBezTo>
                <a:cubicBezTo>
                  <a:pt x="10988" y="12303"/>
                  <a:pt x="10997" y="12303"/>
                  <a:pt x="11013" y="12303"/>
                </a:cubicBezTo>
                <a:cubicBezTo>
                  <a:pt x="11036" y="12338"/>
                  <a:pt x="11013" y="12320"/>
                  <a:pt x="11063" y="12328"/>
                </a:cubicBezTo>
                <a:cubicBezTo>
                  <a:pt x="11078" y="12341"/>
                  <a:pt x="11104" y="12379"/>
                  <a:pt x="11137" y="12402"/>
                </a:cubicBezTo>
                <a:cubicBezTo>
                  <a:pt x="11178" y="12431"/>
                  <a:pt x="11239" y="12467"/>
                  <a:pt x="11286" y="12502"/>
                </a:cubicBezTo>
                <a:cubicBezTo>
                  <a:pt x="11324" y="12530"/>
                  <a:pt x="11350" y="12550"/>
                  <a:pt x="11385" y="12576"/>
                </a:cubicBezTo>
                <a:cubicBezTo>
                  <a:pt x="11422" y="12604"/>
                  <a:pt x="11451" y="12623"/>
                  <a:pt x="11485" y="12650"/>
                </a:cubicBezTo>
                <a:cubicBezTo>
                  <a:pt x="11533" y="12687"/>
                  <a:pt x="11560" y="12713"/>
                  <a:pt x="11609" y="12750"/>
                </a:cubicBezTo>
                <a:cubicBezTo>
                  <a:pt x="11647" y="12778"/>
                  <a:pt x="11697" y="12803"/>
                  <a:pt x="11733" y="12824"/>
                </a:cubicBezTo>
                <a:cubicBezTo>
                  <a:pt x="11755" y="12847"/>
                  <a:pt x="11760" y="12855"/>
                  <a:pt x="11782" y="12849"/>
                </a:cubicBezTo>
              </a:path>
              <a:path w="9699" h="4962">
                <a:moveTo>
                  <a:pt x="15180" y="9054"/>
                </a:moveTo>
                <a:cubicBezTo>
                  <a:pt x="15180" y="9002"/>
                  <a:pt x="15180" y="9308"/>
                  <a:pt x="15180" y="9327"/>
                </a:cubicBezTo>
                <a:cubicBezTo>
                  <a:pt x="15180" y="9477"/>
                  <a:pt x="15185" y="9653"/>
                  <a:pt x="15230" y="9798"/>
                </a:cubicBezTo>
                <a:cubicBezTo>
                  <a:pt x="15245" y="9846"/>
                  <a:pt x="15245" y="9910"/>
                  <a:pt x="15280" y="9922"/>
                </a:cubicBezTo>
              </a:path>
              <a:path w="9699" h="4962">
                <a:moveTo>
                  <a:pt x="10120" y="8434"/>
                </a:moveTo>
                <a:cubicBezTo>
                  <a:pt x="10120" y="8392"/>
                  <a:pt x="10115" y="8374"/>
                  <a:pt x="10071" y="8359"/>
                </a:cubicBezTo>
                <a:cubicBezTo>
                  <a:pt x="9989" y="8332"/>
                  <a:pt x="9985" y="8452"/>
                  <a:pt x="9996" y="8508"/>
                </a:cubicBezTo>
                <a:cubicBezTo>
                  <a:pt x="10004" y="8525"/>
                  <a:pt x="10013" y="8541"/>
                  <a:pt x="10021" y="8558"/>
                </a:cubicBezTo>
                <a:cubicBezTo>
                  <a:pt x="10091" y="8540"/>
                  <a:pt x="10113" y="8480"/>
                  <a:pt x="10120" y="8409"/>
                </a:cubicBezTo>
                <a:cubicBezTo>
                  <a:pt x="10127" y="8340"/>
                  <a:pt x="10108" y="8270"/>
                  <a:pt x="10021" y="8285"/>
                </a:cubicBezTo>
                <a:cubicBezTo>
                  <a:pt x="9912" y="8303"/>
                  <a:pt x="9918" y="8383"/>
                  <a:pt x="9947" y="8458"/>
                </a:cubicBezTo>
                <a:cubicBezTo>
                  <a:pt x="10022" y="8473"/>
                  <a:pt x="10078" y="8476"/>
                  <a:pt x="10120" y="8384"/>
                </a:cubicBezTo>
                <a:cubicBezTo>
                  <a:pt x="10140" y="8307"/>
                  <a:pt x="10164" y="8289"/>
                  <a:pt x="10120" y="8260"/>
                </a:cubicBezTo>
                <a:cubicBezTo>
                  <a:pt x="10063" y="8267"/>
                  <a:pt x="9917" y="8331"/>
                  <a:pt x="10021" y="8409"/>
                </a:cubicBezTo>
                <a:cubicBezTo>
                  <a:pt x="10065" y="8442"/>
                  <a:pt x="10079" y="8381"/>
                  <a:pt x="10096" y="8359"/>
                </a:cubicBezTo>
              </a:path>
              <a:path w="9699" h="4962">
                <a:moveTo>
                  <a:pt x="10170" y="8483"/>
                </a:moveTo>
                <a:lnTo>
                  <a:pt x="10170" y="8483"/>
                </a:lnTo>
              </a:path>
              <a:path w="9699" h="4962">
                <a:moveTo>
                  <a:pt x="10071" y="8409"/>
                </a:moveTo>
                <a:cubicBezTo>
                  <a:pt x="10092" y="8476"/>
                  <a:pt x="10116" y="8538"/>
                  <a:pt x="10145" y="8607"/>
                </a:cubicBezTo>
                <a:cubicBezTo>
                  <a:pt x="10176" y="8682"/>
                  <a:pt x="10208" y="8756"/>
                  <a:pt x="10244" y="8830"/>
                </a:cubicBezTo>
                <a:cubicBezTo>
                  <a:pt x="10270" y="8883"/>
                  <a:pt x="10310" y="8963"/>
                  <a:pt x="10344" y="9004"/>
                </a:cubicBezTo>
                <a:cubicBezTo>
                  <a:pt x="10400" y="9072"/>
                  <a:pt x="10424" y="9125"/>
                  <a:pt x="10468" y="9203"/>
                </a:cubicBezTo>
                <a:cubicBezTo>
                  <a:pt x="10522" y="9300"/>
                  <a:pt x="10566" y="9397"/>
                  <a:pt x="10616" y="9500"/>
                </a:cubicBezTo>
                <a:cubicBezTo>
                  <a:pt x="10664" y="9598"/>
                  <a:pt x="10700" y="9695"/>
                  <a:pt x="10740" y="9798"/>
                </a:cubicBezTo>
                <a:cubicBezTo>
                  <a:pt x="10772" y="9881"/>
                  <a:pt x="10807" y="9963"/>
                  <a:pt x="10840" y="10046"/>
                </a:cubicBezTo>
                <a:cubicBezTo>
                  <a:pt x="10870" y="10121"/>
                  <a:pt x="10894" y="10195"/>
                  <a:pt x="10914" y="10269"/>
                </a:cubicBezTo>
                <a:cubicBezTo>
                  <a:pt x="10933" y="10341"/>
                  <a:pt x="10947" y="10417"/>
                  <a:pt x="10964" y="10492"/>
                </a:cubicBezTo>
                <a:cubicBezTo>
                  <a:pt x="11006" y="10678"/>
                  <a:pt x="11048" y="10860"/>
                  <a:pt x="11112" y="11038"/>
                </a:cubicBezTo>
                <a:cubicBezTo>
                  <a:pt x="11142" y="11120"/>
                  <a:pt x="11187" y="11204"/>
                  <a:pt x="11212" y="11286"/>
                </a:cubicBezTo>
                <a:cubicBezTo>
                  <a:pt x="11230" y="11346"/>
                  <a:pt x="11274" y="11445"/>
                  <a:pt x="11286" y="11509"/>
                </a:cubicBezTo>
                <a:cubicBezTo>
                  <a:pt x="11311" y="11642"/>
                  <a:pt x="11349" y="11752"/>
                  <a:pt x="11410" y="11881"/>
                </a:cubicBezTo>
                <a:cubicBezTo>
                  <a:pt x="11460" y="11988"/>
                  <a:pt x="11507" y="12099"/>
                  <a:pt x="11559" y="12204"/>
                </a:cubicBezTo>
                <a:cubicBezTo>
                  <a:pt x="11597" y="12281"/>
                  <a:pt x="11630" y="12345"/>
                  <a:pt x="11658" y="12427"/>
                </a:cubicBezTo>
                <a:cubicBezTo>
                  <a:pt x="11678" y="12485"/>
                  <a:pt x="11717" y="12559"/>
                  <a:pt x="11733" y="12626"/>
                </a:cubicBezTo>
                <a:cubicBezTo>
                  <a:pt x="11751" y="12703"/>
                  <a:pt x="11791" y="12782"/>
                  <a:pt x="11807" y="12849"/>
                </a:cubicBezTo>
                <a:cubicBezTo>
                  <a:pt x="11807" y="12874"/>
                  <a:pt x="11807" y="12882"/>
                  <a:pt x="11807" y="12898"/>
                </a:cubicBezTo>
              </a:path>
              <a:path w="9699" h="4962">
                <a:moveTo>
                  <a:pt x="15602" y="8855"/>
                </a:moveTo>
                <a:cubicBezTo>
                  <a:pt x="15602" y="8824"/>
                  <a:pt x="15647" y="9282"/>
                  <a:pt x="15652" y="9327"/>
                </a:cubicBezTo>
                <a:cubicBezTo>
                  <a:pt x="15669" y="9491"/>
                  <a:pt x="15701" y="9658"/>
                  <a:pt x="15701" y="9823"/>
                </a:cubicBezTo>
                <a:cubicBezTo>
                  <a:pt x="15701" y="9815"/>
                  <a:pt x="15701" y="9806"/>
                  <a:pt x="15701" y="9798"/>
                </a:cubicBezTo>
              </a:path>
              <a:path w="9699" h="4962">
                <a:moveTo>
                  <a:pt x="10170" y="8409"/>
                </a:moveTo>
                <a:cubicBezTo>
                  <a:pt x="10152" y="8446"/>
                  <a:pt x="10114" y="8493"/>
                  <a:pt x="10096" y="8533"/>
                </a:cubicBezTo>
                <a:cubicBezTo>
                  <a:pt x="10070" y="8592"/>
                  <a:pt x="10034" y="8669"/>
                  <a:pt x="10021" y="8731"/>
                </a:cubicBezTo>
                <a:cubicBezTo>
                  <a:pt x="9998" y="8840"/>
                  <a:pt x="9977" y="8941"/>
                  <a:pt x="9947" y="9054"/>
                </a:cubicBezTo>
                <a:cubicBezTo>
                  <a:pt x="9910" y="9191"/>
                  <a:pt x="9864" y="9282"/>
                  <a:pt x="9847" y="9426"/>
                </a:cubicBezTo>
                <a:cubicBezTo>
                  <a:pt x="9836" y="9525"/>
                  <a:pt x="9815" y="9628"/>
                  <a:pt x="9798" y="9723"/>
                </a:cubicBezTo>
                <a:cubicBezTo>
                  <a:pt x="9784" y="9802"/>
                  <a:pt x="9756" y="9894"/>
                  <a:pt x="9748" y="9971"/>
                </a:cubicBezTo>
                <a:cubicBezTo>
                  <a:pt x="9737" y="10083"/>
                  <a:pt x="9704" y="10159"/>
                  <a:pt x="9674" y="10269"/>
                </a:cubicBezTo>
                <a:cubicBezTo>
                  <a:pt x="9647" y="10369"/>
                  <a:pt x="9629" y="10464"/>
                  <a:pt x="9599" y="10567"/>
                </a:cubicBezTo>
                <a:cubicBezTo>
                  <a:pt x="9566" y="10682"/>
                  <a:pt x="9538" y="10801"/>
                  <a:pt x="9500" y="10914"/>
                </a:cubicBezTo>
                <a:cubicBezTo>
                  <a:pt x="9446" y="11072"/>
                  <a:pt x="9371" y="11224"/>
                  <a:pt x="9327" y="11385"/>
                </a:cubicBezTo>
                <a:cubicBezTo>
                  <a:pt x="9298" y="11490"/>
                  <a:pt x="9270" y="11608"/>
                  <a:pt x="9227" y="11708"/>
                </a:cubicBezTo>
                <a:cubicBezTo>
                  <a:pt x="9185" y="11806"/>
                  <a:pt x="9142" y="11903"/>
                  <a:pt x="9103" y="12005"/>
                </a:cubicBezTo>
                <a:cubicBezTo>
                  <a:pt x="9079" y="12066"/>
                  <a:pt x="9048" y="12138"/>
                  <a:pt x="9029" y="12204"/>
                </a:cubicBezTo>
                <a:cubicBezTo>
                  <a:pt x="9008" y="12277"/>
                  <a:pt x="9002" y="12356"/>
                  <a:pt x="8979" y="12427"/>
                </a:cubicBezTo>
                <a:cubicBezTo>
                  <a:pt x="8945" y="12530"/>
                  <a:pt x="8878" y="12605"/>
                  <a:pt x="8830" y="12700"/>
                </a:cubicBezTo>
                <a:cubicBezTo>
                  <a:pt x="8814" y="12732"/>
                  <a:pt x="8761" y="12837"/>
                  <a:pt x="8756" y="12849"/>
                </a:cubicBezTo>
                <a:cubicBezTo>
                  <a:pt x="8740" y="12888"/>
                  <a:pt x="8718" y="12955"/>
                  <a:pt x="8706" y="12998"/>
                </a:cubicBezTo>
                <a:cubicBezTo>
                  <a:pt x="8696" y="13035"/>
                  <a:pt x="8713" y="13010"/>
                  <a:pt x="8706" y="13047"/>
                </a:cubicBezTo>
              </a:path>
              <a:path w="9699" h="4962">
                <a:moveTo>
                  <a:pt x="16098" y="8979"/>
                </a:moveTo>
                <a:cubicBezTo>
                  <a:pt x="16132" y="9116"/>
                  <a:pt x="16133" y="9299"/>
                  <a:pt x="16148" y="9451"/>
                </a:cubicBezTo>
                <a:cubicBezTo>
                  <a:pt x="16163" y="9599"/>
                  <a:pt x="16197" y="9748"/>
                  <a:pt x="16197" y="9897"/>
                </a:cubicBezTo>
                <a:cubicBezTo>
                  <a:pt x="16197" y="9905"/>
                  <a:pt x="16197" y="9914"/>
                  <a:pt x="16197" y="9922"/>
                </a:cubicBezTo>
              </a:path>
              <a:path w="9699" h="4962">
                <a:moveTo>
                  <a:pt x="12750" y="10145"/>
                </a:moveTo>
                <a:cubicBezTo>
                  <a:pt x="12750" y="10101"/>
                  <a:pt x="12742" y="10032"/>
                  <a:pt x="12725" y="9996"/>
                </a:cubicBezTo>
                <a:cubicBezTo>
                  <a:pt x="12717" y="9988"/>
                  <a:pt x="12708" y="9979"/>
                  <a:pt x="12700" y="9971"/>
                </a:cubicBezTo>
                <a:cubicBezTo>
                  <a:pt x="12597" y="9986"/>
                  <a:pt x="12565" y="10060"/>
                  <a:pt x="12576" y="10170"/>
                </a:cubicBezTo>
                <a:cubicBezTo>
                  <a:pt x="12598" y="10387"/>
                  <a:pt x="12805" y="10095"/>
                  <a:pt x="12824" y="10021"/>
                </a:cubicBezTo>
                <a:cubicBezTo>
                  <a:pt x="12844" y="9942"/>
                  <a:pt x="12828" y="9899"/>
                  <a:pt x="12774" y="9872"/>
                </a:cubicBezTo>
                <a:cubicBezTo>
                  <a:pt x="12674" y="9936"/>
                  <a:pt x="12580" y="10059"/>
                  <a:pt x="12675" y="10195"/>
                </a:cubicBezTo>
                <a:cubicBezTo>
                  <a:pt x="12793" y="10363"/>
                  <a:pt x="12855" y="10059"/>
                  <a:pt x="12849" y="9996"/>
                </a:cubicBezTo>
                <a:cubicBezTo>
                  <a:pt x="12838" y="9871"/>
                  <a:pt x="12792" y="9931"/>
                  <a:pt x="12725" y="9971"/>
                </a:cubicBezTo>
                <a:cubicBezTo>
                  <a:pt x="12723" y="9980"/>
                  <a:pt x="12668" y="10232"/>
                  <a:pt x="12774" y="10145"/>
                </a:cubicBezTo>
                <a:cubicBezTo>
                  <a:pt x="12813" y="10113"/>
                  <a:pt x="12869" y="9914"/>
                  <a:pt x="12774" y="10046"/>
                </a:cubicBezTo>
                <a:cubicBezTo>
                  <a:pt x="12755" y="10087"/>
                  <a:pt x="12747" y="10093"/>
                  <a:pt x="12750" y="10120"/>
                </a:cubicBezTo>
              </a:path>
              <a:path w="9699" h="4962">
                <a:moveTo>
                  <a:pt x="12725" y="10021"/>
                </a:moveTo>
                <a:cubicBezTo>
                  <a:pt x="12677" y="10018"/>
                  <a:pt x="12722" y="9949"/>
                  <a:pt x="12650" y="9971"/>
                </a:cubicBezTo>
                <a:cubicBezTo>
                  <a:pt x="12603" y="9986"/>
                  <a:pt x="12566" y="10028"/>
                  <a:pt x="12526" y="10046"/>
                </a:cubicBezTo>
                <a:cubicBezTo>
                  <a:pt x="12482" y="10066"/>
                  <a:pt x="12448" y="10100"/>
                  <a:pt x="12427" y="10120"/>
                </a:cubicBezTo>
                <a:cubicBezTo>
                  <a:pt x="12413" y="10133"/>
                  <a:pt x="12371" y="10153"/>
                  <a:pt x="12353" y="10170"/>
                </a:cubicBezTo>
                <a:cubicBezTo>
                  <a:pt x="12300" y="10220"/>
                  <a:pt x="12336" y="10213"/>
                  <a:pt x="12254" y="10269"/>
                </a:cubicBezTo>
                <a:cubicBezTo>
                  <a:pt x="12179" y="10320"/>
                  <a:pt x="12161" y="10329"/>
                  <a:pt x="12080" y="10368"/>
                </a:cubicBezTo>
                <a:cubicBezTo>
                  <a:pt x="12022" y="10395"/>
                  <a:pt x="11955" y="10419"/>
                  <a:pt x="11906" y="10443"/>
                </a:cubicBezTo>
                <a:cubicBezTo>
                  <a:pt x="11825" y="10483"/>
                  <a:pt x="11742" y="10546"/>
                  <a:pt x="11658" y="10592"/>
                </a:cubicBezTo>
                <a:cubicBezTo>
                  <a:pt x="11606" y="10621"/>
                  <a:pt x="11562" y="10655"/>
                  <a:pt x="11509" y="10691"/>
                </a:cubicBezTo>
                <a:cubicBezTo>
                  <a:pt x="11390" y="10771"/>
                  <a:pt x="11274" y="10854"/>
                  <a:pt x="11162" y="10939"/>
                </a:cubicBezTo>
                <a:cubicBezTo>
                  <a:pt x="11087" y="10996"/>
                  <a:pt x="11016" y="11055"/>
                  <a:pt x="10939" y="11112"/>
                </a:cubicBezTo>
                <a:cubicBezTo>
                  <a:pt x="10812" y="11206"/>
                  <a:pt x="10683" y="11304"/>
                  <a:pt x="10567" y="11410"/>
                </a:cubicBezTo>
                <a:cubicBezTo>
                  <a:pt x="10452" y="11515"/>
                  <a:pt x="10334" y="11607"/>
                  <a:pt x="10220" y="11708"/>
                </a:cubicBezTo>
                <a:cubicBezTo>
                  <a:pt x="10164" y="11758"/>
                  <a:pt x="10099" y="11808"/>
                  <a:pt x="10046" y="11857"/>
                </a:cubicBezTo>
                <a:cubicBezTo>
                  <a:pt x="9973" y="11925"/>
                  <a:pt x="9906" y="11981"/>
                  <a:pt x="9823" y="12030"/>
                </a:cubicBezTo>
                <a:cubicBezTo>
                  <a:pt x="9761" y="12066"/>
                  <a:pt x="9708" y="12120"/>
                  <a:pt x="9649" y="12154"/>
                </a:cubicBezTo>
                <a:cubicBezTo>
                  <a:pt x="9596" y="12184"/>
                  <a:pt x="9515" y="12195"/>
                  <a:pt x="9451" y="12229"/>
                </a:cubicBezTo>
                <a:cubicBezTo>
                  <a:pt x="9411" y="12251"/>
                  <a:pt x="9355" y="12286"/>
                  <a:pt x="9302" y="12328"/>
                </a:cubicBezTo>
                <a:cubicBezTo>
                  <a:pt x="9238" y="12379"/>
                  <a:pt x="9201" y="12441"/>
                  <a:pt x="9153" y="12502"/>
                </a:cubicBezTo>
                <a:cubicBezTo>
                  <a:pt x="9084" y="12589"/>
                  <a:pt x="9011" y="12670"/>
                  <a:pt x="8930" y="12750"/>
                </a:cubicBezTo>
                <a:cubicBezTo>
                  <a:pt x="8899" y="12781"/>
                  <a:pt x="8847" y="12837"/>
                  <a:pt x="8806" y="12874"/>
                </a:cubicBezTo>
                <a:cubicBezTo>
                  <a:pt x="8756" y="12919"/>
                  <a:pt x="8703" y="12949"/>
                  <a:pt x="8657" y="12998"/>
                </a:cubicBezTo>
                <a:cubicBezTo>
                  <a:pt x="8613" y="13045"/>
                  <a:pt x="8602" y="13092"/>
                  <a:pt x="8558" y="13146"/>
                </a:cubicBezTo>
                <a:cubicBezTo>
                  <a:pt x="8501" y="13216"/>
                  <a:pt x="8592" y="13114"/>
                  <a:pt x="8632" y="13097"/>
                </a:cubicBezTo>
              </a:path>
              <a:path w="9699" h="4962">
                <a:moveTo>
                  <a:pt x="13618" y="9252"/>
                </a:moveTo>
                <a:cubicBezTo>
                  <a:pt x="13618" y="8855"/>
                  <a:pt x="13885" y="9106"/>
                  <a:pt x="14436" y="10021"/>
                </a:cubicBezTo>
              </a:path>
              <a:path w="9699" h="4962">
                <a:moveTo>
                  <a:pt x="14288" y="9103"/>
                </a:moveTo>
                <a:cubicBezTo>
                  <a:pt x="14348" y="9080"/>
                  <a:pt x="14348" y="9096"/>
                  <a:pt x="14412" y="9103"/>
                </a:cubicBezTo>
                <a:cubicBezTo>
                  <a:pt x="14629" y="9128"/>
                  <a:pt x="14845" y="9174"/>
                  <a:pt x="15056" y="9227"/>
                </a:cubicBezTo>
                <a:cubicBezTo>
                  <a:pt x="15339" y="9298"/>
                  <a:pt x="15592" y="9419"/>
                  <a:pt x="15850" y="9550"/>
                </a:cubicBezTo>
                <a:cubicBezTo>
                  <a:pt x="16113" y="9684"/>
                  <a:pt x="16382" y="9812"/>
                  <a:pt x="16644" y="9947"/>
                </a:cubicBezTo>
                <a:cubicBezTo>
                  <a:pt x="16750" y="10002"/>
                  <a:pt x="16877" y="10080"/>
                  <a:pt x="16966" y="10145"/>
                </a:cubicBezTo>
                <a:cubicBezTo>
                  <a:pt x="16974" y="10153"/>
                  <a:pt x="16983" y="10162"/>
                  <a:pt x="16991" y="10170"/>
                </a:cubicBezTo>
              </a:path>
              <a:path w="9699" h="4962">
                <a:moveTo>
                  <a:pt x="11832" y="12948"/>
                </a:moveTo>
                <a:cubicBezTo>
                  <a:pt x="11766" y="12948"/>
                  <a:pt x="11741" y="12930"/>
                  <a:pt x="11708" y="12998"/>
                </a:cubicBezTo>
                <a:cubicBezTo>
                  <a:pt x="11688" y="13058"/>
                  <a:pt x="11669" y="13073"/>
                  <a:pt x="11708" y="13097"/>
                </a:cubicBezTo>
                <a:cubicBezTo>
                  <a:pt x="11828" y="13137"/>
                  <a:pt x="11865" y="13055"/>
                  <a:pt x="11906" y="12948"/>
                </a:cubicBezTo>
                <a:cubicBezTo>
                  <a:pt x="11943" y="12851"/>
                  <a:pt x="11929" y="12851"/>
                  <a:pt x="11857" y="12799"/>
                </a:cubicBezTo>
                <a:cubicBezTo>
                  <a:pt x="11767" y="12822"/>
                  <a:pt x="11683" y="12884"/>
                  <a:pt x="11683" y="12998"/>
                </a:cubicBezTo>
                <a:cubicBezTo>
                  <a:pt x="11683" y="13151"/>
                  <a:pt x="11822" y="13133"/>
                  <a:pt x="11881" y="13022"/>
                </a:cubicBezTo>
                <a:cubicBezTo>
                  <a:pt x="11922" y="12945"/>
                  <a:pt x="11930" y="12760"/>
                  <a:pt x="11782" y="12824"/>
                </a:cubicBezTo>
                <a:cubicBezTo>
                  <a:pt x="11681" y="12868"/>
                  <a:pt x="11665" y="13008"/>
                  <a:pt x="11658" y="13097"/>
                </a:cubicBezTo>
                <a:cubicBezTo>
                  <a:pt x="11770" y="13107"/>
                  <a:pt x="11857" y="13046"/>
                  <a:pt x="11857" y="12898"/>
                </a:cubicBezTo>
                <a:cubicBezTo>
                  <a:pt x="11832" y="12849"/>
                  <a:pt x="11823" y="12832"/>
                  <a:pt x="11782" y="12824"/>
                </a:cubicBezTo>
                <a:cubicBezTo>
                  <a:pt x="11742" y="12874"/>
                  <a:pt x="11697" y="12919"/>
                  <a:pt x="11733" y="12973"/>
                </a:cubicBezTo>
                <a:cubicBezTo>
                  <a:pt x="11772" y="13030"/>
                  <a:pt x="11757" y="12972"/>
                  <a:pt x="11757" y="12948"/>
                </a:cubicBezTo>
              </a:path>
              <a:path w="9699" h="4962">
                <a:moveTo>
                  <a:pt x="8632" y="13221"/>
                </a:moveTo>
                <a:cubicBezTo>
                  <a:pt x="8672" y="13167"/>
                  <a:pt x="8668" y="13129"/>
                  <a:pt x="8607" y="13072"/>
                </a:cubicBezTo>
                <a:cubicBezTo>
                  <a:pt x="8566" y="13033"/>
                  <a:pt x="8509" y="13028"/>
                  <a:pt x="8458" y="13022"/>
                </a:cubicBezTo>
                <a:cubicBezTo>
                  <a:pt x="8458" y="13098"/>
                  <a:pt x="8442" y="13126"/>
                  <a:pt x="8508" y="13171"/>
                </a:cubicBezTo>
                <a:cubicBezTo>
                  <a:pt x="8584" y="13223"/>
                  <a:pt x="8635" y="13160"/>
                  <a:pt x="8632" y="13072"/>
                </a:cubicBezTo>
                <a:cubicBezTo>
                  <a:pt x="8628" y="12957"/>
                  <a:pt x="8517" y="12936"/>
                  <a:pt x="8434" y="12898"/>
                </a:cubicBezTo>
                <a:cubicBezTo>
                  <a:pt x="8391" y="12970"/>
                  <a:pt x="8418" y="13057"/>
                  <a:pt x="8483" y="13122"/>
                </a:cubicBezTo>
                <a:cubicBezTo>
                  <a:pt x="8500" y="13130"/>
                  <a:pt x="8516" y="13138"/>
                  <a:pt x="8533" y="13146"/>
                </a:cubicBezTo>
                <a:cubicBezTo>
                  <a:pt x="8604" y="13089"/>
                  <a:pt x="8708" y="12976"/>
                  <a:pt x="8607" y="12874"/>
                </a:cubicBezTo>
                <a:cubicBezTo>
                  <a:pt x="8582" y="12866"/>
                  <a:pt x="8558" y="12857"/>
                  <a:pt x="8533" y="12849"/>
                </a:cubicBezTo>
                <a:cubicBezTo>
                  <a:pt x="8488" y="12886"/>
                  <a:pt x="8412" y="13002"/>
                  <a:pt x="8483" y="13072"/>
                </a:cubicBezTo>
                <a:cubicBezTo>
                  <a:pt x="8557" y="13145"/>
                  <a:pt x="8685" y="12974"/>
                  <a:pt x="8657" y="12898"/>
                </a:cubicBezTo>
                <a:cubicBezTo>
                  <a:pt x="8611" y="12772"/>
                  <a:pt x="8543" y="12841"/>
                  <a:pt x="8533" y="12923"/>
                </a:cubicBezTo>
              </a:path>
              <a:path w="9699" h="4962">
                <a:moveTo>
                  <a:pt x="7417" y="10319"/>
                </a:moveTo>
                <a:cubicBezTo>
                  <a:pt x="7417" y="10255"/>
                  <a:pt x="7396" y="10329"/>
                  <a:pt x="7392" y="103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46800" y="3894120"/>
            <a:ext cx="741240" cy="714240"/>
          </a:xfrm>
          <a:custGeom>
            <a:avLst/>
            <a:gdLst/>
            <a:ahLst/>
            <a:rect l="l" t="t" r="r" b="b"/>
            <a:pathLst>
              <a:path w="2060" h="1985">
                <a:moveTo>
                  <a:pt x="16545" y="11361"/>
                </a:moveTo>
                <a:cubicBezTo>
                  <a:pt x="16366" y="11470"/>
                  <a:pt x="16211" y="11521"/>
                  <a:pt x="15999" y="11534"/>
                </a:cubicBezTo>
                <a:cubicBezTo>
                  <a:pt x="15958" y="11534"/>
                  <a:pt x="15950" y="11534"/>
                  <a:pt x="15925" y="11534"/>
                </a:cubicBezTo>
                <a:cubicBezTo>
                  <a:pt x="16000" y="11626"/>
                  <a:pt x="16027" y="11715"/>
                  <a:pt x="16049" y="11832"/>
                </a:cubicBezTo>
                <a:cubicBezTo>
                  <a:pt x="16049" y="11857"/>
                  <a:pt x="16049" y="11865"/>
                  <a:pt x="16049" y="11881"/>
                </a:cubicBezTo>
                <a:cubicBezTo>
                  <a:pt x="16134" y="11841"/>
                  <a:pt x="16243" y="11780"/>
                  <a:pt x="16346" y="11782"/>
                </a:cubicBezTo>
                <a:cubicBezTo>
                  <a:pt x="16528" y="11786"/>
                  <a:pt x="16612" y="11973"/>
                  <a:pt x="16520" y="12129"/>
                </a:cubicBezTo>
                <a:cubicBezTo>
                  <a:pt x="16449" y="12250"/>
                  <a:pt x="16200" y="12423"/>
                  <a:pt x="16049" y="12378"/>
                </a:cubicBezTo>
                <a:cubicBezTo>
                  <a:pt x="16007" y="12336"/>
                  <a:pt x="15999" y="12328"/>
                  <a:pt x="15974" y="12303"/>
                </a:cubicBezTo>
              </a:path>
              <a:path w="2060" h="1985">
                <a:moveTo>
                  <a:pt x="15602" y="12551"/>
                </a:moveTo>
                <a:cubicBezTo>
                  <a:pt x="15853" y="12662"/>
                  <a:pt x="16069" y="12748"/>
                  <a:pt x="16346" y="12650"/>
                </a:cubicBezTo>
                <a:cubicBezTo>
                  <a:pt x="16628" y="12550"/>
                  <a:pt x="16963" y="12321"/>
                  <a:pt x="17115" y="12055"/>
                </a:cubicBezTo>
                <a:cubicBezTo>
                  <a:pt x="17297" y="11736"/>
                  <a:pt x="17162" y="11376"/>
                  <a:pt x="16917" y="11137"/>
                </a:cubicBezTo>
                <a:cubicBezTo>
                  <a:pt x="16642" y="10869"/>
                  <a:pt x="16062" y="10742"/>
                  <a:pt x="15701" y="10864"/>
                </a:cubicBezTo>
                <a:cubicBezTo>
                  <a:pt x="15359" y="10980"/>
                  <a:pt x="15159" y="11336"/>
                  <a:pt x="15131" y="11683"/>
                </a:cubicBezTo>
                <a:cubicBezTo>
                  <a:pt x="15100" y="12070"/>
                  <a:pt x="15194" y="12561"/>
                  <a:pt x="15577" y="12750"/>
                </a:cubicBezTo>
                <a:cubicBezTo>
                  <a:pt x="15858" y="12888"/>
                  <a:pt x="16259" y="12740"/>
                  <a:pt x="16495" y="12576"/>
                </a:cubicBezTo>
                <a:cubicBezTo>
                  <a:pt x="16536" y="12535"/>
                  <a:pt x="16578" y="12493"/>
                  <a:pt x="16619" y="124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70120" y="3633840"/>
            <a:ext cx="1874880" cy="54000"/>
          </a:xfrm>
          <a:custGeom>
            <a:avLst/>
            <a:gdLst/>
            <a:ahLst/>
            <a:rect l="l" t="t" r="r" b="b"/>
            <a:pathLst>
              <a:path w="5210" h="149">
                <a:moveTo>
                  <a:pt x="7417" y="10170"/>
                </a:moveTo>
                <a:cubicBezTo>
                  <a:pt x="7453" y="10178"/>
                  <a:pt x="7482" y="10192"/>
                  <a:pt x="7516" y="10195"/>
                </a:cubicBezTo>
                <a:cubicBezTo>
                  <a:pt x="7632" y="10207"/>
                  <a:pt x="7786" y="10176"/>
                  <a:pt x="7863" y="10170"/>
                </a:cubicBezTo>
                <a:cubicBezTo>
                  <a:pt x="7915" y="10166"/>
                  <a:pt x="7972" y="10150"/>
                  <a:pt x="8012" y="10145"/>
                </a:cubicBezTo>
                <a:cubicBezTo>
                  <a:pt x="8065" y="10138"/>
                  <a:pt x="8091" y="10135"/>
                  <a:pt x="8136" y="10120"/>
                </a:cubicBezTo>
                <a:cubicBezTo>
                  <a:pt x="8177" y="10107"/>
                  <a:pt x="8217" y="10101"/>
                  <a:pt x="8260" y="10096"/>
                </a:cubicBezTo>
                <a:cubicBezTo>
                  <a:pt x="8508" y="10066"/>
                  <a:pt x="8796" y="10100"/>
                  <a:pt x="9029" y="10120"/>
                </a:cubicBezTo>
                <a:cubicBezTo>
                  <a:pt x="9159" y="10131"/>
                  <a:pt x="9302" y="10136"/>
                  <a:pt x="9426" y="10145"/>
                </a:cubicBezTo>
                <a:cubicBezTo>
                  <a:pt x="9574" y="10156"/>
                  <a:pt x="9730" y="10158"/>
                  <a:pt x="9872" y="10170"/>
                </a:cubicBezTo>
                <a:cubicBezTo>
                  <a:pt x="10092" y="10188"/>
                  <a:pt x="10332" y="10127"/>
                  <a:pt x="10542" y="10145"/>
                </a:cubicBezTo>
                <a:cubicBezTo>
                  <a:pt x="10550" y="10153"/>
                  <a:pt x="10559" y="10162"/>
                  <a:pt x="10567" y="10170"/>
                </a:cubicBezTo>
                <a:cubicBezTo>
                  <a:pt x="10629" y="10160"/>
                  <a:pt x="10654" y="10160"/>
                  <a:pt x="10716" y="10170"/>
                </a:cubicBezTo>
                <a:cubicBezTo>
                  <a:pt x="10763" y="10159"/>
                  <a:pt x="10779" y="10147"/>
                  <a:pt x="10840" y="10145"/>
                </a:cubicBezTo>
                <a:cubicBezTo>
                  <a:pt x="11057" y="10139"/>
                  <a:pt x="11277" y="10154"/>
                  <a:pt x="11485" y="10170"/>
                </a:cubicBezTo>
                <a:cubicBezTo>
                  <a:pt x="11592" y="10178"/>
                  <a:pt x="11706" y="10186"/>
                  <a:pt x="11807" y="10195"/>
                </a:cubicBezTo>
                <a:cubicBezTo>
                  <a:pt x="11879" y="10201"/>
                  <a:pt x="11972" y="10215"/>
                  <a:pt x="12030" y="10220"/>
                </a:cubicBezTo>
                <a:cubicBezTo>
                  <a:pt x="12095" y="10225"/>
                  <a:pt x="12199" y="10247"/>
                  <a:pt x="12254" y="10244"/>
                </a:cubicBezTo>
                <a:cubicBezTo>
                  <a:pt x="12295" y="10242"/>
                  <a:pt x="12381" y="10227"/>
                  <a:pt x="12427" y="10220"/>
                </a:cubicBezTo>
                <a:cubicBezTo>
                  <a:pt x="12479" y="10212"/>
                  <a:pt x="12522" y="10201"/>
                  <a:pt x="12576" y="10195"/>
                </a:cubicBezTo>
                <a:cubicBezTo>
                  <a:pt x="12601" y="10195"/>
                  <a:pt x="12609" y="10195"/>
                  <a:pt x="12626" y="101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14400" y="228600"/>
            <a:ext cx="7848720" cy="15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identify and describe line segm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many diagonals can be drawn from each polyg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981080"/>
            <a:ext cx="2743200" cy="16002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1905120"/>
            <a:ext cx="2286000" cy="1981080"/>
          </a:xfrm>
          <a:prstGeom prst="octagon">
            <a:avLst>
              <a:gd name="adj" fmla="val 2928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4495680"/>
            <a:ext cx="2590920" cy="1905120"/>
          </a:xfrm>
          <a:prstGeom prst="hexagon">
            <a:avLst>
              <a:gd name="adj" fmla="val 33999"/>
              <a:gd name="vf" fmla="val 115470"/>
            </a:avLst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4495680"/>
            <a:ext cx="1828800" cy="1524240"/>
          </a:xfrm>
          <a:custGeom>
            <a:avLst/>
            <a:gdLst>
              <a:gd name="textAreaLeft" fmla="*/ 402120 w 1828800"/>
              <a:gd name="textAreaRight" fmla="*/ 1426680 w 1828800"/>
              <a:gd name="textAreaTop" fmla="*/ 335160 h 1524240"/>
              <a:gd name="textAreaBottom" fmla="*/ 118908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0040" y="1820880"/>
            <a:ext cx="428760" cy="277920"/>
          </a:xfrm>
          <a:custGeom>
            <a:avLst/>
            <a:gdLst/>
            <a:ahLst/>
            <a:rect l="l" t="t" r="r" b="b"/>
            <a:pathLst>
              <a:path w="1192" h="770">
                <a:moveTo>
                  <a:pt x="1538" y="5432"/>
                </a:moveTo>
                <a:cubicBezTo>
                  <a:pt x="1538" y="5424"/>
                  <a:pt x="1538" y="5415"/>
                  <a:pt x="1538" y="5407"/>
                </a:cubicBezTo>
                <a:cubicBezTo>
                  <a:pt x="1580" y="5407"/>
                  <a:pt x="1513" y="5482"/>
                  <a:pt x="1538" y="5482"/>
                </a:cubicBezTo>
                <a:cubicBezTo>
                  <a:pt x="1583" y="5482"/>
                  <a:pt x="1680" y="5417"/>
                  <a:pt x="1637" y="5358"/>
                </a:cubicBezTo>
                <a:cubicBezTo>
                  <a:pt x="1596" y="5301"/>
                  <a:pt x="1450" y="5336"/>
                  <a:pt x="1414" y="5383"/>
                </a:cubicBezTo>
                <a:cubicBezTo>
                  <a:pt x="1342" y="5477"/>
                  <a:pt x="1372" y="5551"/>
                  <a:pt x="1463" y="5556"/>
                </a:cubicBezTo>
                <a:cubicBezTo>
                  <a:pt x="1554" y="5561"/>
                  <a:pt x="1560" y="5497"/>
                  <a:pt x="1538" y="5432"/>
                </a:cubicBezTo>
                <a:cubicBezTo>
                  <a:pt x="1510" y="5432"/>
                  <a:pt x="1499" y="5430"/>
                  <a:pt x="1488" y="5407"/>
                </a:cubicBezTo>
                <a:cubicBezTo>
                  <a:pt x="1452" y="5461"/>
                  <a:pt x="1399" y="5604"/>
                  <a:pt x="1513" y="5631"/>
                </a:cubicBezTo>
                <a:cubicBezTo>
                  <a:pt x="1599" y="5651"/>
                  <a:pt x="1655" y="5488"/>
                  <a:pt x="1612" y="5432"/>
                </a:cubicBezTo>
                <a:cubicBezTo>
                  <a:pt x="1587" y="5399"/>
                  <a:pt x="1544" y="5469"/>
                  <a:pt x="1538" y="5482"/>
                </a:cubicBezTo>
              </a:path>
              <a:path w="1192" h="770">
                <a:moveTo>
                  <a:pt x="1563" y="5556"/>
                </a:moveTo>
                <a:cubicBezTo>
                  <a:pt x="1454" y="5603"/>
                  <a:pt x="1486" y="5688"/>
                  <a:pt x="1513" y="5804"/>
                </a:cubicBezTo>
                <a:cubicBezTo>
                  <a:pt x="1632" y="5765"/>
                  <a:pt x="1667" y="5698"/>
                  <a:pt x="1687" y="5581"/>
                </a:cubicBezTo>
                <a:cubicBezTo>
                  <a:pt x="1687" y="5546"/>
                  <a:pt x="1678" y="5533"/>
                  <a:pt x="1637" y="5531"/>
                </a:cubicBezTo>
                <a:cubicBezTo>
                  <a:pt x="1510" y="5542"/>
                  <a:pt x="1406" y="5592"/>
                  <a:pt x="1463" y="5755"/>
                </a:cubicBezTo>
                <a:cubicBezTo>
                  <a:pt x="1513" y="5899"/>
                  <a:pt x="1630" y="5781"/>
                  <a:pt x="1662" y="5705"/>
                </a:cubicBezTo>
                <a:cubicBezTo>
                  <a:pt x="1683" y="5621"/>
                  <a:pt x="1698" y="5602"/>
                  <a:pt x="1662" y="5556"/>
                </a:cubicBezTo>
                <a:cubicBezTo>
                  <a:pt x="1584" y="5556"/>
                  <a:pt x="1592" y="5573"/>
                  <a:pt x="1588" y="5655"/>
                </a:cubicBezTo>
                <a:cubicBezTo>
                  <a:pt x="1588" y="5696"/>
                  <a:pt x="1579" y="5713"/>
                  <a:pt x="1612" y="5705"/>
                </a:cubicBezTo>
              </a:path>
              <a:path w="1192" h="770">
                <a:moveTo>
                  <a:pt x="1637" y="5680"/>
                </a:moveTo>
                <a:lnTo>
                  <a:pt x="1637" y="5680"/>
                </a:lnTo>
              </a:path>
              <a:path w="1192" h="770">
                <a:moveTo>
                  <a:pt x="1563" y="5085"/>
                </a:moveTo>
                <a:cubicBezTo>
                  <a:pt x="1555" y="5077"/>
                  <a:pt x="1546" y="5068"/>
                  <a:pt x="1538" y="5060"/>
                </a:cubicBezTo>
                <a:cubicBezTo>
                  <a:pt x="1572" y="5094"/>
                  <a:pt x="1602" y="5114"/>
                  <a:pt x="1637" y="5135"/>
                </a:cubicBezTo>
                <a:cubicBezTo>
                  <a:pt x="1652" y="5150"/>
                  <a:pt x="1678" y="5187"/>
                  <a:pt x="1712" y="5209"/>
                </a:cubicBezTo>
                <a:cubicBezTo>
                  <a:pt x="1730" y="5221"/>
                  <a:pt x="1767" y="5224"/>
                  <a:pt x="1786" y="5234"/>
                </a:cubicBezTo>
                <a:cubicBezTo>
                  <a:pt x="1820" y="5274"/>
                  <a:pt x="1813" y="5259"/>
                  <a:pt x="1860" y="5283"/>
                </a:cubicBezTo>
                <a:cubicBezTo>
                  <a:pt x="1894" y="5300"/>
                  <a:pt x="1930" y="5341"/>
                  <a:pt x="1960" y="5358"/>
                </a:cubicBezTo>
                <a:cubicBezTo>
                  <a:pt x="1990" y="5388"/>
                  <a:pt x="2040" y="5423"/>
                  <a:pt x="2084" y="5457"/>
                </a:cubicBezTo>
                <a:cubicBezTo>
                  <a:pt x="2138" y="5498"/>
                  <a:pt x="2202" y="5529"/>
                  <a:pt x="2257" y="5556"/>
                </a:cubicBezTo>
                <a:cubicBezTo>
                  <a:pt x="2311" y="5583"/>
                  <a:pt x="2333" y="5624"/>
                  <a:pt x="2381" y="5655"/>
                </a:cubicBezTo>
                <a:cubicBezTo>
                  <a:pt x="2426" y="5683"/>
                  <a:pt x="2497" y="5697"/>
                  <a:pt x="2530" y="5730"/>
                </a:cubicBezTo>
                <a:cubicBezTo>
                  <a:pt x="2564" y="5764"/>
                  <a:pt x="2561" y="5781"/>
                  <a:pt x="2580" y="58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680" y="1990800"/>
            <a:ext cx="3179520" cy="1652400"/>
          </a:xfrm>
          <a:custGeom>
            <a:avLst/>
            <a:gdLst/>
            <a:ahLst/>
            <a:rect l="l" t="t" r="r" b="b"/>
            <a:pathLst>
              <a:path w="8831" h="4590">
                <a:moveTo>
                  <a:pt x="1538" y="5556"/>
                </a:moveTo>
                <a:cubicBezTo>
                  <a:pt x="1568" y="5570"/>
                  <a:pt x="1584" y="5513"/>
                  <a:pt x="1612" y="5531"/>
                </a:cubicBezTo>
                <a:cubicBezTo>
                  <a:pt x="1659" y="5561"/>
                  <a:pt x="1692" y="5591"/>
                  <a:pt x="1736" y="5631"/>
                </a:cubicBezTo>
                <a:cubicBezTo>
                  <a:pt x="1755" y="5648"/>
                  <a:pt x="1786" y="5703"/>
                  <a:pt x="1811" y="5730"/>
                </a:cubicBezTo>
                <a:cubicBezTo>
                  <a:pt x="1831" y="5751"/>
                  <a:pt x="1828" y="5773"/>
                  <a:pt x="1860" y="5804"/>
                </a:cubicBezTo>
                <a:cubicBezTo>
                  <a:pt x="1889" y="5832"/>
                  <a:pt x="1924" y="5871"/>
                  <a:pt x="1960" y="5904"/>
                </a:cubicBezTo>
                <a:cubicBezTo>
                  <a:pt x="1976" y="5918"/>
                  <a:pt x="2008" y="5959"/>
                  <a:pt x="2034" y="5978"/>
                </a:cubicBezTo>
                <a:cubicBezTo>
                  <a:pt x="2137" y="6052"/>
                  <a:pt x="2232" y="6124"/>
                  <a:pt x="2332" y="6201"/>
                </a:cubicBezTo>
                <a:cubicBezTo>
                  <a:pt x="2367" y="6228"/>
                  <a:pt x="2414" y="6244"/>
                  <a:pt x="2456" y="6276"/>
                </a:cubicBezTo>
                <a:cubicBezTo>
                  <a:pt x="2531" y="6334"/>
                  <a:pt x="2601" y="6392"/>
                  <a:pt x="2679" y="6449"/>
                </a:cubicBezTo>
                <a:cubicBezTo>
                  <a:pt x="2765" y="6512"/>
                  <a:pt x="2867" y="6572"/>
                  <a:pt x="2952" y="6623"/>
                </a:cubicBezTo>
                <a:cubicBezTo>
                  <a:pt x="3027" y="6669"/>
                  <a:pt x="3098" y="6703"/>
                  <a:pt x="3175" y="6747"/>
                </a:cubicBezTo>
                <a:cubicBezTo>
                  <a:pt x="3267" y="6799"/>
                  <a:pt x="3356" y="6846"/>
                  <a:pt x="3448" y="6896"/>
                </a:cubicBezTo>
                <a:cubicBezTo>
                  <a:pt x="3485" y="6916"/>
                  <a:pt x="3512" y="6949"/>
                  <a:pt x="3547" y="6970"/>
                </a:cubicBezTo>
                <a:cubicBezTo>
                  <a:pt x="3605" y="7005"/>
                  <a:pt x="3662" y="7029"/>
                  <a:pt x="3721" y="7069"/>
                </a:cubicBezTo>
                <a:cubicBezTo>
                  <a:pt x="3795" y="7120"/>
                  <a:pt x="3863" y="7173"/>
                  <a:pt x="3944" y="7218"/>
                </a:cubicBezTo>
                <a:cubicBezTo>
                  <a:pt x="4049" y="7276"/>
                  <a:pt x="4162" y="7331"/>
                  <a:pt x="4266" y="7392"/>
                </a:cubicBezTo>
                <a:cubicBezTo>
                  <a:pt x="4301" y="7413"/>
                  <a:pt x="4383" y="7465"/>
                  <a:pt x="4415" y="7491"/>
                </a:cubicBezTo>
                <a:cubicBezTo>
                  <a:pt x="4506" y="7564"/>
                  <a:pt x="4621" y="7658"/>
                  <a:pt x="4713" y="7739"/>
                </a:cubicBezTo>
                <a:cubicBezTo>
                  <a:pt x="4762" y="7782"/>
                  <a:pt x="4787" y="7826"/>
                  <a:pt x="4837" y="7863"/>
                </a:cubicBezTo>
                <a:cubicBezTo>
                  <a:pt x="4908" y="7916"/>
                  <a:pt x="4989" y="7959"/>
                  <a:pt x="5060" y="8012"/>
                </a:cubicBezTo>
                <a:cubicBezTo>
                  <a:pt x="5206" y="8121"/>
                  <a:pt x="5346" y="8202"/>
                  <a:pt x="5507" y="8285"/>
                </a:cubicBezTo>
                <a:cubicBezTo>
                  <a:pt x="5552" y="8308"/>
                  <a:pt x="5588" y="8335"/>
                  <a:pt x="5631" y="8359"/>
                </a:cubicBezTo>
                <a:cubicBezTo>
                  <a:pt x="5714" y="8404"/>
                  <a:pt x="5794" y="8439"/>
                  <a:pt x="5879" y="8483"/>
                </a:cubicBezTo>
                <a:cubicBezTo>
                  <a:pt x="5990" y="8540"/>
                  <a:pt x="6088" y="8607"/>
                  <a:pt x="6201" y="8657"/>
                </a:cubicBezTo>
                <a:cubicBezTo>
                  <a:pt x="6311" y="8706"/>
                  <a:pt x="6416" y="8757"/>
                  <a:pt x="6524" y="8806"/>
                </a:cubicBezTo>
                <a:cubicBezTo>
                  <a:pt x="6662" y="8869"/>
                  <a:pt x="6813" y="8934"/>
                  <a:pt x="6945" y="9004"/>
                </a:cubicBezTo>
                <a:cubicBezTo>
                  <a:pt x="7029" y="9048"/>
                  <a:pt x="7110" y="9085"/>
                  <a:pt x="7193" y="9128"/>
                </a:cubicBezTo>
                <a:cubicBezTo>
                  <a:pt x="7357" y="9212"/>
                  <a:pt x="7524" y="9296"/>
                  <a:pt x="7689" y="9376"/>
                </a:cubicBezTo>
                <a:cubicBezTo>
                  <a:pt x="7786" y="9423"/>
                  <a:pt x="7888" y="9484"/>
                  <a:pt x="7987" y="9525"/>
                </a:cubicBezTo>
                <a:cubicBezTo>
                  <a:pt x="8175" y="9602"/>
                  <a:pt x="8390" y="9626"/>
                  <a:pt x="8582" y="9674"/>
                </a:cubicBezTo>
                <a:cubicBezTo>
                  <a:pt x="8682" y="9699"/>
                  <a:pt x="8782" y="9726"/>
                  <a:pt x="8880" y="9748"/>
                </a:cubicBezTo>
                <a:cubicBezTo>
                  <a:pt x="8971" y="9768"/>
                  <a:pt x="9063" y="9779"/>
                  <a:pt x="9153" y="9798"/>
                </a:cubicBezTo>
                <a:cubicBezTo>
                  <a:pt x="9201" y="9808"/>
                  <a:pt x="9192" y="9815"/>
                  <a:pt x="9227" y="9823"/>
                </a:cubicBezTo>
              </a:path>
              <a:path w="8831" h="4590">
                <a:moveTo>
                  <a:pt x="8979" y="5556"/>
                </a:moveTo>
                <a:cubicBezTo>
                  <a:pt x="8923" y="5586"/>
                  <a:pt x="8870" y="5584"/>
                  <a:pt x="8806" y="5631"/>
                </a:cubicBezTo>
                <a:cubicBezTo>
                  <a:pt x="8763" y="5663"/>
                  <a:pt x="8721" y="5719"/>
                  <a:pt x="8682" y="5755"/>
                </a:cubicBezTo>
                <a:cubicBezTo>
                  <a:pt x="8639" y="5794"/>
                  <a:pt x="8621" y="5818"/>
                  <a:pt x="8582" y="5854"/>
                </a:cubicBezTo>
                <a:cubicBezTo>
                  <a:pt x="8542" y="5891"/>
                  <a:pt x="8553" y="5917"/>
                  <a:pt x="8508" y="5953"/>
                </a:cubicBezTo>
                <a:cubicBezTo>
                  <a:pt x="8462" y="5990"/>
                  <a:pt x="8388" y="6055"/>
                  <a:pt x="8359" y="6077"/>
                </a:cubicBezTo>
                <a:cubicBezTo>
                  <a:pt x="8313" y="6112"/>
                  <a:pt x="8265" y="6142"/>
                  <a:pt x="8210" y="6176"/>
                </a:cubicBezTo>
                <a:cubicBezTo>
                  <a:pt x="8105" y="6240"/>
                  <a:pt x="7996" y="6289"/>
                  <a:pt x="7888" y="6350"/>
                </a:cubicBezTo>
                <a:cubicBezTo>
                  <a:pt x="7755" y="6426"/>
                  <a:pt x="7623" y="6499"/>
                  <a:pt x="7491" y="6573"/>
                </a:cubicBezTo>
                <a:cubicBezTo>
                  <a:pt x="7291" y="6686"/>
                  <a:pt x="7078" y="6754"/>
                  <a:pt x="6871" y="6846"/>
                </a:cubicBezTo>
                <a:cubicBezTo>
                  <a:pt x="6783" y="6885"/>
                  <a:pt x="6686" y="6927"/>
                  <a:pt x="6598" y="6970"/>
                </a:cubicBezTo>
                <a:cubicBezTo>
                  <a:pt x="6488" y="7023"/>
                  <a:pt x="6387" y="7092"/>
                  <a:pt x="6276" y="7144"/>
                </a:cubicBezTo>
                <a:cubicBezTo>
                  <a:pt x="6112" y="7221"/>
                  <a:pt x="5943" y="7289"/>
                  <a:pt x="5779" y="7367"/>
                </a:cubicBezTo>
                <a:cubicBezTo>
                  <a:pt x="5645" y="7430"/>
                  <a:pt x="5536" y="7522"/>
                  <a:pt x="5407" y="7590"/>
                </a:cubicBezTo>
                <a:cubicBezTo>
                  <a:pt x="5249" y="7673"/>
                  <a:pt x="5075" y="7720"/>
                  <a:pt x="4911" y="7789"/>
                </a:cubicBezTo>
                <a:cubicBezTo>
                  <a:pt x="4693" y="7881"/>
                  <a:pt x="4481" y="7988"/>
                  <a:pt x="4266" y="8086"/>
                </a:cubicBezTo>
                <a:cubicBezTo>
                  <a:pt x="4176" y="8127"/>
                  <a:pt x="4085" y="8158"/>
                  <a:pt x="3994" y="8210"/>
                </a:cubicBezTo>
                <a:cubicBezTo>
                  <a:pt x="3786" y="8330"/>
                  <a:pt x="3598" y="8481"/>
                  <a:pt x="3398" y="8607"/>
                </a:cubicBezTo>
                <a:cubicBezTo>
                  <a:pt x="3259" y="8694"/>
                  <a:pt x="3121" y="8777"/>
                  <a:pt x="2977" y="8855"/>
                </a:cubicBezTo>
                <a:cubicBezTo>
                  <a:pt x="2826" y="8937"/>
                  <a:pt x="2683" y="9025"/>
                  <a:pt x="2530" y="9103"/>
                </a:cubicBezTo>
                <a:cubicBezTo>
                  <a:pt x="2414" y="9162"/>
                  <a:pt x="2296" y="9219"/>
                  <a:pt x="2183" y="9277"/>
                </a:cubicBezTo>
                <a:cubicBezTo>
                  <a:pt x="1916" y="9414"/>
                  <a:pt x="1658" y="9568"/>
                  <a:pt x="1488" y="9823"/>
                </a:cubicBezTo>
                <a:cubicBezTo>
                  <a:pt x="1469" y="9851"/>
                  <a:pt x="1452" y="9875"/>
                  <a:pt x="1439" y="9897"/>
                </a:cubicBezTo>
                <a:cubicBezTo>
                  <a:pt x="1447" y="9897"/>
                  <a:pt x="1455" y="9897"/>
                  <a:pt x="1463" y="9897"/>
                </a:cubicBezTo>
              </a:path>
              <a:path w="8831" h="4590">
                <a:moveTo>
                  <a:pt x="10269" y="6772"/>
                </a:moveTo>
                <a:cubicBezTo>
                  <a:pt x="10142" y="6822"/>
                  <a:pt x="10126" y="7045"/>
                  <a:pt x="10096" y="7169"/>
                </a:cubicBezTo>
                <a:cubicBezTo>
                  <a:pt x="10075" y="7256"/>
                  <a:pt x="10065" y="7340"/>
                  <a:pt x="10046" y="7417"/>
                </a:cubicBezTo>
              </a:path>
              <a:path w="8831" h="4590">
                <a:moveTo>
                  <a:pt x="1712" y="9947"/>
                </a:moveTo>
                <a:cubicBezTo>
                  <a:pt x="1663" y="9919"/>
                  <a:pt x="1617" y="9865"/>
                  <a:pt x="1563" y="9922"/>
                </a:cubicBezTo>
                <a:cubicBezTo>
                  <a:pt x="1471" y="10019"/>
                  <a:pt x="1467" y="10059"/>
                  <a:pt x="1588" y="10071"/>
                </a:cubicBezTo>
                <a:cubicBezTo>
                  <a:pt x="1710" y="9997"/>
                  <a:pt x="1701" y="9961"/>
                  <a:pt x="1612" y="9847"/>
                </a:cubicBezTo>
                <a:cubicBezTo>
                  <a:pt x="1529" y="9879"/>
                  <a:pt x="1422" y="10015"/>
                  <a:pt x="1513" y="10120"/>
                </a:cubicBezTo>
                <a:cubicBezTo>
                  <a:pt x="1580" y="10198"/>
                  <a:pt x="1737" y="10002"/>
                  <a:pt x="1687" y="9922"/>
                </a:cubicBezTo>
                <a:cubicBezTo>
                  <a:pt x="1629" y="9922"/>
                  <a:pt x="1604" y="9922"/>
                  <a:pt x="1563" y="9922"/>
                </a:cubicBezTo>
                <a:cubicBezTo>
                  <a:pt x="1485" y="10037"/>
                  <a:pt x="1483" y="10013"/>
                  <a:pt x="1612" y="100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46640" y="2428920"/>
            <a:ext cx="36360" cy="223920"/>
          </a:xfrm>
          <a:custGeom>
            <a:avLst/>
            <a:gdLst/>
            <a:ahLst/>
            <a:rect l="l" t="t" r="r" b="b"/>
            <a:pathLst>
              <a:path w="100" h="621">
                <a:moveTo>
                  <a:pt x="9674" y="6747"/>
                </a:moveTo>
                <a:cubicBezTo>
                  <a:pt x="9660" y="6918"/>
                  <a:pt x="9595" y="7074"/>
                  <a:pt x="9575" y="7243"/>
                </a:cubicBezTo>
                <a:cubicBezTo>
                  <a:pt x="9575" y="7317"/>
                  <a:pt x="9575" y="7326"/>
                  <a:pt x="9575" y="73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5080" y="1928880"/>
            <a:ext cx="81000" cy="142920"/>
          </a:xfrm>
          <a:custGeom>
            <a:avLst/>
            <a:gdLst/>
            <a:ahLst/>
            <a:rect l="l" t="t" r="r" b="b"/>
            <a:pathLst>
              <a:path w="224" h="398">
                <a:moveTo>
                  <a:pt x="9029" y="5383"/>
                </a:moveTo>
                <a:cubicBezTo>
                  <a:pt x="8938" y="5381"/>
                  <a:pt x="8901" y="5535"/>
                  <a:pt x="8979" y="5581"/>
                </a:cubicBezTo>
                <a:cubicBezTo>
                  <a:pt x="9067" y="5633"/>
                  <a:pt x="9162" y="5511"/>
                  <a:pt x="9128" y="5432"/>
                </a:cubicBezTo>
                <a:cubicBezTo>
                  <a:pt x="9112" y="5416"/>
                  <a:pt x="9095" y="5399"/>
                  <a:pt x="9079" y="5383"/>
                </a:cubicBezTo>
                <a:cubicBezTo>
                  <a:pt x="8981" y="5441"/>
                  <a:pt x="8941" y="5559"/>
                  <a:pt x="8954" y="5680"/>
                </a:cubicBezTo>
                <a:cubicBezTo>
                  <a:pt x="8962" y="5697"/>
                  <a:pt x="8971" y="5713"/>
                  <a:pt x="8979" y="5730"/>
                </a:cubicBezTo>
                <a:cubicBezTo>
                  <a:pt x="9125" y="5681"/>
                  <a:pt x="9122" y="5625"/>
                  <a:pt x="9103" y="5482"/>
                </a:cubicBezTo>
                <a:cubicBezTo>
                  <a:pt x="8966" y="5505"/>
                  <a:pt x="8943" y="5604"/>
                  <a:pt x="8905" y="5730"/>
                </a:cubicBezTo>
                <a:cubicBezTo>
                  <a:pt x="8885" y="5798"/>
                  <a:pt x="8989" y="5717"/>
                  <a:pt x="9004" y="570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60640" y="2643120"/>
            <a:ext cx="2930400" cy="3983040"/>
          </a:xfrm>
          <a:custGeom>
            <a:avLst/>
            <a:gdLst/>
            <a:ahLst/>
            <a:rect l="l" t="t" r="r" b="b"/>
            <a:pathLst>
              <a:path w="8137" h="11064">
                <a:moveTo>
                  <a:pt x="9153" y="9748"/>
                </a:moveTo>
                <a:cubicBezTo>
                  <a:pt x="9138" y="9809"/>
                  <a:pt x="9077" y="9857"/>
                  <a:pt x="9054" y="9922"/>
                </a:cubicBezTo>
                <a:cubicBezTo>
                  <a:pt x="9054" y="9930"/>
                  <a:pt x="9054" y="9939"/>
                  <a:pt x="9054" y="9947"/>
                </a:cubicBezTo>
                <a:cubicBezTo>
                  <a:pt x="9093" y="9938"/>
                  <a:pt x="9303" y="9856"/>
                  <a:pt x="9227" y="9773"/>
                </a:cubicBezTo>
                <a:cubicBezTo>
                  <a:pt x="9139" y="9677"/>
                  <a:pt x="8960" y="9888"/>
                  <a:pt x="8979" y="9971"/>
                </a:cubicBezTo>
                <a:cubicBezTo>
                  <a:pt x="8999" y="10058"/>
                  <a:pt x="9242" y="9929"/>
                  <a:pt x="9252" y="9872"/>
                </a:cubicBezTo>
                <a:cubicBezTo>
                  <a:pt x="9244" y="9847"/>
                  <a:pt x="9235" y="9823"/>
                  <a:pt x="9227" y="9798"/>
                </a:cubicBezTo>
                <a:cubicBezTo>
                  <a:pt x="9100" y="9776"/>
                  <a:pt x="9117" y="9775"/>
                  <a:pt x="9029" y="9872"/>
                </a:cubicBezTo>
                <a:cubicBezTo>
                  <a:pt x="9045" y="10008"/>
                  <a:pt x="9179" y="9916"/>
                  <a:pt x="9252" y="9798"/>
                </a:cubicBezTo>
                <a:cubicBezTo>
                  <a:pt x="9284" y="9746"/>
                  <a:pt x="9169" y="9816"/>
                  <a:pt x="9153" y="9847"/>
                </a:cubicBezTo>
                <a:cubicBezTo>
                  <a:pt x="9153" y="9855"/>
                  <a:pt x="9153" y="9864"/>
                  <a:pt x="9153" y="9872"/>
                </a:cubicBezTo>
              </a:path>
              <a:path w="8137" h="11064">
                <a:moveTo>
                  <a:pt x="9996" y="8161"/>
                </a:moveTo>
                <a:cubicBezTo>
                  <a:pt x="10021" y="8073"/>
                  <a:pt x="10032" y="8030"/>
                  <a:pt x="10096" y="7962"/>
                </a:cubicBezTo>
                <a:cubicBezTo>
                  <a:pt x="10168" y="7886"/>
                  <a:pt x="10279" y="7865"/>
                  <a:pt x="10368" y="7938"/>
                </a:cubicBezTo>
                <a:cubicBezTo>
                  <a:pt x="10455" y="8009"/>
                  <a:pt x="10287" y="8211"/>
                  <a:pt x="10244" y="8260"/>
                </a:cubicBezTo>
                <a:cubicBezTo>
                  <a:pt x="10105" y="8418"/>
                  <a:pt x="9966" y="8577"/>
                  <a:pt x="9823" y="8731"/>
                </a:cubicBezTo>
                <a:cubicBezTo>
                  <a:pt x="9820" y="8871"/>
                  <a:pt x="9910" y="8619"/>
                  <a:pt x="9971" y="8558"/>
                </a:cubicBezTo>
                <a:cubicBezTo>
                  <a:pt x="10052" y="8497"/>
                  <a:pt x="10065" y="8483"/>
                  <a:pt x="10120" y="8458"/>
                </a:cubicBezTo>
                <a:cubicBezTo>
                  <a:pt x="10184" y="8535"/>
                  <a:pt x="10212" y="8636"/>
                  <a:pt x="10319" y="8657"/>
                </a:cubicBezTo>
                <a:cubicBezTo>
                  <a:pt x="10369" y="8667"/>
                  <a:pt x="10692" y="8629"/>
                  <a:pt x="10691" y="8558"/>
                </a:cubicBezTo>
                <a:cubicBezTo>
                  <a:pt x="10674" y="8558"/>
                  <a:pt x="10658" y="8558"/>
                  <a:pt x="10641" y="8558"/>
                </a:cubicBezTo>
              </a:path>
              <a:path w="8137" h="11064">
                <a:moveTo>
                  <a:pt x="9699" y="8905"/>
                </a:moveTo>
                <a:cubicBezTo>
                  <a:pt x="9969" y="8967"/>
                  <a:pt x="10237" y="8972"/>
                  <a:pt x="10517" y="8930"/>
                </a:cubicBezTo>
                <a:cubicBezTo>
                  <a:pt x="10825" y="8884"/>
                  <a:pt x="11119" y="8796"/>
                  <a:pt x="11286" y="8508"/>
                </a:cubicBezTo>
                <a:cubicBezTo>
                  <a:pt x="11446" y="8233"/>
                  <a:pt x="11291" y="7938"/>
                  <a:pt x="11112" y="7714"/>
                </a:cubicBezTo>
                <a:cubicBezTo>
                  <a:pt x="10928" y="7484"/>
                  <a:pt x="10645" y="7310"/>
                  <a:pt x="10344" y="7342"/>
                </a:cubicBezTo>
                <a:cubicBezTo>
                  <a:pt x="10037" y="7374"/>
                  <a:pt x="9882" y="7688"/>
                  <a:pt x="9773" y="7938"/>
                </a:cubicBezTo>
                <a:cubicBezTo>
                  <a:pt x="9649" y="8224"/>
                  <a:pt x="9529" y="8623"/>
                  <a:pt x="9847" y="8830"/>
                </a:cubicBezTo>
                <a:cubicBezTo>
                  <a:pt x="10142" y="9022"/>
                  <a:pt x="10562" y="8957"/>
                  <a:pt x="10889" y="8930"/>
                </a:cubicBezTo>
              </a:path>
              <a:path w="8137" h="11064">
                <a:moveTo>
                  <a:pt x="3721" y="18380"/>
                </a:moveTo>
                <a:cubicBezTo>
                  <a:pt x="3721" y="18388"/>
                  <a:pt x="3721" y="18397"/>
                  <a:pt x="3721" y="18405"/>
                </a:cubicBezTo>
              </a:path>
              <a:path w="8137" h="11064">
                <a:moveTo>
                  <a:pt x="4961" y="12502"/>
                </a:moveTo>
                <a:cubicBezTo>
                  <a:pt x="4996" y="12490"/>
                  <a:pt x="4986" y="12495"/>
                  <a:pt x="4986" y="12452"/>
                </a:cubicBezTo>
                <a:cubicBezTo>
                  <a:pt x="4918" y="12452"/>
                  <a:pt x="4902" y="12433"/>
                  <a:pt x="4887" y="12526"/>
                </a:cubicBezTo>
                <a:cubicBezTo>
                  <a:pt x="4877" y="12590"/>
                  <a:pt x="4941" y="12656"/>
                  <a:pt x="5011" y="12601"/>
                </a:cubicBezTo>
                <a:cubicBezTo>
                  <a:pt x="5050" y="12570"/>
                  <a:pt x="5035" y="12493"/>
                  <a:pt x="5035" y="12452"/>
                </a:cubicBezTo>
                <a:cubicBezTo>
                  <a:pt x="4958" y="12452"/>
                  <a:pt x="4926" y="12498"/>
                  <a:pt x="4911" y="12576"/>
                </a:cubicBezTo>
                <a:cubicBezTo>
                  <a:pt x="4911" y="12601"/>
                  <a:pt x="4911" y="12625"/>
                  <a:pt x="4911" y="12650"/>
                </a:cubicBezTo>
                <a:cubicBezTo>
                  <a:pt x="4944" y="12650"/>
                  <a:pt x="4961" y="12650"/>
                  <a:pt x="4986" y="12650"/>
                </a:cubicBezTo>
                <a:cubicBezTo>
                  <a:pt x="5014" y="12587"/>
                  <a:pt x="5030" y="12576"/>
                  <a:pt x="4961" y="12576"/>
                </a:cubicBezTo>
                <a:cubicBezTo>
                  <a:pt x="4953" y="12576"/>
                  <a:pt x="4944" y="12576"/>
                  <a:pt x="4936" y="12576"/>
                </a:cubicBezTo>
              </a:path>
              <a:path w="8137" h="11064">
                <a:moveTo>
                  <a:pt x="5035" y="12650"/>
                </a:moveTo>
                <a:cubicBezTo>
                  <a:pt x="5096" y="12679"/>
                  <a:pt x="5168" y="12717"/>
                  <a:pt x="5234" y="12750"/>
                </a:cubicBezTo>
                <a:cubicBezTo>
                  <a:pt x="5327" y="12796"/>
                  <a:pt x="5446" y="12842"/>
                  <a:pt x="5531" y="12898"/>
                </a:cubicBezTo>
                <a:cubicBezTo>
                  <a:pt x="5622" y="12958"/>
                  <a:pt x="5712" y="13012"/>
                  <a:pt x="5804" y="13072"/>
                </a:cubicBezTo>
                <a:cubicBezTo>
                  <a:pt x="5932" y="13155"/>
                  <a:pt x="6045" y="13247"/>
                  <a:pt x="6176" y="13320"/>
                </a:cubicBezTo>
                <a:cubicBezTo>
                  <a:pt x="6262" y="13368"/>
                  <a:pt x="6361" y="13396"/>
                  <a:pt x="6449" y="13444"/>
                </a:cubicBezTo>
                <a:cubicBezTo>
                  <a:pt x="6541" y="13494"/>
                  <a:pt x="6652" y="13540"/>
                  <a:pt x="6747" y="13593"/>
                </a:cubicBezTo>
                <a:cubicBezTo>
                  <a:pt x="6872" y="13663"/>
                  <a:pt x="6993" y="13724"/>
                  <a:pt x="7119" y="13791"/>
                </a:cubicBezTo>
                <a:cubicBezTo>
                  <a:pt x="7243" y="13857"/>
                  <a:pt x="7365" y="13926"/>
                  <a:pt x="7491" y="13990"/>
                </a:cubicBezTo>
                <a:cubicBezTo>
                  <a:pt x="7607" y="14049"/>
                  <a:pt x="7719" y="14114"/>
                  <a:pt x="7838" y="14163"/>
                </a:cubicBezTo>
                <a:cubicBezTo>
                  <a:pt x="7927" y="14199"/>
                  <a:pt x="8020" y="14231"/>
                  <a:pt x="8111" y="14263"/>
                </a:cubicBezTo>
                <a:cubicBezTo>
                  <a:pt x="8211" y="14298"/>
                  <a:pt x="8327" y="14354"/>
                  <a:pt x="8434" y="14387"/>
                </a:cubicBezTo>
                <a:cubicBezTo>
                  <a:pt x="8561" y="14426"/>
                  <a:pt x="8717" y="14480"/>
                  <a:pt x="8830" y="14560"/>
                </a:cubicBezTo>
                <a:cubicBezTo>
                  <a:pt x="8909" y="14616"/>
                  <a:pt x="8969" y="14680"/>
                  <a:pt x="9054" y="14734"/>
                </a:cubicBezTo>
                <a:cubicBezTo>
                  <a:pt x="9132" y="14783"/>
                  <a:pt x="9204" y="14830"/>
                  <a:pt x="9277" y="14883"/>
                </a:cubicBezTo>
                <a:cubicBezTo>
                  <a:pt x="9340" y="14929"/>
                  <a:pt x="9411" y="14962"/>
                  <a:pt x="9475" y="15007"/>
                </a:cubicBezTo>
                <a:cubicBezTo>
                  <a:pt x="9578" y="15080"/>
                  <a:pt x="9684" y="15124"/>
                  <a:pt x="9798" y="15180"/>
                </a:cubicBezTo>
                <a:cubicBezTo>
                  <a:pt x="9899" y="15230"/>
                  <a:pt x="10009" y="15282"/>
                  <a:pt x="10120" y="15329"/>
                </a:cubicBezTo>
                <a:cubicBezTo>
                  <a:pt x="10170" y="15350"/>
                  <a:pt x="10250" y="15357"/>
                  <a:pt x="10294" y="15379"/>
                </a:cubicBezTo>
                <a:cubicBezTo>
                  <a:pt x="10327" y="15396"/>
                  <a:pt x="10262" y="15386"/>
                  <a:pt x="10294" y="15404"/>
                </a:cubicBezTo>
              </a:path>
              <a:path w="8137" h="11064">
                <a:moveTo>
                  <a:pt x="4887" y="12427"/>
                </a:moveTo>
                <a:cubicBezTo>
                  <a:pt x="4930" y="12521"/>
                  <a:pt x="4979" y="12627"/>
                  <a:pt x="5035" y="12725"/>
                </a:cubicBezTo>
                <a:cubicBezTo>
                  <a:pt x="5158" y="12941"/>
                  <a:pt x="5283" y="13154"/>
                  <a:pt x="5407" y="13370"/>
                </a:cubicBezTo>
                <a:cubicBezTo>
                  <a:pt x="5534" y="13590"/>
                  <a:pt x="5643" y="13811"/>
                  <a:pt x="5755" y="14039"/>
                </a:cubicBezTo>
                <a:cubicBezTo>
                  <a:pt x="5830" y="14192"/>
                  <a:pt x="5921" y="14336"/>
                  <a:pt x="6003" y="14486"/>
                </a:cubicBezTo>
                <a:cubicBezTo>
                  <a:pt x="6072" y="14612"/>
                  <a:pt x="6134" y="14734"/>
                  <a:pt x="6201" y="14858"/>
                </a:cubicBezTo>
                <a:cubicBezTo>
                  <a:pt x="6279" y="15003"/>
                  <a:pt x="6364" y="15140"/>
                  <a:pt x="6449" y="15280"/>
                </a:cubicBezTo>
                <a:cubicBezTo>
                  <a:pt x="6559" y="15460"/>
                  <a:pt x="6694" y="15610"/>
                  <a:pt x="6821" y="15776"/>
                </a:cubicBezTo>
                <a:cubicBezTo>
                  <a:pt x="6910" y="15892"/>
                  <a:pt x="6979" y="16038"/>
                  <a:pt x="7069" y="16148"/>
                </a:cubicBezTo>
                <a:cubicBezTo>
                  <a:pt x="7148" y="16245"/>
                  <a:pt x="7270" y="16325"/>
                  <a:pt x="7342" y="16421"/>
                </a:cubicBezTo>
                <a:cubicBezTo>
                  <a:pt x="7443" y="16554"/>
                  <a:pt x="7541" y="16706"/>
                  <a:pt x="7640" y="16842"/>
                </a:cubicBezTo>
                <a:cubicBezTo>
                  <a:pt x="7713" y="16943"/>
                  <a:pt x="7784" y="17022"/>
                  <a:pt x="7863" y="17115"/>
                </a:cubicBezTo>
                <a:cubicBezTo>
                  <a:pt x="7954" y="17223"/>
                  <a:pt x="8046" y="17331"/>
                  <a:pt x="8136" y="17438"/>
                </a:cubicBezTo>
                <a:cubicBezTo>
                  <a:pt x="8174" y="17483"/>
                  <a:pt x="8216" y="17535"/>
                  <a:pt x="8260" y="17587"/>
                </a:cubicBezTo>
                <a:cubicBezTo>
                  <a:pt x="8321" y="17660"/>
                  <a:pt x="8375" y="17772"/>
                  <a:pt x="8434" y="17835"/>
                </a:cubicBezTo>
                <a:cubicBezTo>
                  <a:pt x="8474" y="17878"/>
                  <a:pt x="8465" y="17845"/>
                  <a:pt x="8508" y="17884"/>
                </a:cubicBezTo>
              </a:path>
              <a:path w="8137" h="11064">
                <a:moveTo>
                  <a:pt x="4713" y="12675"/>
                </a:moveTo>
                <a:cubicBezTo>
                  <a:pt x="4724" y="12721"/>
                  <a:pt x="4758" y="12773"/>
                  <a:pt x="4762" y="12824"/>
                </a:cubicBezTo>
                <a:cubicBezTo>
                  <a:pt x="4778" y="13044"/>
                  <a:pt x="4756" y="13276"/>
                  <a:pt x="4738" y="13494"/>
                </a:cubicBezTo>
                <a:cubicBezTo>
                  <a:pt x="4713" y="13799"/>
                  <a:pt x="4693" y="14107"/>
                  <a:pt x="4688" y="14412"/>
                </a:cubicBezTo>
                <a:cubicBezTo>
                  <a:pt x="4682" y="14784"/>
                  <a:pt x="4682" y="15160"/>
                  <a:pt x="4713" y="15528"/>
                </a:cubicBezTo>
                <a:cubicBezTo>
                  <a:pt x="4726" y="15683"/>
                  <a:pt x="4728" y="15846"/>
                  <a:pt x="4738" y="15999"/>
                </a:cubicBezTo>
                <a:cubicBezTo>
                  <a:pt x="4745" y="16109"/>
                  <a:pt x="4759" y="16212"/>
                  <a:pt x="4762" y="16321"/>
                </a:cubicBezTo>
                <a:cubicBezTo>
                  <a:pt x="4766" y="16464"/>
                  <a:pt x="4802" y="16602"/>
                  <a:pt x="4812" y="16743"/>
                </a:cubicBezTo>
                <a:cubicBezTo>
                  <a:pt x="4822" y="16877"/>
                  <a:pt x="4828" y="17008"/>
                  <a:pt x="4837" y="17140"/>
                </a:cubicBezTo>
                <a:cubicBezTo>
                  <a:pt x="4845" y="17258"/>
                  <a:pt x="4855" y="17371"/>
                  <a:pt x="4862" y="17487"/>
                </a:cubicBezTo>
                <a:cubicBezTo>
                  <a:pt x="4867" y="17570"/>
                  <a:pt x="4882" y="17659"/>
                  <a:pt x="4887" y="17735"/>
                </a:cubicBezTo>
                <a:cubicBezTo>
                  <a:pt x="4892" y="17809"/>
                  <a:pt x="4887" y="17834"/>
                  <a:pt x="4887" y="17909"/>
                </a:cubicBezTo>
                <a:cubicBezTo>
                  <a:pt x="4887" y="17901"/>
                  <a:pt x="4887" y="17892"/>
                  <a:pt x="4887" y="17884"/>
                </a:cubicBezTo>
              </a:path>
              <a:path w="8137" h="11064">
                <a:moveTo>
                  <a:pt x="8582" y="12477"/>
                </a:moveTo>
                <a:cubicBezTo>
                  <a:pt x="8582" y="12452"/>
                  <a:pt x="8582" y="12427"/>
                  <a:pt x="8582" y="12402"/>
                </a:cubicBezTo>
                <a:cubicBezTo>
                  <a:pt x="8513" y="12444"/>
                  <a:pt x="8462" y="12544"/>
                  <a:pt x="8533" y="12626"/>
                </a:cubicBezTo>
                <a:cubicBezTo>
                  <a:pt x="8624" y="12730"/>
                  <a:pt x="8748" y="12550"/>
                  <a:pt x="8706" y="12452"/>
                </a:cubicBezTo>
                <a:cubicBezTo>
                  <a:pt x="8649" y="12320"/>
                  <a:pt x="8487" y="12443"/>
                  <a:pt x="8458" y="12526"/>
                </a:cubicBezTo>
                <a:cubicBezTo>
                  <a:pt x="8458" y="12595"/>
                  <a:pt x="8452" y="12617"/>
                  <a:pt x="8508" y="12626"/>
                </a:cubicBezTo>
                <a:cubicBezTo>
                  <a:pt x="8627" y="12561"/>
                  <a:pt x="8614" y="12564"/>
                  <a:pt x="8632" y="12427"/>
                </a:cubicBezTo>
                <a:cubicBezTo>
                  <a:pt x="8493" y="12351"/>
                  <a:pt x="8474" y="12434"/>
                  <a:pt x="8483" y="12576"/>
                </a:cubicBezTo>
                <a:cubicBezTo>
                  <a:pt x="8483" y="12611"/>
                  <a:pt x="8492" y="12615"/>
                  <a:pt x="8533" y="12576"/>
                </a:cubicBezTo>
              </a:path>
              <a:path w="8137" h="11064">
                <a:moveTo>
                  <a:pt x="8607" y="12477"/>
                </a:moveTo>
                <a:cubicBezTo>
                  <a:pt x="8544" y="12520"/>
                  <a:pt x="8520" y="12532"/>
                  <a:pt x="8458" y="12576"/>
                </a:cubicBezTo>
                <a:cubicBezTo>
                  <a:pt x="8223" y="12742"/>
                  <a:pt x="7979" y="12784"/>
                  <a:pt x="7714" y="12874"/>
                </a:cubicBezTo>
                <a:cubicBezTo>
                  <a:pt x="7504" y="12945"/>
                  <a:pt x="7303" y="13046"/>
                  <a:pt x="7094" y="13122"/>
                </a:cubicBezTo>
                <a:cubicBezTo>
                  <a:pt x="6916" y="13187"/>
                  <a:pt x="6757" y="13271"/>
                  <a:pt x="6598" y="13370"/>
                </a:cubicBezTo>
                <a:cubicBezTo>
                  <a:pt x="6451" y="13462"/>
                  <a:pt x="6307" y="13542"/>
                  <a:pt x="6152" y="13618"/>
                </a:cubicBezTo>
                <a:cubicBezTo>
                  <a:pt x="5998" y="13693"/>
                  <a:pt x="5848" y="13773"/>
                  <a:pt x="5705" y="13866"/>
                </a:cubicBezTo>
                <a:cubicBezTo>
                  <a:pt x="5578" y="13948"/>
                  <a:pt x="5456" y="14052"/>
                  <a:pt x="5333" y="14139"/>
                </a:cubicBezTo>
                <a:cubicBezTo>
                  <a:pt x="5116" y="14292"/>
                  <a:pt x="4900" y="14451"/>
                  <a:pt x="4688" y="14610"/>
                </a:cubicBezTo>
                <a:cubicBezTo>
                  <a:pt x="4562" y="14704"/>
                  <a:pt x="4425" y="14778"/>
                  <a:pt x="4291" y="14858"/>
                </a:cubicBezTo>
                <a:cubicBezTo>
                  <a:pt x="4185" y="14922"/>
                  <a:pt x="4079" y="14956"/>
                  <a:pt x="3969" y="15007"/>
                </a:cubicBezTo>
                <a:cubicBezTo>
                  <a:pt x="3821" y="15075"/>
                  <a:pt x="3680" y="15138"/>
                  <a:pt x="3522" y="15180"/>
                </a:cubicBezTo>
                <a:cubicBezTo>
                  <a:pt x="3423" y="15206"/>
                  <a:pt x="3232" y="15358"/>
                  <a:pt x="3225" y="15255"/>
                </a:cubicBezTo>
                <a:cubicBezTo>
                  <a:pt x="3288" y="15255"/>
                  <a:pt x="3324" y="15228"/>
                  <a:pt x="3349" y="15156"/>
                </a:cubicBezTo>
              </a:path>
              <a:path w="8137" h="11064">
                <a:moveTo>
                  <a:pt x="8582" y="12551"/>
                </a:moveTo>
                <a:cubicBezTo>
                  <a:pt x="8550" y="12592"/>
                  <a:pt x="8495" y="12608"/>
                  <a:pt x="8458" y="12675"/>
                </a:cubicBezTo>
                <a:cubicBezTo>
                  <a:pt x="8366" y="12841"/>
                  <a:pt x="8299" y="12990"/>
                  <a:pt x="8186" y="13146"/>
                </a:cubicBezTo>
                <a:cubicBezTo>
                  <a:pt x="7995" y="13409"/>
                  <a:pt x="7776" y="13649"/>
                  <a:pt x="7590" y="13915"/>
                </a:cubicBezTo>
                <a:cubicBezTo>
                  <a:pt x="7391" y="14200"/>
                  <a:pt x="7172" y="14487"/>
                  <a:pt x="6995" y="14784"/>
                </a:cubicBezTo>
                <a:cubicBezTo>
                  <a:pt x="6882" y="14973"/>
                  <a:pt x="6798" y="15184"/>
                  <a:pt x="6697" y="15379"/>
                </a:cubicBezTo>
                <a:cubicBezTo>
                  <a:pt x="6593" y="15580"/>
                  <a:pt x="6487" y="15778"/>
                  <a:pt x="6375" y="15974"/>
                </a:cubicBezTo>
                <a:cubicBezTo>
                  <a:pt x="6218" y="16247"/>
                  <a:pt x="5992" y="16475"/>
                  <a:pt x="5829" y="16743"/>
                </a:cubicBezTo>
                <a:cubicBezTo>
                  <a:pt x="5760" y="16857"/>
                  <a:pt x="5694" y="16972"/>
                  <a:pt x="5631" y="17090"/>
                </a:cubicBezTo>
                <a:cubicBezTo>
                  <a:pt x="5562" y="17220"/>
                  <a:pt x="5494" y="17345"/>
                  <a:pt x="5407" y="17462"/>
                </a:cubicBezTo>
                <a:cubicBezTo>
                  <a:pt x="5331" y="17564"/>
                  <a:pt x="5272" y="17651"/>
                  <a:pt x="5209" y="17760"/>
                </a:cubicBezTo>
                <a:cubicBezTo>
                  <a:pt x="5161" y="17844"/>
                  <a:pt x="5109" y="17927"/>
                  <a:pt x="5060" y="18008"/>
                </a:cubicBezTo>
                <a:cubicBezTo>
                  <a:pt x="5097" y="17899"/>
                  <a:pt x="5120" y="17840"/>
                  <a:pt x="5159" y="17760"/>
                </a:cubicBezTo>
              </a:path>
              <a:path w="8137" h="11064">
                <a:moveTo>
                  <a:pt x="8558" y="12973"/>
                </a:moveTo>
                <a:cubicBezTo>
                  <a:pt x="8566" y="12929"/>
                  <a:pt x="8575" y="12944"/>
                  <a:pt x="8582" y="12874"/>
                </a:cubicBezTo>
                <a:cubicBezTo>
                  <a:pt x="8590" y="12796"/>
                  <a:pt x="8596" y="12716"/>
                  <a:pt x="8607" y="12650"/>
                </a:cubicBezTo>
                <a:cubicBezTo>
                  <a:pt x="8607" y="12609"/>
                  <a:pt x="8607" y="12585"/>
                  <a:pt x="8607" y="12626"/>
                </a:cubicBezTo>
                <a:cubicBezTo>
                  <a:pt x="8644" y="12760"/>
                  <a:pt x="8657" y="12855"/>
                  <a:pt x="8657" y="12998"/>
                </a:cubicBezTo>
                <a:cubicBezTo>
                  <a:pt x="8657" y="13269"/>
                  <a:pt x="8615" y="13527"/>
                  <a:pt x="8558" y="13791"/>
                </a:cubicBezTo>
                <a:cubicBezTo>
                  <a:pt x="8504" y="14038"/>
                  <a:pt x="8467" y="14291"/>
                  <a:pt x="8409" y="14536"/>
                </a:cubicBezTo>
                <a:cubicBezTo>
                  <a:pt x="8348" y="14794"/>
                  <a:pt x="8316" y="15042"/>
                  <a:pt x="8285" y="15304"/>
                </a:cubicBezTo>
                <a:cubicBezTo>
                  <a:pt x="8265" y="15474"/>
                  <a:pt x="8213" y="15630"/>
                  <a:pt x="8210" y="15801"/>
                </a:cubicBezTo>
                <a:cubicBezTo>
                  <a:pt x="8208" y="15912"/>
                  <a:pt x="8229" y="16018"/>
                  <a:pt x="8235" y="16123"/>
                </a:cubicBezTo>
                <a:cubicBezTo>
                  <a:pt x="8241" y="16241"/>
                  <a:pt x="8251" y="16355"/>
                  <a:pt x="8260" y="16470"/>
                </a:cubicBezTo>
                <a:cubicBezTo>
                  <a:pt x="8271" y="16610"/>
                  <a:pt x="8281" y="16752"/>
                  <a:pt x="8285" y="16892"/>
                </a:cubicBezTo>
                <a:cubicBezTo>
                  <a:pt x="8288" y="17006"/>
                  <a:pt x="8297" y="17125"/>
                  <a:pt x="8310" y="17239"/>
                </a:cubicBezTo>
                <a:cubicBezTo>
                  <a:pt x="8320" y="17324"/>
                  <a:pt x="8350" y="17403"/>
                  <a:pt x="8359" y="17487"/>
                </a:cubicBezTo>
                <a:cubicBezTo>
                  <a:pt x="8367" y="17562"/>
                  <a:pt x="8375" y="17579"/>
                  <a:pt x="8384" y="17636"/>
                </a:cubicBezTo>
                <a:cubicBezTo>
                  <a:pt x="8384" y="17678"/>
                  <a:pt x="8384" y="17703"/>
                  <a:pt x="8384" y="176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5120" y="5402160"/>
            <a:ext cx="3303720" cy="1036800"/>
          </a:xfrm>
          <a:custGeom>
            <a:avLst/>
            <a:gdLst/>
            <a:ahLst/>
            <a:rect l="l" t="t" r="r" b="b"/>
            <a:pathLst>
              <a:path w="9179" h="2878">
                <a:moveTo>
                  <a:pt x="10443" y="15205"/>
                </a:moveTo>
                <a:cubicBezTo>
                  <a:pt x="10451" y="15188"/>
                  <a:pt x="10485" y="15009"/>
                  <a:pt x="10393" y="15056"/>
                </a:cubicBezTo>
                <a:cubicBezTo>
                  <a:pt x="10258" y="15124"/>
                  <a:pt x="10245" y="15281"/>
                  <a:pt x="10294" y="15379"/>
                </a:cubicBezTo>
                <a:cubicBezTo>
                  <a:pt x="10432" y="15356"/>
                  <a:pt x="10534" y="15277"/>
                  <a:pt x="10418" y="15131"/>
                </a:cubicBezTo>
                <a:cubicBezTo>
                  <a:pt x="10338" y="15030"/>
                  <a:pt x="10266" y="15221"/>
                  <a:pt x="10244" y="15255"/>
                </a:cubicBezTo>
                <a:cubicBezTo>
                  <a:pt x="10287" y="15306"/>
                  <a:pt x="10380" y="15335"/>
                  <a:pt x="10418" y="15230"/>
                </a:cubicBezTo>
                <a:cubicBezTo>
                  <a:pt x="10448" y="15148"/>
                  <a:pt x="10397" y="15137"/>
                  <a:pt x="10344" y="15106"/>
                </a:cubicBezTo>
                <a:cubicBezTo>
                  <a:pt x="10307" y="15179"/>
                  <a:pt x="10273" y="15344"/>
                  <a:pt x="10344" y="15304"/>
                </a:cubicBezTo>
                <a:cubicBezTo>
                  <a:pt x="10390" y="15258"/>
                  <a:pt x="10404" y="15246"/>
                  <a:pt x="10418" y="15205"/>
                </a:cubicBezTo>
              </a:path>
              <a:path w="9179" h="2878">
                <a:moveTo>
                  <a:pt x="10368" y="15056"/>
                </a:moveTo>
                <a:cubicBezTo>
                  <a:pt x="10254" y="15064"/>
                  <a:pt x="10168" y="15060"/>
                  <a:pt x="10046" y="15056"/>
                </a:cubicBezTo>
                <a:cubicBezTo>
                  <a:pt x="9694" y="15045"/>
                  <a:pt x="9326" y="15037"/>
                  <a:pt x="8979" y="15081"/>
                </a:cubicBezTo>
                <a:cubicBezTo>
                  <a:pt x="8891" y="15092"/>
                  <a:pt x="8817" y="15109"/>
                  <a:pt x="8731" y="15131"/>
                </a:cubicBezTo>
                <a:cubicBezTo>
                  <a:pt x="8530" y="15181"/>
                  <a:pt x="8340" y="15207"/>
                  <a:pt x="8136" y="15230"/>
                </a:cubicBezTo>
                <a:cubicBezTo>
                  <a:pt x="7942" y="15252"/>
                  <a:pt x="7781" y="15240"/>
                  <a:pt x="7590" y="15230"/>
                </a:cubicBezTo>
                <a:cubicBezTo>
                  <a:pt x="7366" y="15219"/>
                  <a:pt x="7143" y="15220"/>
                  <a:pt x="6921" y="15205"/>
                </a:cubicBezTo>
                <a:cubicBezTo>
                  <a:pt x="6739" y="15193"/>
                  <a:pt x="6557" y="15195"/>
                  <a:pt x="6375" y="15180"/>
                </a:cubicBezTo>
                <a:cubicBezTo>
                  <a:pt x="6062" y="15153"/>
                  <a:pt x="5745" y="15136"/>
                  <a:pt x="5432" y="15131"/>
                </a:cubicBezTo>
                <a:cubicBezTo>
                  <a:pt x="5132" y="15126"/>
                  <a:pt x="4835" y="15142"/>
                  <a:pt x="4539" y="15156"/>
                </a:cubicBezTo>
                <a:cubicBezTo>
                  <a:pt x="4406" y="15162"/>
                  <a:pt x="4266" y="15156"/>
                  <a:pt x="4142" y="15156"/>
                </a:cubicBezTo>
                <a:cubicBezTo>
                  <a:pt x="4028" y="15156"/>
                  <a:pt x="3914" y="15156"/>
                  <a:pt x="3795" y="15156"/>
                </a:cubicBezTo>
                <a:cubicBezTo>
                  <a:pt x="3645" y="15156"/>
                  <a:pt x="3491" y="15173"/>
                  <a:pt x="3349" y="15180"/>
                </a:cubicBezTo>
                <a:cubicBezTo>
                  <a:pt x="3265" y="15184"/>
                  <a:pt x="3204" y="15185"/>
                  <a:pt x="3125" y="15205"/>
                </a:cubicBezTo>
              </a:path>
              <a:path w="9179" h="2878">
                <a:moveTo>
                  <a:pt x="1290" y="15875"/>
                </a:moveTo>
                <a:cubicBezTo>
                  <a:pt x="1335" y="15975"/>
                  <a:pt x="1382" y="16191"/>
                  <a:pt x="1463" y="16272"/>
                </a:cubicBezTo>
                <a:cubicBezTo>
                  <a:pt x="1471" y="16272"/>
                  <a:pt x="1480" y="16272"/>
                  <a:pt x="1488" y="16272"/>
                </a:cubicBezTo>
              </a:path>
              <a:path w="9179" h="2878">
                <a:moveTo>
                  <a:pt x="10294" y="15007"/>
                </a:moveTo>
                <a:cubicBezTo>
                  <a:pt x="10335" y="15007"/>
                  <a:pt x="10343" y="15007"/>
                  <a:pt x="10368" y="15007"/>
                </a:cubicBezTo>
                <a:cubicBezTo>
                  <a:pt x="10330" y="15047"/>
                  <a:pt x="10289" y="15134"/>
                  <a:pt x="10220" y="15180"/>
                </a:cubicBezTo>
                <a:cubicBezTo>
                  <a:pt x="10065" y="15285"/>
                  <a:pt x="9871" y="15382"/>
                  <a:pt x="9699" y="15453"/>
                </a:cubicBezTo>
                <a:cubicBezTo>
                  <a:pt x="9484" y="15541"/>
                  <a:pt x="9266" y="15627"/>
                  <a:pt x="9054" y="15726"/>
                </a:cubicBezTo>
                <a:cubicBezTo>
                  <a:pt x="8821" y="15835"/>
                  <a:pt x="8596" y="15954"/>
                  <a:pt x="8359" y="16049"/>
                </a:cubicBezTo>
                <a:cubicBezTo>
                  <a:pt x="8127" y="16142"/>
                  <a:pt x="7909" y="16229"/>
                  <a:pt x="7689" y="16346"/>
                </a:cubicBezTo>
                <a:cubicBezTo>
                  <a:pt x="7534" y="16428"/>
                  <a:pt x="7382" y="16521"/>
                  <a:pt x="7218" y="16594"/>
                </a:cubicBezTo>
                <a:cubicBezTo>
                  <a:pt x="6941" y="16717"/>
                  <a:pt x="6667" y="16829"/>
                  <a:pt x="6400" y="16966"/>
                </a:cubicBezTo>
                <a:cubicBezTo>
                  <a:pt x="6276" y="17030"/>
                  <a:pt x="6151" y="17081"/>
                  <a:pt x="6028" y="17140"/>
                </a:cubicBezTo>
                <a:cubicBezTo>
                  <a:pt x="5891" y="17205"/>
                  <a:pt x="5779" y="17287"/>
                  <a:pt x="5655" y="17363"/>
                </a:cubicBezTo>
                <a:cubicBezTo>
                  <a:pt x="5503" y="17456"/>
                  <a:pt x="5341" y="17507"/>
                  <a:pt x="5184" y="17587"/>
                </a:cubicBezTo>
                <a:cubicBezTo>
                  <a:pt x="5067" y="17647"/>
                  <a:pt x="4949" y="17716"/>
                  <a:pt x="4837" y="17785"/>
                </a:cubicBezTo>
                <a:cubicBezTo>
                  <a:pt x="4796" y="17810"/>
                  <a:pt x="4800" y="17840"/>
                  <a:pt x="4762" y="17859"/>
                </a:cubicBezTo>
                <a:cubicBezTo>
                  <a:pt x="4762" y="17851"/>
                  <a:pt x="4762" y="17843"/>
                  <a:pt x="4762" y="17835"/>
                </a:cubicBezTo>
              </a:path>
              <a:path w="9179" h="2878">
                <a:moveTo>
                  <a:pt x="1588" y="15701"/>
                </a:moveTo>
                <a:cubicBezTo>
                  <a:pt x="1625" y="15836"/>
                  <a:pt x="1649" y="15997"/>
                  <a:pt x="1712" y="16123"/>
                </a:cubicBezTo>
                <a:cubicBezTo>
                  <a:pt x="1733" y="16164"/>
                  <a:pt x="1779" y="16261"/>
                  <a:pt x="1811" y="16272"/>
                </a:cubicBezTo>
              </a:path>
              <a:path w="9179" h="2878">
                <a:moveTo>
                  <a:pt x="3249" y="17165"/>
                </a:moveTo>
                <a:cubicBezTo>
                  <a:pt x="3232" y="17093"/>
                  <a:pt x="3192" y="17015"/>
                  <a:pt x="3125" y="16966"/>
                </a:cubicBezTo>
                <a:cubicBezTo>
                  <a:pt x="2929" y="16823"/>
                  <a:pt x="2808" y="16999"/>
                  <a:pt x="2778" y="17190"/>
                </a:cubicBezTo>
                <a:cubicBezTo>
                  <a:pt x="2752" y="17356"/>
                  <a:pt x="2775" y="17434"/>
                  <a:pt x="2877" y="17537"/>
                </a:cubicBezTo>
                <a:cubicBezTo>
                  <a:pt x="3020" y="17405"/>
                  <a:pt x="3079" y="17284"/>
                  <a:pt x="3125" y="17090"/>
                </a:cubicBezTo>
                <a:cubicBezTo>
                  <a:pt x="3125" y="17082"/>
                  <a:pt x="3125" y="17074"/>
                  <a:pt x="3125" y="17066"/>
                </a:cubicBezTo>
                <a:cubicBezTo>
                  <a:pt x="3158" y="17195"/>
                  <a:pt x="3221" y="17346"/>
                  <a:pt x="3249" y="17487"/>
                </a:cubicBezTo>
                <a:cubicBezTo>
                  <a:pt x="3256" y="17520"/>
                  <a:pt x="3349" y="17860"/>
                  <a:pt x="3274" y="17884"/>
                </a:cubicBezTo>
                <a:cubicBezTo>
                  <a:pt x="3274" y="17876"/>
                  <a:pt x="3274" y="17867"/>
                  <a:pt x="3274" y="178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0200" y="4848120"/>
            <a:ext cx="2965680" cy="1635120"/>
          </a:xfrm>
          <a:custGeom>
            <a:avLst/>
            <a:gdLst/>
            <a:ahLst/>
            <a:rect l="l" t="t" r="r" b="b"/>
            <a:pathLst>
              <a:path w="8237" h="4540">
                <a:moveTo>
                  <a:pt x="496" y="13469"/>
                </a:moveTo>
                <a:cubicBezTo>
                  <a:pt x="496" y="13694"/>
                  <a:pt x="559" y="13910"/>
                  <a:pt x="571" y="14139"/>
                </a:cubicBezTo>
                <a:cubicBezTo>
                  <a:pt x="580" y="14306"/>
                  <a:pt x="561" y="14642"/>
                  <a:pt x="620" y="14486"/>
                </a:cubicBezTo>
              </a:path>
              <a:path w="8237" h="4540">
                <a:moveTo>
                  <a:pt x="868" y="13469"/>
                </a:moveTo>
                <a:cubicBezTo>
                  <a:pt x="900" y="13750"/>
                  <a:pt x="924" y="14031"/>
                  <a:pt x="943" y="14312"/>
                </a:cubicBezTo>
                <a:cubicBezTo>
                  <a:pt x="943" y="14374"/>
                  <a:pt x="934" y="14408"/>
                  <a:pt x="967" y="14362"/>
                </a:cubicBezTo>
              </a:path>
              <a:path w="8237" h="4540">
                <a:moveTo>
                  <a:pt x="1141" y="13667"/>
                </a:moveTo>
                <a:cubicBezTo>
                  <a:pt x="1224" y="13915"/>
                  <a:pt x="1266" y="14147"/>
                  <a:pt x="1240" y="14412"/>
                </a:cubicBezTo>
                <a:cubicBezTo>
                  <a:pt x="1219" y="14494"/>
                  <a:pt x="1211" y="14545"/>
                  <a:pt x="1215" y="14461"/>
                </a:cubicBezTo>
              </a:path>
              <a:path w="8237" h="4540">
                <a:moveTo>
                  <a:pt x="1662" y="13767"/>
                </a:moveTo>
                <a:cubicBezTo>
                  <a:pt x="1645" y="13899"/>
                  <a:pt x="1676" y="13965"/>
                  <a:pt x="1687" y="14114"/>
                </a:cubicBezTo>
                <a:cubicBezTo>
                  <a:pt x="1693" y="14195"/>
                  <a:pt x="1716" y="14410"/>
                  <a:pt x="1687" y="14412"/>
                </a:cubicBezTo>
              </a:path>
              <a:path w="8237" h="4540">
                <a:moveTo>
                  <a:pt x="446" y="13717"/>
                </a:moveTo>
                <a:cubicBezTo>
                  <a:pt x="463" y="13725"/>
                  <a:pt x="479" y="13734"/>
                  <a:pt x="496" y="13742"/>
                </a:cubicBezTo>
              </a:path>
              <a:path w="8237" h="4540">
                <a:moveTo>
                  <a:pt x="496" y="13692"/>
                </a:moveTo>
                <a:cubicBezTo>
                  <a:pt x="716" y="13717"/>
                  <a:pt x="927" y="13859"/>
                  <a:pt x="1116" y="13965"/>
                </a:cubicBezTo>
                <a:cubicBezTo>
                  <a:pt x="1386" y="14116"/>
                  <a:pt x="1663" y="14251"/>
                  <a:pt x="1935" y="14387"/>
                </a:cubicBezTo>
                <a:cubicBezTo>
                  <a:pt x="1957" y="14409"/>
                  <a:pt x="1962" y="14418"/>
                  <a:pt x="1984" y="14412"/>
                </a:cubicBezTo>
              </a:path>
              <a:path w="8237" h="4540">
                <a:moveTo>
                  <a:pt x="595" y="15429"/>
                </a:moveTo>
                <a:cubicBezTo>
                  <a:pt x="696" y="15587"/>
                  <a:pt x="710" y="15766"/>
                  <a:pt x="744" y="15949"/>
                </a:cubicBezTo>
                <a:cubicBezTo>
                  <a:pt x="766" y="16056"/>
                  <a:pt x="774" y="16080"/>
                  <a:pt x="769" y="16148"/>
                </a:cubicBezTo>
              </a:path>
              <a:path w="8237" h="4540">
                <a:moveTo>
                  <a:pt x="8483" y="17959"/>
                </a:moveTo>
                <a:cubicBezTo>
                  <a:pt x="8553" y="17881"/>
                  <a:pt x="8638" y="17777"/>
                  <a:pt x="8632" y="17661"/>
                </a:cubicBezTo>
                <a:cubicBezTo>
                  <a:pt x="8607" y="17636"/>
                  <a:pt x="8599" y="17628"/>
                  <a:pt x="8582" y="17611"/>
                </a:cubicBezTo>
                <a:cubicBezTo>
                  <a:pt x="8466" y="17676"/>
                  <a:pt x="8392" y="17758"/>
                  <a:pt x="8434" y="17909"/>
                </a:cubicBezTo>
                <a:cubicBezTo>
                  <a:pt x="8481" y="17980"/>
                  <a:pt x="8494" y="18004"/>
                  <a:pt x="8558" y="18008"/>
                </a:cubicBezTo>
                <a:cubicBezTo>
                  <a:pt x="8634" y="17898"/>
                  <a:pt x="8773" y="17738"/>
                  <a:pt x="8632" y="17611"/>
                </a:cubicBezTo>
                <a:cubicBezTo>
                  <a:pt x="8501" y="17493"/>
                  <a:pt x="8444" y="17766"/>
                  <a:pt x="8434" y="17835"/>
                </a:cubicBezTo>
                <a:cubicBezTo>
                  <a:pt x="8533" y="17884"/>
                  <a:pt x="8510" y="17858"/>
                  <a:pt x="8607" y="17760"/>
                </a:cubicBezTo>
              </a:path>
              <a:path w="8237" h="4540">
                <a:moveTo>
                  <a:pt x="8582" y="17785"/>
                </a:moveTo>
                <a:cubicBezTo>
                  <a:pt x="8465" y="17758"/>
                  <a:pt x="8394" y="17758"/>
                  <a:pt x="8285" y="17686"/>
                </a:cubicBezTo>
                <a:cubicBezTo>
                  <a:pt x="8207" y="17634"/>
                  <a:pt x="8137" y="17585"/>
                  <a:pt x="8062" y="17537"/>
                </a:cubicBezTo>
                <a:cubicBezTo>
                  <a:pt x="8024" y="17512"/>
                  <a:pt x="7980" y="17483"/>
                  <a:pt x="7938" y="17462"/>
                </a:cubicBezTo>
                <a:cubicBezTo>
                  <a:pt x="7836" y="17411"/>
                  <a:pt x="7718" y="17388"/>
                  <a:pt x="7615" y="17338"/>
                </a:cubicBezTo>
                <a:cubicBezTo>
                  <a:pt x="7498" y="17282"/>
                  <a:pt x="7386" y="17216"/>
                  <a:pt x="7268" y="17165"/>
                </a:cubicBezTo>
                <a:cubicBezTo>
                  <a:pt x="7183" y="17128"/>
                  <a:pt x="7095" y="17090"/>
                  <a:pt x="7020" y="17041"/>
                </a:cubicBezTo>
                <a:cubicBezTo>
                  <a:pt x="6944" y="16991"/>
                  <a:pt x="6869" y="16923"/>
                  <a:pt x="6796" y="16867"/>
                </a:cubicBezTo>
                <a:cubicBezTo>
                  <a:pt x="6729" y="16816"/>
                  <a:pt x="6650" y="16756"/>
                  <a:pt x="6573" y="16718"/>
                </a:cubicBezTo>
                <a:cubicBezTo>
                  <a:pt x="6461" y="16662"/>
                  <a:pt x="6340" y="16620"/>
                  <a:pt x="6226" y="16570"/>
                </a:cubicBezTo>
                <a:cubicBezTo>
                  <a:pt x="6113" y="16520"/>
                  <a:pt x="5996" y="16491"/>
                  <a:pt x="5879" y="16446"/>
                </a:cubicBezTo>
                <a:cubicBezTo>
                  <a:pt x="5759" y="16400"/>
                  <a:pt x="5649" y="16328"/>
                  <a:pt x="5531" y="16272"/>
                </a:cubicBezTo>
                <a:cubicBezTo>
                  <a:pt x="5429" y="16223"/>
                  <a:pt x="5313" y="16198"/>
                  <a:pt x="5209" y="16148"/>
                </a:cubicBezTo>
                <a:cubicBezTo>
                  <a:pt x="5132" y="16111"/>
                  <a:pt x="5069" y="16053"/>
                  <a:pt x="4986" y="16024"/>
                </a:cubicBezTo>
                <a:cubicBezTo>
                  <a:pt x="4892" y="15991"/>
                  <a:pt x="4764" y="15977"/>
                  <a:pt x="4663" y="15949"/>
                </a:cubicBezTo>
                <a:cubicBezTo>
                  <a:pt x="4542" y="15916"/>
                  <a:pt x="4430" y="15876"/>
                  <a:pt x="4316" y="15825"/>
                </a:cubicBezTo>
                <a:cubicBezTo>
                  <a:pt x="4244" y="15793"/>
                  <a:pt x="4160" y="15761"/>
                  <a:pt x="4093" y="15726"/>
                </a:cubicBezTo>
                <a:cubicBezTo>
                  <a:pt x="4033" y="15694"/>
                  <a:pt x="3979" y="15655"/>
                  <a:pt x="3919" y="15627"/>
                </a:cubicBezTo>
                <a:cubicBezTo>
                  <a:pt x="3883" y="15610"/>
                  <a:pt x="3823" y="15597"/>
                  <a:pt x="3795" y="15577"/>
                </a:cubicBezTo>
                <a:cubicBezTo>
                  <a:pt x="3697" y="15506"/>
                  <a:pt x="3629" y="15410"/>
                  <a:pt x="3522" y="15354"/>
                </a:cubicBezTo>
                <a:cubicBezTo>
                  <a:pt x="3377" y="15278"/>
                  <a:pt x="3224" y="15199"/>
                  <a:pt x="3076" y="15131"/>
                </a:cubicBezTo>
                <a:cubicBezTo>
                  <a:pt x="3031" y="15110"/>
                  <a:pt x="2991" y="15098"/>
                  <a:pt x="2952" y="15081"/>
                </a:cubicBezTo>
              </a:path>
              <a:path w="8237" h="4540">
                <a:moveTo>
                  <a:pt x="2084" y="15850"/>
                </a:moveTo>
                <a:cubicBezTo>
                  <a:pt x="2056" y="15905"/>
                  <a:pt x="2111" y="16101"/>
                  <a:pt x="2133" y="16197"/>
                </a:cubicBezTo>
                <a:cubicBezTo>
                  <a:pt x="2149" y="16268"/>
                  <a:pt x="2158" y="16304"/>
                  <a:pt x="2158" y="16371"/>
                </a:cubicBezTo>
              </a:path>
              <a:path w="8237" h="4540">
                <a:moveTo>
                  <a:pt x="4837" y="17735"/>
                </a:moveTo>
                <a:cubicBezTo>
                  <a:pt x="4837" y="17694"/>
                  <a:pt x="4837" y="17669"/>
                  <a:pt x="4837" y="17636"/>
                </a:cubicBezTo>
                <a:cubicBezTo>
                  <a:pt x="4752" y="17636"/>
                  <a:pt x="4713" y="17727"/>
                  <a:pt x="4713" y="17810"/>
                </a:cubicBezTo>
                <a:cubicBezTo>
                  <a:pt x="4713" y="17975"/>
                  <a:pt x="4864" y="17997"/>
                  <a:pt x="4961" y="17884"/>
                </a:cubicBezTo>
                <a:cubicBezTo>
                  <a:pt x="5058" y="17770"/>
                  <a:pt x="4990" y="17597"/>
                  <a:pt x="4837" y="17611"/>
                </a:cubicBezTo>
                <a:cubicBezTo>
                  <a:pt x="4666" y="17627"/>
                  <a:pt x="4772" y="17816"/>
                  <a:pt x="4812" y="17884"/>
                </a:cubicBezTo>
                <a:cubicBezTo>
                  <a:pt x="4941" y="17864"/>
                  <a:pt x="5075" y="17827"/>
                  <a:pt x="5060" y="17661"/>
                </a:cubicBezTo>
                <a:cubicBezTo>
                  <a:pt x="5036" y="17613"/>
                  <a:pt x="5030" y="17596"/>
                  <a:pt x="4986" y="17611"/>
                </a:cubicBezTo>
                <a:cubicBezTo>
                  <a:pt x="4954" y="17632"/>
                  <a:pt x="4763" y="17779"/>
                  <a:pt x="4887" y="17835"/>
                </a:cubicBezTo>
                <a:cubicBezTo>
                  <a:pt x="4956" y="17866"/>
                  <a:pt x="5035" y="17830"/>
                  <a:pt x="5035" y="17760"/>
                </a:cubicBezTo>
              </a:path>
              <a:path w="8237" h="4540">
                <a:moveTo>
                  <a:pt x="3150" y="15131"/>
                </a:moveTo>
                <a:cubicBezTo>
                  <a:pt x="3045" y="15039"/>
                  <a:pt x="3017" y="15123"/>
                  <a:pt x="3001" y="15255"/>
                </a:cubicBezTo>
                <a:cubicBezTo>
                  <a:pt x="2983" y="15401"/>
                  <a:pt x="3070" y="15554"/>
                  <a:pt x="3225" y="15429"/>
                </a:cubicBezTo>
                <a:cubicBezTo>
                  <a:pt x="3332" y="15343"/>
                  <a:pt x="3282" y="15248"/>
                  <a:pt x="3249" y="15156"/>
                </a:cubicBezTo>
                <a:cubicBezTo>
                  <a:pt x="3101" y="15118"/>
                  <a:pt x="3013" y="15241"/>
                  <a:pt x="3051" y="15429"/>
                </a:cubicBezTo>
                <a:cubicBezTo>
                  <a:pt x="3068" y="15462"/>
                  <a:pt x="3084" y="15495"/>
                  <a:pt x="3101" y="15528"/>
                </a:cubicBezTo>
                <a:cubicBezTo>
                  <a:pt x="3258" y="15496"/>
                  <a:pt x="3381" y="15423"/>
                  <a:pt x="3324" y="15230"/>
                </a:cubicBezTo>
                <a:cubicBezTo>
                  <a:pt x="3276" y="15159"/>
                  <a:pt x="3263" y="15136"/>
                  <a:pt x="3200" y="15131"/>
                </a:cubicBezTo>
                <a:cubicBezTo>
                  <a:pt x="3116" y="15249"/>
                  <a:pt x="3104" y="15289"/>
                  <a:pt x="3225" y="153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5960" y="1919160"/>
            <a:ext cx="2749320" cy="2206800"/>
          </a:xfrm>
          <a:custGeom>
            <a:avLst/>
            <a:gdLst/>
            <a:ahLst/>
            <a:rect l="l" t="t" r="r" b="b"/>
            <a:pathLst>
              <a:path w="7641" h="6128">
                <a:moveTo>
                  <a:pt x="17587" y="5407"/>
                </a:moveTo>
                <a:cubicBezTo>
                  <a:pt x="17659" y="5419"/>
                  <a:pt x="17739" y="5415"/>
                  <a:pt x="17810" y="5432"/>
                </a:cubicBezTo>
                <a:cubicBezTo>
                  <a:pt x="18047" y="5488"/>
                  <a:pt x="18331" y="5515"/>
                  <a:pt x="18554" y="5606"/>
                </a:cubicBezTo>
                <a:cubicBezTo>
                  <a:pt x="18701" y="5666"/>
                  <a:pt x="18853" y="5738"/>
                  <a:pt x="19000" y="5804"/>
                </a:cubicBezTo>
                <a:cubicBezTo>
                  <a:pt x="19075" y="5837"/>
                  <a:pt x="19156" y="5851"/>
                  <a:pt x="19224" y="5879"/>
                </a:cubicBezTo>
                <a:cubicBezTo>
                  <a:pt x="19332" y="5923"/>
                  <a:pt x="19438" y="5983"/>
                  <a:pt x="19546" y="6028"/>
                </a:cubicBezTo>
                <a:cubicBezTo>
                  <a:pt x="19693" y="6090"/>
                  <a:pt x="19846" y="6141"/>
                  <a:pt x="19993" y="6201"/>
                </a:cubicBezTo>
                <a:cubicBezTo>
                  <a:pt x="20095" y="6242"/>
                  <a:pt x="20224" y="6292"/>
                  <a:pt x="20315" y="6350"/>
                </a:cubicBezTo>
                <a:cubicBezTo>
                  <a:pt x="20412" y="6412"/>
                  <a:pt x="20484" y="6474"/>
                  <a:pt x="20588" y="6524"/>
                </a:cubicBezTo>
                <a:cubicBezTo>
                  <a:pt x="20727" y="6591"/>
                  <a:pt x="20896" y="6652"/>
                  <a:pt x="21034" y="6697"/>
                </a:cubicBezTo>
                <a:cubicBezTo>
                  <a:pt x="21093" y="6716"/>
                  <a:pt x="21150" y="6729"/>
                  <a:pt x="21208" y="6747"/>
                </a:cubicBezTo>
                <a:cubicBezTo>
                  <a:pt x="21309" y="6779"/>
                  <a:pt x="21404" y="6816"/>
                  <a:pt x="21506" y="6846"/>
                </a:cubicBezTo>
                <a:cubicBezTo>
                  <a:pt x="21623" y="6880"/>
                  <a:pt x="21736" y="6898"/>
                  <a:pt x="21853" y="6921"/>
                </a:cubicBezTo>
                <a:cubicBezTo>
                  <a:pt x="21932" y="6937"/>
                  <a:pt x="21993" y="6932"/>
                  <a:pt x="22076" y="6945"/>
                </a:cubicBezTo>
                <a:cubicBezTo>
                  <a:pt x="22138" y="6955"/>
                  <a:pt x="22174" y="6982"/>
                  <a:pt x="22225" y="6995"/>
                </a:cubicBezTo>
                <a:cubicBezTo>
                  <a:pt x="22267" y="7006"/>
                  <a:pt x="22286" y="7009"/>
                  <a:pt x="22324" y="7020"/>
                </a:cubicBezTo>
              </a:path>
              <a:path w="7641" h="6128">
                <a:moveTo>
                  <a:pt x="20712" y="5333"/>
                </a:moveTo>
                <a:cubicBezTo>
                  <a:pt x="20661" y="5426"/>
                  <a:pt x="20620" y="5514"/>
                  <a:pt x="20563" y="5606"/>
                </a:cubicBezTo>
                <a:cubicBezTo>
                  <a:pt x="20474" y="5750"/>
                  <a:pt x="20363" y="5893"/>
                  <a:pt x="20265" y="6028"/>
                </a:cubicBezTo>
                <a:cubicBezTo>
                  <a:pt x="20137" y="6204"/>
                  <a:pt x="20017" y="6391"/>
                  <a:pt x="19869" y="6548"/>
                </a:cubicBezTo>
                <a:cubicBezTo>
                  <a:pt x="19578" y="6856"/>
                  <a:pt x="19265" y="7135"/>
                  <a:pt x="19000" y="7466"/>
                </a:cubicBezTo>
                <a:cubicBezTo>
                  <a:pt x="18871" y="7628"/>
                  <a:pt x="18762" y="7816"/>
                  <a:pt x="18653" y="7987"/>
                </a:cubicBezTo>
                <a:cubicBezTo>
                  <a:pt x="18565" y="8124"/>
                  <a:pt x="18494" y="8272"/>
                  <a:pt x="18405" y="8409"/>
                </a:cubicBezTo>
                <a:cubicBezTo>
                  <a:pt x="18293" y="8582"/>
                  <a:pt x="18219" y="8742"/>
                  <a:pt x="18132" y="8930"/>
                </a:cubicBezTo>
                <a:cubicBezTo>
                  <a:pt x="18047" y="9113"/>
                  <a:pt x="17997" y="9284"/>
                  <a:pt x="17934" y="9475"/>
                </a:cubicBezTo>
                <a:cubicBezTo>
                  <a:pt x="17877" y="9648"/>
                  <a:pt x="17832" y="9821"/>
                  <a:pt x="17785" y="9996"/>
                </a:cubicBezTo>
                <a:cubicBezTo>
                  <a:pt x="17742" y="10153"/>
                  <a:pt x="17704" y="10316"/>
                  <a:pt x="17661" y="10468"/>
                </a:cubicBezTo>
                <a:cubicBezTo>
                  <a:pt x="17633" y="10568"/>
                  <a:pt x="17585" y="10679"/>
                  <a:pt x="17562" y="10790"/>
                </a:cubicBezTo>
                <a:cubicBezTo>
                  <a:pt x="17562" y="10815"/>
                  <a:pt x="17562" y="10823"/>
                  <a:pt x="17562" y="10840"/>
                </a:cubicBezTo>
              </a:path>
              <a:path w="7641" h="6128">
                <a:moveTo>
                  <a:pt x="14709" y="10716"/>
                </a:moveTo>
                <a:cubicBezTo>
                  <a:pt x="15027" y="10815"/>
                  <a:pt x="15369" y="11018"/>
                  <a:pt x="15701" y="11137"/>
                </a:cubicBezTo>
                <a:cubicBezTo>
                  <a:pt x="15985" y="11238"/>
                  <a:pt x="16256" y="11317"/>
                  <a:pt x="16520" y="11460"/>
                </a:cubicBezTo>
              </a:path>
              <a:path w="7641" h="6128">
                <a:moveTo>
                  <a:pt x="22349" y="9103"/>
                </a:moveTo>
                <a:cubicBezTo>
                  <a:pt x="22174" y="9110"/>
                  <a:pt x="22003" y="9125"/>
                  <a:pt x="21828" y="9128"/>
                </a:cubicBezTo>
                <a:cubicBezTo>
                  <a:pt x="21581" y="9132"/>
                  <a:pt x="21331" y="9177"/>
                  <a:pt x="21084" y="9153"/>
                </a:cubicBezTo>
                <a:cubicBezTo>
                  <a:pt x="20941" y="9139"/>
                  <a:pt x="20808" y="9128"/>
                  <a:pt x="20662" y="9128"/>
                </a:cubicBezTo>
                <a:cubicBezTo>
                  <a:pt x="20363" y="9128"/>
                  <a:pt x="20067" y="9143"/>
                  <a:pt x="19769" y="9153"/>
                </a:cubicBezTo>
                <a:cubicBezTo>
                  <a:pt x="19488" y="9163"/>
                  <a:pt x="19205" y="9174"/>
                  <a:pt x="18926" y="9203"/>
                </a:cubicBezTo>
                <a:cubicBezTo>
                  <a:pt x="18734" y="9223"/>
                  <a:pt x="18549" y="9227"/>
                  <a:pt x="18355" y="9227"/>
                </a:cubicBezTo>
                <a:cubicBezTo>
                  <a:pt x="17842" y="9227"/>
                  <a:pt x="17327" y="9241"/>
                  <a:pt x="16818" y="9203"/>
                </a:cubicBezTo>
                <a:cubicBezTo>
                  <a:pt x="16650" y="9191"/>
                  <a:pt x="16483" y="9219"/>
                  <a:pt x="16321" y="9227"/>
                </a:cubicBezTo>
                <a:cubicBezTo>
                  <a:pt x="16236" y="9231"/>
                  <a:pt x="16174" y="9242"/>
                  <a:pt x="16098" y="9252"/>
                </a:cubicBezTo>
                <a:cubicBezTo>
                  <a:pt x="16090" y="9252"/>
                  <a:pt x="16081" y="9252"/>
                  <a:pt x="16073" y="92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49840" y="1884240"/>
            <a:ext cx="3376440" cy="2152800"/>
          </a:xfrm>
          <a:custGeom>
            <a:avLst/>
            <a:gdLst/>
            <a:ahLst/>
            <a:rect l="l" t="t" r="r" b="b"/>
            <a:pathLst>
              <a:path w="9377" h="5979">
                <a:moveTo>
                  <a:pt x="14883" y="9550"/>
                </a:moveTo>
                <a:cubicBezTo>
                  <a:pt x="14902" y="9695"/>
                  <a:pt x="14920" y="9831"/>
                  <a:pt x="14957" y="9971"/>
                </a:cubicBezTo>
              </a:path>
              <a:path w="9377" h="5979">
                <a:moveTo>
                  <a:pt x="20737" y="5407"/>
                </a:moveTo>
                <a:cubicBezTo>
                  <a:pt x="20731" y="5511"/>
                  <a:pt x="20721" y="5551"/>
                  <a:pt x="20712" y="5655"/>
                </a:cubicBezTo>
                <a:cubicBezTo>
                  <a:pt x="20695" y="5854"/>
                  <a:pt x="20652" y="6052"/>
                  <a:pt x="20638" y="6251"/>
                </a:cubicBezTo>
                <a:cubicBezTo>
                  <a:pt x="20619" y="6522"/>
                  <a:pt x="20628" y="6799"/>
                  <a:pt x="20613" y="7069"/>
                </a:cubicBezTo>
                <a:cubicBezTo>
                  <a:pt x="20580" y="7664"/>
                  <a:pt x="20595" y="8289"/>
                  <a:pt x="20638" y="8880"/>
                </a:cubicBezTo>
                <a:cubicBezTo>
                  <a:pt x="20650" y="9044"/>
                  <a:pt x="20651" y="9213"/>
                  <a:pt x="20662" y="9376"/>
                </a:cubicBezTo>
                <a:cubicBezTo>
                  <a:pt x="20671" y="9516"/>
                  <a:pt x="20678" y="9662"/>
                  <a:pt x="20687" y="9798"/>
                </a:cubicBezTo>
                <a:cubicBezTo>
                  <a:pt x="20693" y="9893"/>
                  <a:pt x="20705" y="9979"/>
                  <a:pt x="20712" y="10071"/>
                </a:cubicBezTo>
                <a:cubicBezTo>
                  <a:pt x="20718" y="10155"/>
                  <a:pt x="20721" y="10237"/>
                  <a:pt x="20737" y="10319"/>
                </a:cubicBezTo>
                <a:cubicBezTo>
                  <a:pt x="20752" y="10395"/>
                  <a:pt x="20768" y="10465"/>
                  <a:pt x="20786" y="10542"/>
                </a:cubicBezTo>
                <a:cubicBezTo>
                  <a:pt x="20799" y="10601"/>
                  <a:pt x="20800" y="10636"/>
                  <a:pt x="20811" y="10691"/>
                </a:cubicBezTo>
                <a:cubicBezTo>
                  <a:pt x="20811" y="10699"/>
                  <a:pt x="20811" y="10708"/>
                  <a:pt x="20811" y="10716"/>
                </a:cubicBezTo>
              </a:path>
              <a:path w="9377" h="5979">
                <a:moveTo>
                  <a:pt x="15354" y="9525"/>
                </a:moveTo>
                <a:cubicBezTo>
                  <a:pt x="15419" y="9688"/>
                  <a:pt x="15440" y="9871"/>
                  <a:pt x="15453" y="10046"/>
                </a:cubicBezTo>
                <a:cubicBezTo>
                  <a:pt x="15453" y="10137"/>
                  <a:pt x="15453" y="10145"/>
                  <a:pt x="15453" y="10195"/>
                </a:cubicBezTo>
              </a:path>
              <a:path w="9377" h="5979">
                <a:moveTo>
                  <a:pt x="20811" y="5259"/>
                </a:moveTo>
                <a:cubicBezTo>
                  <a:pt x="20849" y="5329"/>
                  <a:pt x="20865" y="5355"/>
                  <a:pt x="20886" y="5432"/>
                </a:cubicBezTo>
                <a:cubicBezTo>
                  <a:pt x="20923" y="5565"/>
                  <a:pt x="20937" y="5695"/>
                  <a:pt x="20960" y="5829"/>
                </a:cubicBezTo>
                <a:cubicBezTo>
                  <a:pt x="20980" y="5945"/>
                  <a:pt x="20998" y="6065"/>
                  <a:pt x="21034" y="6176"/>
                </a:cubicBezTo>
                <a:cubicBezTo>
                  <a:pt x="21059" y="6252"/>
                  <a:pt x="21088" y="6325"/>
                  <a:pt x="21109" y="6400"/>
                </a:cubicBezTo>
                <a:cubicBezTo>
                  <a:pt x="21127" y="6467"/>
                  <a:pt x="21132" y="6531"/>
                  <a:pt x="21158" y="6598"/>
                </a:cubicBezTo>
                <a:cubicBezTo>
                  <a:pt x="21189" y="6676"/>
                  <a:pt x="21206" y="6741"/>
                  <a:pt x="21233" y="6821"/>
                </a:cubicBezTo>
                <a:cubicBezTo>
                  <a:pt x="21263" y="6909"/>
                  <a:pt x="21309" y="6989"/>
                  <a:pt x="21357" y="7069"/>
                </a:cubicBezTo>
                <a:cubicBezTo>
                  <a:pt x="21414" y="7165"/>
                  <a:pt x="21452" y="7270"/>
                  <a:pt x="21506" y="7367"/>
                </a:cubicBezTo>
                <a:cubicBezTo>
                  <a:pt x="21570" y="7481"/>
                  <a:pt x="21613" y="7600"/>
                  <a:pt x="21679" y="7714"/>
                </a:cubicBezTo>
                <a:cubicBezTo>
                  <a:pt x="21718" y="7781"/>
                  <a:pt x="21748" y="7839"/>
                  <a:pt x="21779" y="7913"/>
                </a:cubicBezTo>
                <a:cubicBezTo>
                  <a:pt x="21816" y="8002"/>
                  <a:pt x="21858" y="8076"/>
                  <a:pt x="21903" y="8161"/>
                </a:cubicBezTo>
                <a:cubicBezTo>
                  <a:pt x="21947" y="8245"/>
                  <a:pt x="21976" y="8329"/>
                  <a:pt x="22027" y="8409"/>
                </a:cubicBezTo>
                <a:cubicBezTo>
                  <a:pt x="22088" y="8504"/>
                  <a:pt x="22132" y="8611"/>
                  <a:pt x="22200" y="8706"/>
                </a:cubicBezTo>
                <a:cubicBezTo>
                  <a:pt x="22243" y="8766"/>
                  <a:pt x="22265" y="8818"/>
                  <a:pt x="22299" y="8880"/>
                </a:cubicBezTo>
                <a:cubicBezTo>
                  <a:pt x="22330" y="8937"/>
                  <a:pt x="22352" y="8997"/>
                  <a:pt x="22374" y="9054"/>
                </a:cubicBezTo>
                <a:cubicBezTo>
                  <a:pt x="22384" y="9080"/>
                  <a:pt x="22390" y="9102"/>
                  <a:pt x="22399" y="9128"/>
                </a:cubicBezTo>
              </a:path>
              <a:path w="9377" h="5979">
                <a:moveTo>
                  <a:pt x="13196" y="9029"/>
                </a:moveTo>
                <a:cubicBezTo>
                  <a:pt x="13299" y="9029"/>
                  <a:pt x="13326" y="9040"/>
                  <a:pt x="13444" y="9103"/>
                </a:cubicBezTo>
                <a:cubicBezTo>
                  <a:pt x="13735" y="9259"/>
                  <a:pt x="14025" y="9411"/>
                  <a:pt x="14312" y="9575"/>
                </a:cubicBezTo>
                <a:cubicBezTo>
                  <a:pt x="14667" y="9778"/>
                  <a:pt x="15025" y="9968"/>
                  <a:pt x="15379" y="10170"/>
                </a:cubicBezTo>
                <a:cubicBezTo>
                  <a:pt x="15484" y="10230"/>
                  <a:pt x="15601" y="10266"/>
                  <a:pt x="15701" y="10319"/>
                </a:cubicBezTo>
                <a:cubicBezTo>
                  <a:pt x="15701" y="10344"/>
                  <a:pt x="15701" y="10352"/>
                  <a:pt x="15726" y="10344"/>
                </a:cubicBezTo>
              </a:path>
              <a:path w="9377" h="5979">
                <a:moveTo>
                  <a:pt x="22349" y="6945"/>
                </a:moveTo>
                <a:cubicBezTo>
                  <a:pt x="22339" y="6992"/>
                  <a:pt x="22281" y="7193"/>
                  <a:pt x="22423" y="7144"/>
                </a:cubicBezTo>
                <a:cubicBezTo>
                  <a:pt x="22527" y="7108"/>
                  <a:pt x="22532" y="7056"/>
                  <a:pt x="22547" y="6970"/>
                </a:cubicBezTo>
                <a:cubicBezTo>
                  <a:pt x="22445" y="6919"/>
                  <a:pt x="22362" y="6933"/>
                  <a:pt x="22324" y="7069"/>
                </a:cubicBezTo>
                <a:cubicBezTo>
                  <a:pt x="22280" y="7227"/>
                  <a:pt x="22443" y="7221"/>
                  <a:pt x="22523" y="7144"/>
                </a:cubicBezTo>
                <a:cubicBezTo>
                  <a:pt x="22569" y="7073"/>
                  <a:pt x="22585" y="7054"/>
                  <a:pt x="22572" y="6995"/>
                </a:cubicBezTo>
                <a:cubicBezTo>
                  <a:pt x="22448" y="6953"/>
                  <a:pt x="22469" y="6964"/>
                  <a:pt x="22349" y="7045"/>
                </a:cubicBezTo>
                <a:cubicBezTo>
                  <a:pt x="22359" y="7114"/>
                  <a:pt x="22455" y="7184"/>
                  <a:pt x="22473" y="7069"/>
                </a:cubicBezTo>
                <a:cubicBezTo>
                  <a:pt x="22465" y="7069"/>
                  <a:pt x="22456" y="7069"/>
                  <a:pt x="22448" y="7069"/>
                </a:cubicBezTo>
              </a:path>
              <a:path w="9377" h="5979">
                <a:moveTo>
                  <a:pt x="22473" y="7069"/>
                </a:moveTo>
                <a:cubicBezTo>
                  <a:pt x="22401" y="7069"/>
                  <a:pt x="22254" y="7043"/>
                  <a:pt x="22225" y="7045"/>
                </a:cubicBezTo>
                <a:cubicBezTo>
                  <a:pt x="22192" y="7047"/>
                  <a:pt x="22184" y="7067"/>
                  <a:pt x="22151" y="7069"/>
                </a:cubicBezTo>
                <a:cubicBezTo>
                  <a:pt x="22092" y="7072"/>
                  <a:pt x="22023" y="7089"/>
                  <a:pt x="21977" y="7094"/>
                </a:cubicBezTo>
                <a:cubicBezTo>
                  <a:pt x="21815" y="7111"/>
                  <a:pt x="21643" y="7115"/>
                  <a:pt x="21481" y="7119"/>
                </a:cubicBezTo>
                <a:cubicBezTo>
                  <a:pt x="21355" y="7122"/>
                  <a:pt x="21227" y="7135"/>
                  <a:pt x="21109" y="7144"/>
                </a:cubicBezTo>
                <a:cubicBezTo>
                  <a:pt x="20961" y="7155"/>
                  <a:pt x="20809" y="7166"/>
                  <a:pt x="20662" y="7169"/>
                </a:cubicBezTo>
                <a:cubicBezTo>
                  <a:pt x="20484" y="7173"/>
                  <a:pt x="20316" y="7156"/>
                  <a:pt x="20141" y="7144"/>
                </a:cubicBezTo>
                <a:cubicBezTo>
                  <a:pt x="19924" y="7129"/>
                  <a:pt x="19709" y="7155"/>
                  <a:pt x="19496" y="7169"/>
                </a:cubicBezTo>
                <a:cubicBezTo>
                  <a:pt x="19210" y="7188"/>
                  <a:pt x="18913" y="7193"/>
                  <a:pt x="18628" y="7193"/>
                </a:cubicBezTo>
                <a:cubicBezTo>
                  <a:pt x="18467" y="7193"/>
                  <a:pt x="18314" y="7205"/>
                  <a:pt x="18157" y="7218"/>
                </a:cubicBezTo>
                <a:cubicBezTo>
                  <a:pt x="17728" y="7253"/>
                  <a:pt x="17213" y="7263"/>
                  <a:pt x="16793" y="7243"/>
                </a:cubicBezTo>
                <a:cubicBezTo>
                  <a:pt x="16738" y="7240"/>
                  <a:pt x="16699" y="7221"/>
                  <a:pt x="16644" y="7218"/>
                </a:cubicBezTo>
                <a:cubicBezTo>
                  <a:pt x="16515" y="7212"/>
                  <a:pt x="16310" y="7185"/>
                  <a:pt x="16197" y="7193"/>
                </a:cubicBezTo>
                <a:cubicBezTo>
                  <a:pt x="16172" y="7195"/>
                  <a:pt x="16173" y="7218"/>
                  <a:pt x="16148" y="7218"/>
                </a:cubicBezTo>
              </a:path>
              <a:path w="9377" h="5979">
                <a:moveTo>
                  <a:pt x="14436" y="10542"/>
                </a:moveTo>
                <a:cubicBezTo>
                  <a:pt x="14470" y="10703"/>
                  <a:pt x="14447" y="10885"/>
                  <a:pt x="14486" y="11038"/>
                </a:cubicBezTo>
                <a:cubicBezTo>
                  <a:pt x="14494" y="11046"/>
                  <a:pt x="14503" y="11055"/>
                  <a:pt x="14511" y="11063"/>
                </a:cubicBezTo>
              </a:path>
              <a:path w="9377" h="5979">
                <a:moveTo>
                  <a:pt x="22299" y="7069"/>
                </a:moveTo>
                <a:cubicBezTo>
                  <a:pt x="22228" y="7082"/>
                  <a:pt x="22219" y="7070"/>
                  <a:pt x="22151" y="7094"/>
                </a:cubicBezTo>
                <a:cubicBezTo>
                  <a:pt x="21878" y="7190"/>
                  <a:pt x="21611" y="7289"/>
                  <a:pt x="21332" y="7367"/>
                </a:cubicBezTo>
                <a:cubicBezTo>
                  <a:pt x="21075" y="7439"/>
                  <a:pt x="20812" y="7520"/>
                  <a:pt x="20563" y="7615"/>
                </a:cubicBezTo>
                <a:cubicBezTo>
                  <a:pt x="20403" y="7676"/>
                  <a:pt x="20232" y="7742"/>
                  <a:pt x="20067" y="7789"/>
                </a:cubicBezTo>
                <a:cubicBezTo>
                  <a:pt x="19897" y="7838"/>
                  <a:pt x="19740" y="7882"/>
                  <a:pt x="19571" y="7938"/>
                </a:cubicBezTo>
                <a:cubicBezTo>
                  <a:pt x="19381" y="8001"/>
                  <a:pt x="19188" y="8044"/>
                  <a:pt x="19000" y="8111"/>
                </a:cubicBezTo>
                <a:cubicBezTo>
                  <a:pt x="18870" y="8158"/>
                  <a:pt x="18742" y="8222"/>
                  <a:pt x="18604" y="8260"/>
                </a:cubicBezTo>
                <a:cubicBezTo>
                  <a:pt x="18438" y="8306"/>
                  <a:pt x="18273" y="8364"/>
                  <a:pt x="18107" y="8409"/>
                </a:cubicBezTo>
                <a:cubicBezTo>
                  <a:pt x="17937" y="8455"/>
                  <a:pt x="17755" y="8482"/>
                  <a:pt x="17587" y="8533"/>
                </a:cubicBezTo>
                <a:cubicBezTo>
                  <a:pt x="17468" y="8569"/>
                  <a:pt x="17356" y="8595"/>
                  <a:pt x="17239" y="8632"/>
                </a:cubicBezTo>
                <a:cubicBezTo>
                  <a:pt x="17073" y="8684"/>
                  <a:pt x="16906" y="8747"/>
                  <a:pt x="16743" y="8806"/>
                </a:cubicBezTo>
                <a:cubicBezTo>
                  <a:pt x="16614" y="8853"/>
                  <a:pt x="16501" y="8870"/>
                  <a:pt x="16371" y="8905"/>
                </a:cubicBezTo>
                <a:cubicBezTo>
                  <a:pt x="16309" y="8922"/>
                  <a:pt x="16241" y="8952"/>
                  <a:pt x="16173" y="8979"/>
                </a:cubicBezTo>
                <a:cubicBezTo>
                  <a:pt x="16117" y="9001"/>
                  <a:pt x="16061" y="9028"/>
                  <a:pt x="15999" y="9054"/>
                </a:cubicBezTo>
                <a:cubicBezTo>
                  <a:pt x="15991" y="9054"/>
                  <a:pt x="15982" y="9054"/>
                  <a:pt x="15974" y="9054"/>
                </a:cubicBezTo>
              </a:path>
              <a:path w="9377" h="5979">
                <a:moveTo>
                  <a:pt x="14982" y="10666"/>
                </a:moveTo>
                <a:cubicBezTo>
                  <a:pt x="14982" y="10752"/>
                  <a:pt x="15005" y="10824"/>
                  <a:pt x="15007" y="10914"/>
                </a:cubicBezTo>
                <a:cubicBezTo>
                  <a:pt x="15009" y="11027"/>
                  <a:pt x="14944" y="11331"/>
                  <a:pt x="15081" y="111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54760" y="1893960"/>
            <a:ext cx="2517480" cy="2554200"/>
          </a:xfrm>
          <a:custGeom>
            <a:avLst/>
            <a:gdLst/>
            <a:ahLst/>
            <a:rect l="l" t="t" r="r" b="b"/>
            <a:pathLst>
              <a:path w="6996" h="7095">
                <a:moveTo>
                  <a:pt x="20712" y="5259"/>
                </a:moveTo>
                <a:cubicBezTo>
                  <a:pt x="20745" y="5259"/>
                  <a:pt x="20761" y="5259"/>
                  <a:pt x="20786" y="5259"/>
                </a:cubicBezTo>
                <a:cubicBezTo>
                  <a:pt x="20720" y="5331"/>
                  <a:pt x="20684" y="5390"/>
                  <a:pt x="20588" y="5457"/>
                </a:cubicBezTo>
                <a:cubicBezTo>
                  <a:pt x="20405" y="5585"/>
                  <a:pt x="20189" y="5692"/>
                  <a:pt x="20017" y="5829"/>
                </a:cubicBezTo>
                <a:cubicBezTo>
                  <a:pt x="19823" y="5983"/>
                  <a:pt x="19620" y="6124"/>
                  <a:pt x="19422" y="6276"/>
                </a:cubicBezTo>
                <a:cubicBezTo>
                  <a:pt x="19252" y="6407"/>
                  <a:pt x="19065" y="6536"/>
                  <a:pt x="18901" y="6672"/>
                </a:cubicBezTo>
                <a:cubicBezTo>
                  <a:pt x="18760" y="6788"/>
                  <a:pt x="18629" y="6913"/>
                  <a:pt x="18479" y="7020"/>
                </a:cubicBezTo>
                <a:cubicBezTo>
                  <a:pt x="18243" y="7189"/>
                  <a:pt x="18004" y="7360"/>
                  <a:pt x="17760" y="7516"/>
                </a:cubicBezTo>
                <a:cubicBezTo>
                  <a:pt x="17613" y="7610"/>
                  <a:pt x="17478" y="7706"/>
                  <a:pt x="17338" y="7813"/>
                </a:cubicBezTo>
                <a:cubicBezTo>
                  <a:pt x="17202" y="7917"/>
                  <a:pt x="17087" y="8019"/>
                  <a:pt x="16966" y="8136"/>
                </a:cubicBezTo>
                <a:cubicBezTo>
                  <a:pt x="16830" y="8268"/>
                  <a:pt x="16669" y="8404"/>
                  <a:pt x="16545" y="8533"/>
                </a:cubicBezTo>
                <a:cubicBezTo>
                  <a:pt x="16455" y="8627"/>
                  <a:pt x="16384" y="8735"/>
                  <a:pt x="16297" y="8830"/>
                </a:cubicBezTo>
                <a:cubicBezTo>
                  <a:pt x="16239" y="8893"/>
                  <a:pt x="16149" y="8951"/>
                  <a:pt x="16098" y="9004"/>
                </a:cubicBezTo>
                <a:cubicBezTo>
                  <a:pt x="16085" y="9017"/>
                  <a:pt x="16086" y="9041"/>
                  <a:pt x="16073" y="9054"/>
                </a:cubicBezTo>
              </a:path>
              <a:path w="6996" h="7095">
                <a:moveTo>
                  <a:pt x="14039" y="9128"/>
                </a:moveTo>
                <a:cubicBezTo>
                  <a:pt x="14039" y="9346"/>
                  <a:pt x="13931" y="9946"/>
                  <a:pt x="14064" y="9773"/>
                </a:cubicBezTo>
                <a:cubicBezTo>
                  <a:pt x="14081" y="9732"/>
                  <a:pt x="14097" y="9690"/>
                  <a:pt x="14114" y="9649"/>
                </a:cubicBezTo>
              </a:path>
              <a:path w="6996" h="7095">
                <a:moveTo>
                  <a:pt x="21034" y="10716"/>
                </a:moveTo>
                <a:cubicBezTo>
                  <a:pt x="21016" y="10711"/>
                  <a:pt x="20974" y="10730"/>
                  <a:pt x="20935" y="10716"/>
                </a:cubicBezTo>
                <a:cubicBezTo>
                  <a:pt x="20824" y="10676"/>
                  <a:pt x="20736" y="10596"/>
                  <a:pt x="20638" y="10542"/>
                </a:cubicBezTo>
                <a:cubicBezTo>
                  <a:pt x="20537" y="10486"/>
                  <a:pt x="20424" y="10435"/>
                  <a:pt x="20315" y="10393"/>
                </a:cubicBezTo>
                <a:cubicBezTo>
                  <a:pt x="20148" y="10329"/>
                  <a:pt x="20020" y="10268"/>
                  <a:pt x="19869" y="10170"/>
                </a:cubicBezTo>
                <a:cubicBezTo>
                  <a:pt x="19773" y="10108"/>
                  <a:pt x="19689" y="10037"/>
                  <a:pt x="19596" y="9971"/>
                </a:cubicBezTo>
                <a:cubicBezTo>
                  <a:pt x="19445" y="9864"/>
                  <a:pt x="19286" y="9772"/>
                  <a:pt x="19149" y="9649"/>
                </a:cubicBezTo>
                <a:cubicBezTo>
                  <a:pt x="19068" y="9576"/>
                  <a:pt x="19002" y="9482"/>
                  <a:pt x="18926" y="9401"/>
                </a:cubicBezTo>
                <a:cubicBezTo>
                  <a:pt x="18844" y="9313"/>
                  <a:pt x="18744" y="9237"/>
                  <a:pt x="18653" y="9153"/>
                </a:cubicBezTo>
                <a:cubicBezTo>
                  <a:pt x="18573" y="9078"/>
                  <a:pt x="18491" y="9022"/>
                  <a:pt x="18405" y="8954"/>
                </a:cubicBezTo>
                <a:cubicBezTo>
                  <a:pt x="18299" y="8870"/>
                  <a:pt x="18189" y="8791"/>
                  <a:pt x="18083" y="8706"/>
                </a:cubicBezTo>
                <a:cubicBezTo>
                  <a:pt x="17961" y="8608"/>
                  <a:pt x="17839" y="8523"/>
                  <a:pt x="17711" y="8434"/>
                </a:cubicBezTo>
                <a:cubicBezTo>
                  <a:pt x="17598" y="8356"/>
                  <a:pt x="17473" y="8295"/>
                  <a:pt x="17363" y="8210"/>
                </a:cubicBezTo>
                <a:cubicBezTo>
                  <a:pt x="17322" y="8178"/>
                  <a:pt x="17253" y="8103"/>
                  <a:pt x="17214" y="8062"/>
                </a:cubicBezTo>
                <a:cubicBezTo>
                  <a:pt x="17156" y="8002"/>
                  <a:pt x="17110" y="7922"/>
                  <a:pt x="17041" y="7863"/>
                </a:cubicBezTo>
                <a:cubicBezTo>
                  <a:pt x="16949" y="7785"/>
                  <a:pt x="16858" y="7718"/>
                  <a:pt x="16768" y="7640"/>
                </a:cubicBezTo>
                <a:cubicBezTo>
                  <a:pt x="16643" y="7532"/>
                  <a:pt x="16508" y="7459"/>
                  <a:pt x="16371" y="7367"/>
                </a:cubicBezTo>
                <a:cubicBezTo>
                  <a:pt x="16340" y="7346"/>
                  <a:pt x="16285" y="7300"/>
                  <a:pt x="16272" y="7293"/>
                </a:cubicBezTo>
                <a:cubicBezTo>
                  <a:pt x="16228" y="7270"/>
                  <a:pt x="16170" y="7262"/>
                  <a:pt x="16123" y="7243"/>
                </a:cubicBezTo>
              </a:path>
              <a:path w="6996" h="7095">
                <a:moveTo>
                  <a:pt x="17983" y="11931"/>
                </a:moveTo>
                <a:cubicBezTo>
                  <a:pt x="18017" y="12066"/>
                  <a:pt x="18080" y="12189"/>
                  <a:pt x="18107" y="12328"/>
                </a:cubicBezTo>
                <a:cubicBezTo>
                  <a:pt x="18107" y="12363"/>
                  <a:pt x="18112" y="12362"/>
                  <a:pt x="18132" y="12303"/>
                </a:cubicBezTo>
              </a:path>
              <a:path w="6996" h="7095">
                <a:moveTo>
                  <a:pt x="20662" y="10716"/>
                </a:moveTo>
                <a:cubicBezTo>
                  <a:pt x="20650" y="10715"/>
                  <a:pt x="20500" y="10706"/>
                  <a:pt x="20439" y="10691"/>
                </a:cubicBezTo>
                <a:cubicBezTo>
                  <a:pt x="20210" y="10633"/>
                  <a:pt x="19992" y="10600"/>
                  <a:pt x="19769" y="10517"/>
                </a:cubicBezTo>
                <a:cubicBezTo>
                  <a:pt x="19681" y="10484"/>
                  <a:pt x="19603" y="10445"/>
                  <a:pt x="19521" y="10418"/>
                </a:cubicBezTo>
                <a:cubicBezTo>
                  <a:pt x="19502" y="10412"/>
                  <a:pt x="19398" y="10385"/>
                  <a:pt x="19348" y="10368"/>
                </a:cubicBezTo>
                <a:cubicBezTo>
                  <a:pt x="19194" y="10316"/>
                  <a:pt x="19044" y="10219"/>
                  <a:pt x="18901" y="10145"/>
                </a:cubicBezTo>
                <a:cubicBezTo>
                  <a:pt x="18739" y="10061"/>
                  <a:pt x="18569" y="10017"/>
                  <a:pt x="18405" y="9947"/>
                </a:cubicBezTo>
                <a:cubicBezTo>
                  <a:pt x="18317" y="9910"/>
                  <a:pt x="18236" y="9854"/>
                  <a:pt x="18157" y="9823"/>
                </a:cubicBezTo>
                <a:cubicBezTo>
                  <a:pt x="18060" y="9785"/>
                  <a:pt x="17977" y="9742"/>
                  <a:pt x="17884" y="9699"/>
                </a:cubicBezTo>
                <a:cubicBezTo>
                  <a:pt x="17770" y="9646"/>
                  <a:pt x="17652" y="9574"/>
                  <a:pt x="17537" y="9525"/>
                </a:cubicBezTo>
                <a:cubicBezTo>
                  <a:pt x="17427" y="9478"/>
                  <a:pt x="17322" y="9445"/>
                  <a:pt x="17214" y="9401"/>
                </a:cubicBezTo>
                <a:cubicBezTo>
                  <a:pt x="17078" y="9345"/>
                  <a:pt x="16933" y="9293"/>
                  <a:pt x="16793" y="9252"/>
                </a:cubicBezTo>
                <a:cubicBezTo>
                  <a:pt x="16685" y="9220"/>
                  <a:pt x="16578" y="9184"/>
                  <a:pt x="16470" y="9153"/>
                </a:cubicBezTo>
                <a:cubicBezTo>
                  <a:pt x="16414" y="9137"/>
                  <a:pt x="16368" y="9092"/>
                  <a:pt x="16321" y="9079"/>
                </a:cubicBezTo>
                <a:cubicBezTo>
                  <a:pt x="16266" y="9064"/>
                  <a:pt x="16203" y="9078"/>
                  <a:pt x="16148" y="9054"/>
                </a:cubicBezTo>
                <a:cubicBezTo>
                  <a:pt x="16122" y="9043"/>
                  <a:pt x="16149" y="9040"/>
                  <a:pt x="16123" y="90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2500200"/>
            <a:ext cx="1285920" cy="2027520"/>
          </a:xfrm>
          <a:custGeom>
            <a:avLst/>
            <a:gdLst/>
            <a:ahLst/>
            <a:rect l="l" t="t" r="r" b="b"/>
            <a:pathLst>
              <a:path w="3573" h="5632">
                <a:moveTo>
                  <a:pt x="18430" y="12055"/>
                </a:moveTo>
                <a:cubicBezTo>
                  <a:pt x="18510" y="12151"/>
                  <a:pt x="18575" y="12362"/>
                  <a:pt x="18628" y="12502"/>
                </a:cubicBezTo>
                <a:cubicBezTo>
                  <a:pt x="18647" y="12559"/>
                  <a:pt x="18656" y="12602"/>
                  <a:pt x="18653" y="12551"/>
                </a:cubicBezTo>
              </a:path>
              <a:path w="3573" h="5632">
                <a:moveTo>
                  <a:pt x="17934" y="10740"/>
                </a:moveTo>
                <a:cubicBezTo>
                  <a:pt x="17977" y="10642"/>
                  <a:pt x="17915" y="10611"/>
                  <a:pt x="17810" y="10592"/>
                </a:cubicBezTo>
                <a:cubicBezTo>
                  <a:pt x="17648" y="10563"/>
                  <a:pt x="17559" y="10897"/>
                  <a:pt x="17587" y="11013"/>
                </a:cubicBezTo>
                <a:cubicBezTo>
                  <a:pt x="17612" y="11038"/>
                  <a:pt x="17636" y="11063"/>
                  <a:pt x="17661" y="11088"/>
                </a:cubicBezTo>
                <a:cubicBezTo>
                  <a:pt x="17839" y="11022"/>
                  <a:pt x="18009" y="10923"/>
                  <a:pt x="17934" y="10691"/>
                </a:cubicBezTo>
                <a:cubicBezTo>
                  <a:pt x="17874" y="10507"/>
                  <a:pt x="17672" y="10677"/>
                  <a:pt x="17686" y="10815"/>
                </a:cubicBezTo>
                <a:cubicBezTo>
                  <a:pt x="17702" y="10974"/>
                  <a:pt x="17775" y="10945"/>
                  <a:pt x="17859" y="10914"/>
                </a:cubicBezTo>
                <a:cubicBezTo>
                  <a:pt x="17896" y="10850"/>
                  <a:pt x="17975" y="10513"/>
                  <a:pt x="17760" y="10592"/>
                </a:cubicBezTo>
                <a:cubicBezTo>
                  <a:pt x="17613" y="10646"/>
                  <a:pt x="17675" y="10833"/>
                  <a:pt x="17686" y="10939"/>
                </a:cubicBezTo>
                <a:cubicBezTo>
                  <a:pt x="17811" y="10923"/>
                  <a:pt x="17816" y="10853"/>
                  <a:pt x="17859" y="10740"/>
                </a:cubicBezTo>
              </a:path>
              <a:path w="3573" h="5632">
                <a:moveTo>
                  <a:pt x="17934" y="10864"/>
                </a:moveTo>
                <a:cubicBezTo>
                  <a:pt x="17892" y="10822"/>
                  <a:pt x="17853" y="10794"/>
                  <a:pt x="17810" y="10716"/>
                </a:cubicBezTo>
                <a:cubicBezTo>
                  <a:pt x="17783" y="10666"/>
                  <a:pt x="17761" y="10596"/>
                  <a:pt x="17735" y="10542"/>
                </a:cubicBezTo>
                <a:cubicBezTo>
                  <a:pt x="17683" y="10432"/>
                  <a:pt x="17639" y="10404"/>
                  <a:pt x="17562" y="10319"/>
                </a:cubicBezTo>
                <a:cubicBezTo>
                  <a:pt x="17514" y="10266"/>
                  <a:pt x="17447" y="10185"/>
                  <a:pt x="17413" y="10120"/>
                </a:cubicBezTo>
                <a:cubicBezTo>
                  <a:pt x="17378" y="10052"/>
                  <a:pt x="17333" y="10041"/>
                  <a:pt x="17289" y="9971"/>
                </a:cubicBezTo>
                <a:cubicBezTo>
                  <a:pt x="17261" y="9926"/>
                  <a:pt x="17209" y="9823"/>
                  <a:pt x="17190" y="9773"/>
                </a:cubicBezTo>
                <a:cubicBezTo>
                  <a:pt x="17162" y="9699"/>
                  <a:pt x="17144" y="9624"/>
                  <a:pt x="17115" y="9550"/>
                </a:cubicBezTo>
                <a:cubicBezTo>
                  <a:pt x="17083" y="9467"/>
                  <a:pt x="17074" y="9383"/>
                  <a:pt x="17041" y="9302"/>
                </a:cubicBezTo>
                <a:cubicBezTo>
                  <a:pt x="17013" y="9232"/>
                  <a:pt x="16971" y="9174"/>
                  <a:pt x="16942" y="9103"/>
                </a:cubicBezTo>
                <a:cubicBezTo>
                  <a:pt x="16915" y="9038"/>
                  <a:pt x="16903" y="8968"/>
                  <a:pt x="16867" y="8905"/>
                </a:cubicBezTo>
                <a:cubicBezTo>
                  <a:pt x="16827" y="8836"/>
                  <a:pt x="16821" y="8798"/>
                  <a:pt x="16793" y="8731"/>
                </a:cubicBezTo>
                <a:cubicBezTo>
                  <a:pt x="16764" y="8660"/>
                  <a:pt x="16729" y="8602"/>
                  <a:pt x="16694" y="8533"/>
                </a:cubicBezTo>
                <a:cubicBezTo>
                  <a:pt x="16659" y="8462"/>
                  <a:pt x="16605" y="8402"/>
                  <a:pt x="16570" y="8334"/>
                </a:cubicBezTo>
                <a:cubicBezTo>
                  <a:pt x="16520" y="8237"/>
                  <a:pt x="16485" y="8213"/>
                  <a:pt x="16421" y="8136"/>
                </a:cubicBezTo>
                <a:cubicBezTo>
                  <a:pt x="16369" y="8074"/>
                  <a:pt x="16348" y="8008"/>
                  <a:pt x="16321" y="7938"/>
                </a:cubicBezTo>
                <a:cubicBezTo>
                  <a:pt x="16306" y="7901"/>
                  <a:pt x="16308" y="7878"/>
                  <a:pt x="16297" y="7838"/>
                </a:cubicBezTo>
                <a:cubicBezTo>
                  <a:pt x="16284" y="7788"/>
                  <a:pt x="16266" y="7743"/>
                  <a:pt x="16247" y="7689"/>
                </a:cubicBezTo>
                <a:cubicBezTo>
                  <a:pt x="16214" y="7595"/>
                  <a:pt x="16160" y="7504"/>
                  <a:pt x="16123" y="7417"/>
                </a:cubicBezTo>
                <a:cubicBezTo>
                  <a:pt x="16111" y="7389"/>
                  <a:pt x="16111" y="7343"/>
                  <a:pt x="16098" y="7317"/>
                </a:cubicBezTo>
                <a:cubicBezTo>
                  <a:pt x="16073" y="7317"/>
                  <a:pt x="16065" y="7317"/>
                  <a:pt x="16073" y="7293"/>
                </a:cubicBezTo>
              </a:path>
              <a:path w="3573" h="5632">
                <a:moveTo>
                  <a:pt x="17115" y="11733"/>
                </a:moveTo>
                <a:cubicBezTo>
                  <a:pt x="17162" y="11717"/>
                  <a:pt x="17164" y="11673"/>
                  <a:pt x="17289" y="11708"/>
                </a:cubicBezTo>
                <a:cubicBezTo>
                  <a:pt x="17780" y="11844"/>
                  <a:pt x="18243" y="12075"/>
                  <a:pt x="18728" y="12229"/>
                </a:cubicBezTo>
                <a:cubicBezTo>
                  <a:pt x="18947" y="12299"/>
                  <a:pt x="19256" y="12391"/>
                  <a:pt x="19447" y="12452"/>
                </a:cubicBezTo>
              </a:path>
              <a:path w="3573" h="5632">
                <a:moveTo>
                  <a:pt x="16197" y="9277"/>
                </a:moveTo>
                <a:cubicBezTo>
                  <a:pt x="16253" y="9258"/>
                  <a:pt x="16222" y="9155"/>
                  <a:pt x="16197" y="9103"/>
                </a:cubicBezTo>
                <a:cubicBezTo>
                  <a:pt x="16157" y="9020"/>
                  <a:pt x="16006" y="8836"/>
                  <a:pt x="15900" y="8930"/>
                </a:cubicBezTo>
                <a:cubicBezTo>
                  <a:pt x="15873" y="9011"/>
                  <a:pt x="15864" y="9042"/>
                  <a:pt x="15875" y="9103"/>
                </a:cubicBezTo>
                <a:cubicBezTo>
                  <a:pt x="15944" y="9203"/>
                  <a:pt x="16109" y="9306"/>
                  <a:pt x="16123" y="9079"/>
                </a:cubicBezTo>
                <a:cubicBezTo>
                  <a:pt x="16097" y="8977"/>
                  <a:pt x="16088" y="8941"/>
                  <a:pt x="16049" y="8880"/>
                </a:cubicBezTo>
                <a:cubicBezTo>
                  <a:pt x="15904" y="8892"/>
                  <a:pt x="15810" y="9051"/>
                  <a:pt x="15949" y="9203"/>
                </a:cubicBezTo>
                <a:cubicBezTo>
                  <a:pt x="16113" y="9381"/>
                  <a:pt x="16151" y="8980"/>
                  <a:pt x="16148" y="8930"/>
                </a:cubicBezTo>
                <a:cubicBezTo>
                  <a:pt x="16030" y="8910"/>
                  <a:pt x="15901" y="9025"/>
                  <a:pt x="15974" y="9203"/>
                </a:cubicBezTo>
                <a:cubicBezTo>
                  <a:pt x="16025" y="9327"/>
                  <a:pt x="16145" y="9083"/>
                  <a:pt x="16148" y="9079"/>
                </a:cubicBezTo>
              </a:path>
              <a:path w="3573" h="5632">
                <a:moveTo>
                  <a:pt x="16073" y="7045"/>
                </a:moveTo>
                <a:cubicBezTo>
                  <a:pt x="16056" y="6993"/>
                  <a:pt x="16020" y="7020"/>
                  <a:pt x="15999" y="7069"/>
                </a:cubicBezTo>
                <a:cubicBezTo>
                  <a:pt x="15935" y="7217"/>
                  <a:pt x="16027" y="7233"/>
                  <a:pt x="16148" y="7243"/>
                </a:cubicBezTo>
                <a:cubicBezTo>
                  <a:pt x="16214" y="7098"/>
                  <a:pt x="16232" y="6982"/>
                  <a:pt x="16024" y="6995"/>
                </a:cubicBezTo>
                <a:cubicBezTo>
                  <a:pt x="15864" y="7005"/>
                  <a:pt x="15867" y="7228"/>
                  <a:pt x="16024" y="7243"/>
                </a:cubicBezTo>
                <a:cubicBezTo>
                  <a:pt x="16181" y="7258"/>
                  <a:pt x="16098" y="7045"/>
                  <a:pt x="16073" y="6995"/>
                </a:cubicBezTo>
                <a:cubicBezTo>
                  <a:pt x="15882" y="7012"/>
                  <a:pt x="15945" y="7174"/>
                  <a:pt x="15999" y="7342"/>
                </a:cubicBezTo>
                <a:cubicBezTo>
                  <a:pt x="16149" y="7301"/>
                  <a:pt x="16190" y="7172"/>
                  <a:pt x="16098" y="7020"/>
                </a:cubicBezTo>
                <a:cubicBezTo>
                  <a:pt x="15970" y="6808"/>
                  <a:pt x="15865" y="7220"/>
                  <a:pt x="15900" y="7317"/>
                </a:cubicBezTo>
                <a:cubicBezTo>
                  <a:pt x="15970" y="7513"/>
                  <a:pt x="16148" y="7253"/>
                  <a:pt x="16123" y="7144"/>
                </a:cubicBezTo>
                <a:cubicBezTo>
                  <a:pt x="16070" y="7065"/>
                  <a:pt x="16050" y="7043"/>
                  <a:pt x="15999" y="71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24360" y="2571840"/>
            <a:ext cx="2419560" cy="822240"/>
          </a:xfrm>
          <a:custGeom>
            <a:avLst/>
            <a:gdLst/>
            <a:ahLst/>
            <a:rect l="l" t="t" r="r" b="b"/>
            <a:pathLst>
              <a:path w="6723" h="2283">
                <a:moveTo>
                  <a:pt x="22374" y="9302"/>
                </a:moveTo>
                <a:cubicBezTo>
                  <a:pt x="22374" y="9250"/>
                  <a:pt x="22376" y="9252"/>
                  <a:pt x="22324" y="9252"/>
                </a:cubicBezTo>
                <a:cubicBezTo>
                  <a:pt x="22304" y="9300"/>
                  <a:pt x="22270" y="9486"/>
                  <a:pt x="22423" y="9426"/>
                </a:cubicBezTo>
                <a:cubicBezTo>
                  <a:pt x="22493" y="9398"/>
                  <a:pt x="22666" y="9170"/>
                  <a:pt x="22547" y="9103"/>
                </a:cubicBezTo>
                <a:cubicBezTo>
                  <a:pt x="22408" y="9025"/>
                  <a:pt x="22360" y="9254"/>
                  <a:pt x="22349" y="9327"/>
                </a:cubicBezTo>
                <a:cubicBezTo>
                  <a:pt x="22497" y="9310"/>
                  <a:pt x="22576" y="9254"/>
                  <a:pt x="22622" y="9103"/>
                </a:cubicBezTo>
                <a:cubicBezTo>
                  <a:pt x="22676" y="8925"/>
                  <a:pt x="22406" y="9084"/>
                  <a:pt x="22374" y="9178"/>
                </a:cubicBezTo>
                <a:cubicBezTo>
                  <a:pt x="22374" y="9203"/>
                  <a:pt x="22374" y="9227"/>
                  <a:pt x="22374" y="9252"/>
                </a:cubicBezTo>
                <a:cubicBezTo>
                  <a:pt x="22497" y="9225"/>
                  <a:pt x="22542" y="9191"/>
                  <a:pt x="22572" y="9079"/>
                </a:cubicBezTo>
                <a:cubicBezTo>
                  <a:pt x="22522" y="9062"/>
                  <a:pt x="22411" y="9082"/>
                  <a:pt x="22423" y="9178"/>
                </a:cubicBezTo>
                <a:cubicBezTo>
                  <a:pt x="22431" y="9178"/>
                  <a:pt x="22440" y="9178"/>
                  <a:pt x="22448" y="9178"/>
                </a:cubicBezTo>
              </a:path>
              <a:path w="6723" h="2283">
                <a:moveTo>
                  <a:pt x="22200" y="9178"/>
                </a:moveTo>
                <a:cubicBezTo>
                  <a:pt x="22195" y="9178"/>
                  <a:pt x="22097" y="9186"/>
                  <a:pt x="22051" y="9178"/>
                </a:cubicBezTo>
                <a:cubicBezTo>
                  <a:pt x="21966" y="9164"/>
                  <a:pt x="21887" y="9160"/>
                  <a:pt x="21803" y="9128"/>
                </a:cubicBezTo>
                <a:cubicBezTo>
                  <a:pt x="21692" y="9086"/>
                  <a:pt x="21593" y="9021"/>
                  <a:pt x="21481" y="8979"/>
                </a:cubicBezTo>
                <a:cubicBezTo>
                  <a:pt x="21411" y="8953"/>
                  <a:pt x="21377" y="8943"/>
                  <a:pt x="21307" y="8905"/>
                </a:cubicBezTo>
                <a:cubicBezTo>
                  <a:pt x="21240" y="8869"/>
                  <a:pt x="21159" y="8829"/>
                  <a:pt x="21084" y="8781"/>
                </a:cubicBezTo>
                <a:cubicBezTo>
                  <a:pt x="20984" y="8717"/>
                  <a:pt x="20892" y="8658"/>
                  <a:pt x="20786" y="8607"/>
                </a:cubicBezTo>
                <a:cubicBezTo>
                  <a:pt x="20671" y="8553"/>
                  <a:pt x="20553" y="8507"/>
                  <a:pt x="20439" y="8458"/>
                </a:cubicBezTo>
                <a:cubicBezTo>
                  <a:pt x="20334" y="8413"/>
                  <a:pt x="20226" y="8375"/>
                  <a:pt x="20117" y="8334"/>
                </a:cubicBezTo>
                <a:cubicBezTo>
                  <a:pt x="20034" y="8302"/>
                  <a:pt x="19953" y="8265"/>
                  <a:pt x="19869" y="8235"/>
                </a:cubicBezTo>
                <a:cubicBezTo>
                  <a:pt x="19753" y="8193"/>
                  <a:pt x="19658" y="8138"/>
                  <a:pt x="19546" y="8086"/>
                </a:cubicBezTo>
                <a:cubicBezTo>
                  <a:pt x="19398" y="8018"/>
                  <a:pt x="19231" y="7936"/>
                  <a:pt x="19075" y="7888"/>
                </a:cubicBezTo>
                <a:cubicBezTo>
                  <a:pt x="18813" y="7807"/>
                  <a:pt x="18543" y="7751"/>
                  <a:pt x="18281" y="7665"/>
                </a:cubicBezTo>
                <a:cubicBezTo>
                  <a:pt x="18092" y="7603"/>
                  <a:pt x="17903" y="7539"/>
                  <a:pt x="17711" y="7491"/>
                </a:cubicBezTo>
                <a:cubicBezTo>
                  <a:pt x="17554" y="7452"/>
                  <a:pt x="17391" y="7428"/>
                  <a:pt x="17239" y="7392"/>
                </a:cubicBezTo>
                <a:cubicBezTo>
                  <a:pt x="17107" y="7361"/>
                  <a:pt x="16970" y="7346"/>
                  <a:pt x="16842" y="7317"/>
                </a:cubicBezTo>
                <a:cubicBezTo>
                  <a:pt x="16733" y="7293"/>
                  <a:pt x="16629" y="7261"/>
                  <a:pt x="16520" y="7243"/>
                </a:cubicBezTo>
                <a:cubicBezTo>
                  <a:pt x="16436" y="7229"/>
                  <a:pt x="16355" y="7234"/>
                  <a:pt x="16272" y="7218"/>
                </a:cubicBezTo>
                <a:cubicBezTo>
                  <a:pt x="16165" y="7198"/>
                  <a:pt x="16054" y="7161"/>
                  <a:pt x="15949" y="7144"/>
                </a:cubicBezTo>
                <a:cubicBezTo>
                  <a:pt x="15925" y="7144"/>
                  <a:pt x="15916" y="7144"/>
                  <a:pt x="15900" y="71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70760" y="3303720"/>
            <a:ext cx="2295360" cy="1144440"/>
          </a:xfrm>
          <a:custGeom>
            <a:avLst/>
            <a:gdLst/>
            <a:ahLst/>
            <a:rect l="l" t="t" r="r" b="b"/>
            <a:pathLst>
              <a:path w="6376" h="3176">
                <a:moveTo>
                  <a:pt x="17140" y="11534"/>
                </a:moveTo>
                <a:cubicBezTo>
                  <a:pt x="17140" y="11577"/>
                  <a:pt x="17114" y="12029"/>
                  <a:pt x="17165" y="12030"/>
                </a:cubicBezTo>
                <a:cubicBezTo>
                  <a:pt x="17173" y="12014"/>
                  <a:pt x="17182" y="11997"/>
                  <a:pt x="17190" y="11981"/>
                </a:cubicBezTo>
              </a:path>
              <a:path w="6376" h="3176">
                <a:moveTo>
                  <a:pt x="22002" y="9203"/>
                </a:moveTo>
                <a:cubicBezTo>
                  <a:pt x="22099" y="9203"/>
                  <a:pt x="22184" y="9193"/>
                  <a:pt x="22275" y="9178"/>
                </a:cubicBezTo>
                <a:cubicBezTo>
                  <a:pt x="22148" y="9219"/>
                  <a:pt x="22008" y="9261"/>
                  <a:pt x="21878" y="9302"/>
                </a:cubicBezTo>
                <a:cubicBezTo>
                  <a:pt x="21556" y="9404"/>
                  <a:pt x="21233" y="9499"/>
                  <a:pt x="20910" y="9599"/>
                </a:cubicBezTo>
                <a:cubicBezTo>
                  <a:pt x="20620" y="9689"/>
                  <a:pt x="20331" y="9779"/>
                  <a:pt x="20042" y="9872"/>
                </a:cubicBezTo>
                <a:cubicBezTo>
                  <a:pt x="19856" y="9932"/>
                  <a:pt x="19655" y="9954"/>
                  <a:pt x="19472" y="10021"/>
                </a:cubicBezTo>
                <a:cubicBezTo>
                  <a:pt x="19347" y="10067"/>
                  <a:pt x="19221" y="10114"/>
                  <a:pt x="19100" y="10170"/>
                </a:cubicBezTo>
                <a:cubicBezTo>
                  <a:pt x="18979" y="10226"/>
                  <a:pt x="18869" y="10304"/>
                  <a:pt x="18752" y="10368"/>
                </a:cubicBezTo>
                <a:cubicBezTo>
                  <a:pt x="18603" y="10449"/>
                  <a:pt x="18437" y="10493"/>
                  <a:pt x="18281" y="10567"/>
                </a:cubicBezTo>
                <a:cubicBezTo>
                  <a:pt x="18162" y="10623"/>
                  <a:pt x="18045" y="10693"/>
                  <a:pt x="17934" y="10765"/>
                </a:cubicBezTo>
                <a:cubicBezTo>
                  <a:pt x="17863" y="10811"/>
                  <a:pt x="17829" y="10827"/>
                  <a:pt x="17760" y="10864"/>
                </a:cubicBezTo>
                <a:cubicBezTo>
                  <a:pt x="17730" y="10880"/>
                  <a:pt x="17740" y="10873"/>
                  <a:pt x="17711" y="10889"/>
                </a:cubicBezTo>
              </a:path>
              <a:path w="6376" h="3176">
                <a:moveTo>
                  <a:pt x="17537" y="11832"/>
                </a:moveTo>
                <a:cubicBezTo>
                  <a:pt x="17572" y="11970"/>
                  <a:pt x="17601" y="12114"/>
                  <a:pt x="17636" y="12254"/>
                </a:cubicBezTo>
                <a:cubicBezTo>
                  <a:pt x="17655" y="12311"/>
                  <a:pt x="17664" y="12318"/>
                  <a:pt x="17661" y="12353"/>
                </a:cubicBezTo>
              </a:path>
              <a:path w="6376" h="3176">
                <a:moveTo>
                  <a:pt x="20811" y="10790"/>
                </a:moveTo>
                <a:cubicBezTo>
                  <a:pt x="20820" y="10775"/>
                  <a:pt x="20863" y="10688"/>
                  <a:pt x="20836" y="10666"/>
                </a:cubicBezTo>
                <a:cubicBezTo>
                  <a:pt x="20828" y="10666"/>
                  <a:pt x="20819" y="10666"/>
                  <a:pt x="20811" y="10666"/>
                </a:cubicBezTo>
                <a:cubicBezTo>
                  <a:pt x="20789" y="10738"/>
                  <a:pt x="20694" y="10988"/>
                  <a:pt x="20861" y="10988"/>
                </a:cubicBezTo>
                <a:cubicBezTo>
                  <a:pt x="21056" y="10988"/>
                  <a:pt x="21116" y="10729"/>
                  <a:pt x="20985" y="10616"/>
                </a:cubicBezTo>
                <a:cubicBezTo>
                  <a:pt x="20874" y="10520"/>
                  <a:pt x="20700" y="10680"/>
                  <a:pt x="20687" y="10790"/>
                </a:cubicBezTo>
                <a:cubicBezTo>
                  <a:pt x="20695" y="10823"/>
                  <a:pt x="20704" y="10856"/>
                  <a:pt x="20712" y="10889"/>
                </a:cubicBezTo>
                <a:cubicBezTo>
                  <a:pt x="20873" y="10903"/>
                  <a:pt x="20889" y="10847"/>
                  <a:pt x="20910" y="10691"/>
                </a:cubicBezTo>
                <a:cubicBezTo>
                  <a:pt x="20823" y="10652"/>
                  <a:pt x="20692" y="10726"/>
                  <a:pt x="20737" y="10864"/>
                </a:cubicBezTo>
                <a:cubicBezTo>
                  <a:pt x="20772" y="10970"/>
                  <a:pt x="20884" y="10793"/>
                  <a:pt x="20886" y="10790"/>
                </a:cubicBezTo>
              </a:path>
              <a:path w="6376" h="3176">
                <a:moveTo>
                  <a:pt x="21903" y="10840"/>
                </a:moveTo>
                <a:cubicBezTo>
                  <a:pt x="21830" y="11033"/>
                  <a:pt x="21933" y="10756"/>
                  <a:pt x="21952" y="10740"/>
                </a:cubicBezTo>
                <a:cubicBezTo>
                  <a:pt x="21977" y="10732"/>
                  <a:pt x="22002" y="10724"/>
                  <a:pt x="22027" y="10716"/>
                </a:cubicBezTo>
                <a:cubicBezTo>
                  <a:pt x="22201" y="10903"/>
                  <a:pt x="22171" y="11219"/>
                  <a:pt x="22002" y="11460"/>
                </a:cubicBezTo>
                <a:cubicBezTo>
                  <a:pt x="21852" y="11588"/>
                  <a:pt x="21824" y="11626"/>
                  <a:pt x="21704" y="11658"/>
                </a:cubicBezTo>
                <a:cubicBezTo>
                  <a:pt x="21600" y="11450"/>
                  <a:pt x="21648" y="11267"/>
                  <a:pt x="21927" y="11261"/>
                </a:cubicBezTo>
                <a:cubicBezTo>
                  <a:pt x="22113" y="11257"/>
                  <a:pt x="22109" y="11410"/>
                  <a:pt x="22275" y="11336"/>
                </a:cubicBezTo>
              </a:path>
              <a:path w="6376" h="3176">
                <a:moveTo>
                  <a:pt x="22448" y="10815"/>
                </a:moveTo>
                <a:cubicBezTo>
                  <a:pt x="22425" y="10995"/>
                  <a:pt x="22408" y="11045"/>
                  <a:pt x="22498" y="11137"/>
                </a:cubicBezTo>
                <a:cubicBezTo>
                  <a:pt x="22697" y="11175"/>
                  <a:pt x="22913" y="11149"/>
                  <a:pt x="22895" y="10864"/>
                </a:cubicBezTo>
                <a:cubicBezTo>
                  <a:pt x="22874" y="10538"/>
                  <a:pt x="22573" y="10672"/>
                  <a:pt x="22423" y="10765"/>
                </a:cubicBezTo>
              </a:path>
              <a:path w="6376" h="3176">
                <a:moveTo>
                  <a:pt x="21530" y="11981"/>
                </a:moveTo>
                <a:cubicBezTo>
                  <a:pt x="21954" y="11957"/>
                  <a:pt x="22348" y="11866"/>
                  <a:pt x="22746" y="11708"/>
                </a:cubicBezTo>
                <a:cubicBezTo>
                  <a:pt x="23111" y="11564"/>
                  <a:pt x="23606" y="11344"/>
                  <a:pt x="23515" y="10864"/>
                </a:cubicBezTo>
                <a:cubicBezTo>
                  <a:pt x="23419" y="10359"/>
                  <a:pt x="22839" y="10100"/>
                  <a:pt x="22374" y="10120"/>
                </a:cubicBezTo>
                <a:cubicBezTo>
                  <a:pt x="21635" y="10152"/>
                  <a:pt x="21229" y="10617"/>
                  <a:pt x="21109" y="11311"/>
                </a:cubicBezTo>
                <a:cubicBezTo>
                  <a:pt x="20959" y="12177"/>
                  <a:pt x="21819" y="11889"/>
                  <a:pt x="22324" y="118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27840" y="4537080"/>
            <a:ext cx="2133360" cy="1490760"/>
          </a:xfrm>
          <a:custGeom>
            <a:avLst/>
            <a:gdLst/>
            <a:ahLst/>
            <a:rect l="l" t="t" r="r" b="b"/>
            <a:pathLst>
              <a:path w="5929" h="4143">
                <a:moveTo>
                  <a:pt x="21679" y="12650"/>
                </a:moveTo>
                <a:cubicBezTo>
                  <a:pt x="21649" y="12645"/>
                  <a:pt x="21605" y="12621"/>
                  <a:pt x="21580" y="12626"/>
                </a:cubicBezTo>
                <a:cubicBezTo>
                  <a:pt x="21522" y="12637"/>
                  <a:pt x="21594" y="12532"/>
                  <a:pt x="21456" y="12675"/>
                </a:cubicBezTo>
                <a:cubicBezTo>
                  <a:pt x="21287" y="12849"/>
                  <a:pt x="21162" y="13115"/>
                  <a:pt x="21034" y="13320"/>
                </a:cubicBezTo>
                <a:cubicBezTo>
                  <a:pt x="20902" y="13532"/>
                  <a:pt x="20792" y="13754"/>
                  <a:pt x="20662" y="13965"/>
                </a:cubicBezTo>
                <a:cubicBezTo>
                  <a:pt x="20571" y="14113"/>
                  <a:pt x="20479" y="14266"/>
                  <a:pt x="20389" y="14412"/>
                </a:cubicBezTo>
                <a:cubicBezTo>
                  <a:pt x="20294" y="14566"/>
                  <a:pt x="20173" y="14712"/>
                  <a:pt x="20067" y="14858"/>
                </a:cubicBezTo>
                <a:cubicBezTo>
                  <a:pt x="19973" y="14987"/>
                  <a:pt x="19875" y="15135"/>
                  <a:pt x="19769" y="15255"/>
                </a:cubicBezTo>
                <a:cubicBezTo>
                  <a:pt x="19645" y="15395"/>
                  <a:pt x="19523" y="15539"/>
                  <a:pt x="19397" y="15677"/>
                </a:cubicBezTo>
                <a:cubicBezTo>
                  <a:pt x="19253" y="15835"/>
                  <a:pt x="19109" y="15980"/>
                  <a:pt x="18976" y="16148"/>
                </a:cubicBezTo>
                <a:cubicBezTo>
                  <a:pt x="18907" y="16236"/>
                  <a:pt x="18831" y="16316"/>
                  <a:pt x="18752" y="16396"/>
                </a:cubicBezTo>
                <a:cubicBezTo>
                  <a:pt x="18646" y="16505"/>
                  <a:pt x="18499" y="16617"/>
                  <a:pt x="18405" y="16718"/>
                </a:cubicBezTo>
                <a:cubicBezTo>
                  <a:pt x="18405" y="16726"/>
                  <a:pt x="18405" y="16735"/>
                  <a:pt x="18405" y="16743"/>
                </a:cubicBezTo>
              </a:path>
              <a:path w="5929" h="4143">
                <a:moveTo>
                  <a:pt x="16768" y="12750"/>
                </a:moveTo>
                <a:cubicBezTo>
                  <a:pt x="16755" y="12705"/>
                  <a:pt x="16768" y="12680"/>
                  <a:pt x="16768" y="12675"/>
                </a:cubicBezTo>
                <a:cubicBezTo>
                  <a:pt x="16921" y="12821"/>
                  <a:pt x="17042" y="12987"/>
                  <a:pt x="17190" y="13146"/>
                </a:cubicBezTo>
                <a:cubicBezTo>
                  <a:pt x="17494" y="13472"/>
                  <a:pt x="17768" y="13804"/>
                  <a:pt x="18058" y="14139"/>
                </a:cubicBezTo>
                <a:cubicBezTo>
                  <a:pt x="18220" y="14326"/>
                  <a:pt x="18411" y="14483"/>
                  <a:pt x="18579" y="14660"/>
                </a:cubicBezTo>
                <a:cubicBezTo>
                  <a:pt x="18717" y="14805"/>
                  <a:pt x="18834" y="14964"/>
                  <a:pt x="18976" y="15106"/>
                </a:cubicBezTo>
                <a:cubicBezTo>
                  <a:pt x="19149" y="15279"/>
                  <a:pt x="19332" y="15451"/>
                  <a:pt x="19496" y="15627"/>
                </a:cubicBezTo>
                <a:cubicBezTo>
                  <a:pt x="19591" y="15729"/>
                  <a:pt x="19673" y="15847"/>
                  <a:pt x="19769" y="15949"/>
                </a:cubicBezTo>
                <a:cubicBezTo>
                  <a:pt x="19884" y="16071"/>
                  <a:pt x="20009" y="16157"/>
                  <a:pt x="20141" y="16247"/>
                </a:cubicBezTo>
                <a:cubicBezTo>
                  <a:pt x="20206" y="16292"/>
                  <a:pt x="20239" y="16341"/>
                  <a:pt x="20290" y="16396"/>
                </a:cubicBezTo>
                <a:cubicBezTo>
                  <a:pt x="20350" y="16460"/>
                  <a:pt x="20395" y="16516"/>
                  <a:pt x="20439" y="16594"/>
                </a:cubicBezTo>
                <a:cubicBezTo>
                  <a:pt x="20471" y="16650"/>
                  <a:pt x="20480" y="16663"/>
                  <a:pt x="20513" y="16718"/>
                </a:cubicBezTo>
              </a:path>
              <a:path w="5929" h="4143">
                <a:moveTo>
                  <a:pt x="21630" y="14932"/>
                </a:moveTo>
                <a:cubicBezTo>
                  <a:pt x="21723" y="14895"/>
                  <a:pt x="21793" y="14786"/>
                  <a:pt x="21903" y="14759"/>
                </a:cubicBezTo>
                <a:cubicBezTo>
                  <a:pt x="21936" y="14759"/>
                  <a:pt x="21969" y="14759"/>
                  <a:pt x="22002" y="14759"/>
                </a:cubicBezTo>
                <a:cubicBezTo>
                  <a:pt x="22101" y="14959"/>
                  <a:pt x="22006" y="15129"/>
                  <a:pt x="21903" y="15329"/>
                </a:cubicBezTo>
                <a:cubicBezTo>
                  <a:pt x="21816" y="15481"/>
                  <a:pt x="21798" y="15518"/>
                  <a:pt x="21729" y="15602"/>
                </a:cubicBezTo>
                <a:cubicBezTo>
                  <a:pt x="21741" y="15602"/>
                  <a:pt x="21925" y="15430"/>
                  <a:pt x="22027" y="15404"/>
                </a:cubicBezTo>
                <a:cubicBezTo>
                  <a:pt x="22116" y="15382"/>
                  <a:pt x="22172" y="15431"/>
                  <a:pt x="22250" y="15453"/>
                </a:cubicBezTo>
              </a:path>
              <a:path w="5929" h="4143">
                <a:moveTo>
                  <a:pt x="21506" y="15925"/>
                </a:moveTo>
                <a:cubicBezTo>
                  <a:pt x="21903" y="16002"/>
                  <a:pt x="22355" y="15843"/>
                  <a:pt x="22572" y="15429"/>
                </a:cubicBezTo>
                <a:cubicBezTo>
                  <a:pt x="22844" y="14910"/>
                  <a:pt x="22557" y="14635"/>
                  <a:pt x="22299" y="14238"/>
                </a:cubicBezTo>
                <a:cubicBezTo>
                  <a:pt x="21611" y="14309"/>
                  <a:pt x="20735" y="14771"/>
                  <a:pt x="20935" y="15751"/>
                </a:cubicBezTo>
                <a:cubicBezTo>
                  <a:pt x="21096" y="16541"/>
                  <a:pt x="22183" y="15583"/>
                  <a:pt x="22374" y="154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24320" y="1938240"/>
            <a:ext cx="1000440" cy="490680"/>
          </a:xfrm>
          <a:custGeom>
            <a:avLst/>
            <a:gdLst/>
            <a:ahLst/>
            <a:rect l="l" t="t" r="r" b="b"/>
            <a:pathLst>
              <a:path w="2779" h="1365">
                <a:moveTo>
                  <a:pt x="14511" y="6226"/>
                </a:moveTo>
                <a:cubicBezTo>
                  <a:pt x="14837" y="6483"/>
                  <a:pt x="15024" y="6540"/>
                  <a:pt x="15404" y="6672"/>
                </a:cubicBezTo>
                <a:cubicBezTo>
                  <a:pt x="15635" y="6752"/>
                  <a:pt x="15634" y="6750"/>
                  <a:pt x="15801" y="6573"/>
                </a:cubicBezTo>
                <a:cubicBezTo>
                  <a:pt x="15954" y="6411"/>
                  <a:pt x="16192" y="6362"/>
                  <a:pt x="16346" y="6201"/>
                </a:cubicBezTo>
                <a:cubicBezTo>
                  <a:pt x="16498" y="6042"/>
                  <a:pt x="16587" y="5869"/>
                  <a:pt x="16793" y="5755"/>
                </a:cubicBezTo>
                <a:cubicBezTo>
                  <a:pt x="16958" y="5663"/>
                  <a:pt x="17243" y="5720"/>
                  <a:pt x="17289" y="5531"/>
                </a:cubicBezTo>
                <a:cubicBezTo>
                  <a:pt x="17289" y="5482"/>
                  <a:pt x="17289" y="5465"/>
                  <a:pt x="17289" y="5432"/>
                </a:cubicBezTo>
                <a:cubicBezTo>
                  <a:pt x="17176" y="5409"/>
                  <a:pt x="17137" y="5392"/>
                  <a:pt x="17016" y="5407"/>
                </a:cubicBezTo>
                <a:cubicBezTo>
                  <a:pt x="16766" y="5438"/>
                  <a:pt x="16518" y="5541"/>
                  <a:pt x="16297" y="5655"/>
                </a:cubicBezTo>
                <a:cubicBezTo>
                  <a:pt x="16135" y="5738"/>
                  <a:pt x="15953" y="5803"/>
                  <a:pt x="15825" y="5904"/>
                </a:cubicBezTo>
                <a:cubicBezTo>
                  <a:pt x="15733" y="5976"/>
                  <a:pt x="15732" y="6096"/>
                  <a:pt x="15677" y="6201"/>
                </a:cubicBezTo>
                <a:cubicBezTo>
                  <a:pt x="15596" y="6355"/>
                  <a:pt x="15660" y="6267"/>
                  <a:pt x="15701" y="62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30960" y="1901880"/>
            <a:ext cx="81000" cy="108000"/>
          </a:xfrm>
          <a:custGeom>
            <a:avLst/>
            <a:gdLst/>
            <a:ahLst/>
            <a:rect l="l" t="t" r="r" b="b"/>
            <a:pathLst>
              <a:path w="224" h="299">
                <a:moveTo>
                  <a:pt x="17760" y="5333"/>
                </a:moveTo>
                <a:cubicBezTo>
                  <a:pt x="17729" y="5240"/>
                  <a:pt x="17624" y="5384"/>
                  <a:pt x="17611" y="5432"/>
                </a:cubicBezTo>
                <a:cubicBezTo>
                  <a:pt x="17611" y="5515"/>
                  <a:pt x="17611" y="5531"/>
                  <a:pt x="17611" y="5581"/>
                </a:cubicBezTo>
                <a:cubicBezTo>
                  <a:pt x="17700" y="5541"/>
                  <a:pt x="17830" y="5462"/>
                  <a:pt x="17785" y="5333"/>
                </a:cubicBezTo>
                <a:cubicBezTo>
                  <a:pt x="17740" y="5205"/>
                  <a:pt x="17624" y="5354"/>
                  <a:pt x="17611" y="5407"/>
                </a:cubicBezTo>
                <a:cubicBezTo>
                  <a:pt x="17611" y="5424"/>
                  <a:pt x="17611" y="5440"/>
                  <a:pt x="17611" y="5457"/>
                </a:cubicBezTo>
                <a:cubicBezTo>
                  <a:pt x="17683" y="5449"/>
                  <a:pt x="17863" y="5429"/>
                  <a:pt x="17810" y="5308"/>
                </a:cubicBezTo>
                <a:cubicBezTo>
                  <a:pt x="17751" y="5173"/>
                  <a:pt x="17607" y="5369"/>
                  <a:pt x="17587" y="5407"/>
                </a:cubicBezTo>
                <a:cubicBezTo>
                  <a:pt x="17625" y="5427"/>
                  <a:pt x="17751" y="5444"/>
                  <a:pt x="17735" y="5358"/>
                </a:cubicBezTo>
                <a:cubicBezTo>
                  <a:pt x="17727" y="5358"/>
                  <a:pt x="17719" y="5358"/>
                  <a:pt x="17711" y="53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946760" y="2633760"/>
            <a:ext cx="19080" cy="277560"/>
          </a:xfrm>
          <a:custGeom>
            <a:avLst/>
            <a:gdLst/>
            <a:ahLst/>
            <a:rect l="l" t="t" r="r" b="b"/>
            <a:pathLst>
              <a:path w="50" h="770">
                <a:moveTo>
                  <a:pt x="13742" y="7317"/>
                </a:moveTo>
                <a:cubicBezTo>
                  <a:pt x="13774" y="7476"/>
                  <a:pt x="13801" y="7618"/>
                  <a:pt x="13791" y="7789"/>
                </a:cubicBezTo>
                <a:cubicBezTo>
                  <a:pt x="13784" y="7907"/>
                  <a:pt x="13732" y="8139"/>
                  <a:pt x="13791" y="80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84960" y="1973160"/>
            <a:ext cx="1660320" cy="1357560"/>
          </a:xfrm>
          <a:custGeom>
            <a:avLst/>
            <a:gdLst/>
            <a:ahLst/>
            <a:rect l="l" t="t" r="r" b="b"/>
            <a:pathLst>
              <a:path w="4615" h="3771">
                <a:moveTo>
                  <a:pt x="17735" y="5482"/>
                </a:moveTo>
                <a:cubicBezTo>
                  <a:pt x="17761" y="5516"/>
                  <a:pt x="17825" y="5583"/>
                  <a:pt x="17859" y="5631"/>
                </a:cubicBezTo>
                <a:cubicBezTo>
                  <a:pt x="17908" y="5701"/>
                  <a:pt x="17954" y="5764"/>
                  <a:pt x="18008" y="5829"/>
                </a:cubicBezTo>
                <a:cubicBezTo>
                  <a:pt x="18101" y="5943"/>
                  <a:pt x="18203" y="6047"/>
                  <a:pt x="18306" y="6152"/>
                </a:cubicBezTo>
                <a:cubicBezTo>
                  <a:pt x="18425" y="6274"/>
                  <a:pt x="18548" y="6390"/>
                  <a:pt x="18678" y="6499"/>
                </a:cubicBezTo>
                <a:cubicBezTo>
                  <a:pt x="18754" y="6563"/>
                  <a:pt x="18825" y="6632"/>
                  <a:pt x="18901" y="6697"/>
                </a:cubicBezTo>
                <a:cubicBezTo>
                  <a:pt x="18983" y="6768"/>
                  <a:pt x="19061" y="6833"/>
                  <a:pt x="19149" y="6896"/>
                </a:cubicBezTo>
                <a:cubicBezTo>
                  <a:pt x="19345" y="7037"/>
                  <a:pt x="19558" y="7176"/>
                  <a:pt x="19769" y="7293"/>
                </a:cubicBezTo>
                <a:cubicBezTo>
                  <a:pt x="19897" y="7364"/>
                  <a:pt x="19998" y="7433"/>
                  <a:pt x="20117" y="7516"/>
                </a:cubicBezTo>
                <a:cubicBezTo>
                  <a:pt x="20269" y="7622"/>
                  <a:pt x="20420" y="7722"/>
                  <a:pt x="20563" y="7838"/>
                </a:cubicBezTo>
                <a:cubicBezTo>
                  <a:pt x="20632" y="7894"/>
                  <a:pt x="20693" y="7954"/>
                  <a:pt x="20762" y="8012"/>
                </a:cubicBezTo>
                <a:cubicBezTo>
                  <a:pt x="20820" y="8060"/>
                  <a:pt x="20870" y="8116"/>
                  <a:pt x="20935" y="8161"/>
                </a:cubicBezTo>
                <a:cubicBezTo>
                  <a:pt x="21019" y="8219"/>
                  <a:pt x="21084" y="8271"/>
                  <a:pt x="21158" y="8334"/>
                </a:cubicBezTo>
                <a:cubicBezTo>
                  <a:pt x="21249" y="8411"/>
                  <a:pt x="21340" y="8483"/>
                  <a:pt x="21431" y="8558"/>
                </a:cubicBezTo>
                <a:cubicBezTo>
                  <a:pt x="21515" y="8627"/>
                  <a:pt x="21622" y="8685"/>
                  <a:pt x="21704" y="8756"/>
                </a:cubicBezTo>
                <a:cubicBezTo>
                  <a:pt x="21767" y="8810"/>
                  <a:pt x="21805" y="8876"/>
                  <a:pt x="21878" y="8930"/>
                </a:cubicBezTo>
                <a:cubicBezTo>
                  <a:pt x="21930" y="8969"/>
                  <a:pt x="21978" y="8995"/>
                  <a:pt x="22027" y="9029"/>
                </a:cubicBezTo>
                <a:cubicBezTo>
                  <a:pt x="22076" y="9063"/>
                  <a:pt x="22125" y="9094"/>
                  <a:pt x="22175" y="9128"/>
                </a:cubicBezTo>
                <a:cubicBezTo>
                  <a:pt x="22210" y="9151"/>
                  <a:pt x="22273" y="9180"/>
                  <a:pt x="22299" y="9203"/>
                </a:cubicBezTo>
                <a:cubicBezTo>
                  <a:pt x="22313" y="9215"/>
                  <a:pt x="22335" y="9238"/>
                  <a:pt x="22349" y="9252"/>
                </a:cubicBezTo>
                <a:cubicBezTo>
                  <a:pt x="22341" y="9252"/>
                  <a:pt x="22332" y="9252"/>
                  <a:pt x="22324" y="92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72040" y="2678040"/>
            <a:ext cx="36360" cy="233280"/>
          </a:xfrm>
          <a:custGeom>
            <a:avLst/>
            <a:gdLst/>
            <a:ahLst/>
            <a:rect l="l" t="t" r="r" b="b"/>
            <a:pathLst>
              <a:path w="100" h="646">
                <a:moveTo>
                  <a:pt x="14089" y="7441"/>
                </a:moveTo>
                <a:cubicBezTo>
                  <a:pt x="14166" y="7492"/>
                  <a:pt x="14129" y="7738"/>
                  <a:pt x="14139" y="7838"/>
                </a:cubicBezTo>
                <a:cubicBezTo>
                  <a:pt x="14145" y="7893"/>
                  <a:pt x="14136" y="8095"/>
                  <a:pt x="14188" y="80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29240" y="1919160"/>
            <a:ext cx="1071720" cy="1911600"/>
          </a:xfrm>
          <a:custGeom>
            <a:avLst/>
            <a:gdLst/>
            <a:ahLst/>
            <a:rect l="l" t="t" r="r" b="b"/>
            <a:pathLst>
              <a:path w="2978" h="5309">
                <a:moveTo>
                  <a:pt x="17859" y="5333"/>
                </a:moveTo>
                <a:cubicBezTo>
                  <a:pt x="17876" y="5419"/>
                  <a:pt x="17886" y="5492"/>
                  <a:pt x="17909" y="5581"/>
                </a:cubicBezTo>
                <a:cubicBezTo>
                  <a:pt x="17946" y="5724"/>
                  <a:pt x="18012" y="5841"/>
                  <a:pt x="18058" y="5978"/>
                </a:cubicBezTo>
                <a:cubicBezTo>
                  <a:pt x="18110" y="6134"/>
                  <a:pt x="18160" y="6297"/>
                  <a:pt x="18231" y="6449"/>
                </a:cubicBezTo>
                <a:cubicBezTo>
                  <a:pt x="18348" y="6698"/>
                  <a:pt x="18501" y="6941"/>
                  <a:pt x="18604" y="7193"/>
                </a:cubicBezTo>
                <a:cubicBezTo>
                  <a:pt x="18718" y="7472"/>
                  <a:pt x="18849" y="7726"/>
                  <a:pt x="19000" y="7987"/>
                </a:cubicBezTo>
                <a:cubicBezTo>
                  <a:pt x="19089" y="8139"/>
                  <a:pt x="19186" y="8283"/>
                  <a:pt x="19273" y="8434"/>
                </a:cubicBezTo>
                <a:cubicBezTo>
                  <a:pt x="19392" y="8640"/>
                  <a:pt x="19538" y="8850"/>
                  <a:pt x="19695" y="9029"/>
                </a:cubicBezTo>
                <a:cubicBezTo>
                  <a:pt x="19764" y="9107"/>
                  <a:pt x="19785" y="9151"/>
                  <a:pt x="19844" y="9227"/>
                </a:cubicBezTo>
                <a:cubicBezTo>
                  <a:pt x="19942" y="9354"/>
                  <a:pt x="20019" y="9496"/>
                  <a:pt x="20117" y="9624"/>
                </a:cubicBezTo>
                <a:cubicBezTo>
                  <a:pt x="20247" y="9793"/>
                  <a:pt x="20377" y="9962"/>
                  <a:pt x="20489" y="10145"/>
                </a:cubicBezTo>
                <a:cubicBezTo>
                  <a:pt x="20540" y="10228"/>
                  <a:pt x="20580" y="10315"/>
                  <a:pt x="20638" y="10393"/>
                </a:cubicBezTo>
                <a:cubicBezTo>
                  <a:pt x="20679" y="10447"/>
                  <a:pt x="20733" y="10514"/>
                  <a:pt x="20762" y="10567"/>
                </a:cubicBezTo>
                <a:cubicBezTo>
                  <a:pt x="20787" y="10612"/>
                  <a:pt x="20765" y="10594"/>
                  <a:pt x="20786" y="106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05240" y="2678040"/>
            <a:ext cx="36720" cy="233280"/>
          </a:xfrm>
          <a:custGeom>
            <a:avLst/>
            <a:gdLst/>
            <a:ahLst/>
            <a:rect l="l" t="t" r="r" b="b"/>
            <a:pathLst>
              <a:path w="100" h="646">
                <a:moveTo>
                  <a:pt x="14461" y="7441"/>
                </a:moveTo>
                <a:cubicBezTo>
                  <a:pt x="14461" y="7588"/>
                  <a:pt x="14469" y="7743"/>
                  <a:pt x="14486" y="7888"/>
                </a:cubicBezTo>
                <a:cubicBezTo>
                  <a:pt x="14500" y="8004"/>
                  <a:pt x="14492" y="8029"/>
                  <a:pt x="14560" y="80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48240" y="1938240"/>
            <a:ext cx="108000" cy="1928880"/>
          </a:xfrm>
          <a:custGeom>
            <a:avLst/>
            <a:gdLst/>
            <a:ahLst/>
            <a:rect l="l" t="t" r="r" b="b"/>
            <a:pathLst>
              <a:path w="299" h="5358">
                <a:moveTo>
                  <a:pt x="17810" y="5383"/>
                </a:moveTo>
                <a:cubicBezTo>
                  <a:pt x="17786" y="5399"/>
                  <a:pt x="17733" y="5416"/>
                  <a:pt x="17711" y="5432"/>
                </a:cubicBezTo>
                <a:cubicBezTo>
                  <a:pt x="17665" y="5466"/>
                  <a:pt x="17671" y="5475"/>
                  <a:pt x="17661" y="5556"/>
                </a:cubicBezTo>
                <a:cubicBezTo>
                  <a:pt x="17629" y="5809"/>
                  <a:pt x="17628" y="6124"/>
                  <a:pt x="17636" y="6375"/>
                </a:cubicBezTo>
                <a:cubicBezTo>
                  <a:pt x="17642" y="6583"/>
                  <a:pt x="17642" y="6811"/>
                  <a:pt x="17661" y="7020"/>
                </a:cubicBezTo>
                <a:cubicBezTo>
                  <a:pt x="17680" y="7226"/>
                  <a:pt x="17706" y="7434"/>
                  <a:pt x="17711" y="7640"/>
                </a:cubicBezTo>
                <a:cubicBezTo>
                  <a:pt x="17714" y="7755"/>
                  <a:pt x="17722" y="7873"/>
                  <a:pt x="17735" y="7987"/>
                </a:cubicBezTo>
                <a:cubicBezTo>
                  <a:pt x="17745" y="8071"/>
                  <a:pt x="17769" y="8174"/>
                  <a:pt x="17785" y="8260"/>
                </a:cubicBezTo>
                <a:cubicBezTo>
                  <a:pt x="17810" y="8392"/>
                  <a:pt x="17831" y="8523"/>
                  <a:pt x="17835" y="8657"/>
                </a:cubicBezTo>
                <a:cubicBezTo>
                  <a:pt x="17839" y="8793"/>
                  <a:pt x="17841" y="8944"/>
                  <a:pt x="17859" y="9079"/>
                </a:cubicBezTo>
                <a:cubicBezTo>
                  <a:pt x="17886" y="9276"/>
                  <a:pt x="17881" y="9478"/>
                  <a:pt x="17909" y="9674"/>
                </a:cubicBezTo>
                <a:cubicBezTo>
                  <a:pt x="17927" y="9801"/>
                  <a:pt x="17934" y="9916"/>
                  <a:pt x="17934" y="10046"/>
                </a:cubicBezTo>
                <a:cubicBezTo>
                  <a:pt x="17934" y="10169"/>
                  <a:pt x="17935" y="10275"/>
                  <a:pt x="17909" y="10393"/>
                </a:cubicBezTo>
                <a:cubicBezTo>
                  <a:pt x="17890" y="10479"/>
                  <a:pt x="17875" y="10556"/>
                  <a:pt x="17859" y="10641"/>
                </a:cubicBezTo>
                <a:cubicBezTo>
                  <a:pt x="17850" y="10691"/>
                  <a:pt x="17852" y="10643"/>
                  <a:pt x="17835" y="106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30880" y="2643120"/>
            <a:ext cx="19080" cy="9720"/>
          </a:xfrm>
          <a:custGeom>
            <a:avLst/>
            <a:gdLst/>
            <a:ahLst/>
            <a:rect l="l" t="t" r="r" b="b"/>
            <a:pathLst>
              <a:path w="51" h="26">
                <a:moveTo>
                  <a:pt x="14808" y="7342"/>
                </a:moveTo>
                <a:cubicBezTo>
                  <a:pt x="14825" y="7350"/>
                  <a:pt x="14841" y="7359"/>
                  <a:pt x="14858" y="73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57880" y="2670120"/>
            <a:ext cx="17280" cy="187560"/>
          </a:xfrm>
          <a:custGeom>
            <a:avLst/>
            <a:gdLst/>
            <a:ahLst/>
            <a:rect l="l" t="t" r="r" b="b"/>
            <a:pathLst>
              <a:path w="50" h="522">
                <a:moveTo>
                  <a:pt x="14883" y="7417"/>
                </a:moveTo>
                <a:cubicBezTo>
                  <a:pt x="14883" y="7569"/>
                  <a:pt x="14837" y="7897"/>
                  <a:pt x="14932" y="79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96000" y="1884240"/>
            <a:ext cx="571320" cy="1374840"/>
          </a:xfrm>
          <a:custGeom>
            <a:avLst/>
            <a:gdLst/>
            <a:ahLst/>
            <a:rect l="l" t="t" r="r" b="b"/>
            <a:pathLst>
              <a:path w="1589" h="3821">
                <a:moveTo>
                  <a:pt x="17686" y="5234"/>
                </a:moveTo>
                <a:cubicBezTo>
                  <a:pt x="17657" y="5309"/>
                  <a:pt x="17622" y="5382"/>
                  <a:pt x="17587" y="5457"/>
                </a:cubicBezTo>
                <a:cubicBezTo>
                  <a:pt x="17515" y="5613"/>
                  <a:pt x="17420" y="5766"/>
                  <a:pt x="17363" y="5928"/>
                </a:cubicBezTo>
                <a:cubicBezTo>
                  <a:pt x="17321" y="6048"/>
                  <a:pt x="17305" y="6179"/>
                  <a:pt x="17264" y="6300"/>
                </a:cubicBezTo>
                <a:cubicBezTo>
                  <a:pt x="17195" y="6502"/>
                  <a:pt x="17077" y="6692"/>
                  <a:pt x="17016" y="6896"/>
                </a:cubicBezTo>
                <a:cubicBezTo>
                  <a:pt x="16971" y="7047"/>
                  <a:pt x="16894" y="7170"/>
                  <a:pt x="16842" y="7317"/>
                </a:cubicBezTo>
                <a:cubicBezTo>
                  <a:pt x="16784" y="7478"/>
                  <a:pt x="16711" y="7629"/>
                  <a:pt x="16644" y="7789"/>
                </a:cubicBezTo>
                <a:cubicBezTo>
                  <a:pt x="16577" y="7947"/>
                  <a:pt x="16464" y="8083"/>
                  <a:pt x="16396" y="8235"/>
                </a:cubicBezTo>
                <a:cubicBezTo>
                  <a:pt x="16340" y="8362"/>
                  <a:pt x="16335" y="8507"/>
                  <a:pt x="16272" y="8632"/>
                </a:cubicBezTo>
                <a:cubicBezTo>
                  <a:pt x="16228" y="8720"/>
                  <a:pt x="16194" y="8818"/>
                  <a:pt x="16148" y="8905"/>
                </a:cubicBezTo>
                <a:cubicBezTo>
                  <a:pt x="16119" y="8960"/>
                  <a:pt x="16112" y="8976"/>
                  <a:pt x="16098" y="9029"/>
                </a:cubicBezTo>
                <a:cubicBezTo>
                  <a:pt x="16098" y="9037"/>
                  <a:pt x="16098" y="9046"/>
                  <a:pt x="16098" y="90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40200" y="2697120"/>
            <a:ext cx="554040" cy="177840"/>
          </a:xfrm>
          <a:custGeom>
            <a:avLst/>
            <a:gdLst/>
            <a:ahLst/>
            <a:rect l="l" t="t" r="r" b="b"/>
            <a:pathLst>
              <a:path w="1539" h="497">
                <a:moveTo>
                  <a:pt x="13593" y="7541"/>
                </a:moveTo>
                <a:cubicBezTo>
                  <a:pt x="13559" y="7532"/>
                  <a:pt x="13500" y="7530"/>
                  <a:pt x="13469" y="7516"/>
                </a:cubicBezTo>
                <a:cubicBezTo>
                  <a:pt x="13461" y="7508"/>
                  <a:pt x="13452" y="7499"/>
                  <a:pt x="13444" y="7491"/>
                </a:cubicBezTo>
                <a:cubicBezTo>
                  <a:pt x="13713" y="7491"/>
                  <a:pt x="13878" y="7557"/>
                  <a:pt x="14139" y="7640"/>
                </a:cubicBezTo>
                <a:cubicBezTo>
                  <a:pt x="14406" y="7725"/>
                  <a:pt x="14667" y="7822"/>
                  <a:pt x="14908" y="7962"/>
                </a:cubicBezTo>
                <a:cubicBezTo>
                  <a:pt x="14949" y="7986"/>
                  <a:pt x="14936" y="7980"/>
                  <a:pt x="14982" y="79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46960" y="1874880"/>
            <a:ext cx="81000" cy="54000"/>
          </a:xfrm>
          <a:custGeom>
            <a:avLst/>
            <a:gdLst/>
            <a:ahLst/>
            <a:rect l="l" t="t" r="r" b="b"/>
            <a:pathLst>
              <a:path w="224" h="150">
                <a:moveTo>
                  <a:pt x="20811" y="5283"/>
                </a:moveTo>
                <a:cubicBezTo>
                  <a:pt x="20772" y="5206"/>
                  <a:pt x="20745" y="5234"/>
                  <a:pt x="20687" y="5283"/>
                </a:cubicBezTo>
                <a:cubicBezTo>
                  <a:pt x="20687" y="5353"/>
                  <a:pt x="20700" y="5420"/>
                  <a:pt x="20811" y="5333"/>
                </a:cubicBezTo>
                <a:cubicBezTo>
                  <a:pt x="20882" y="5277"/>
                  <a:pt x="20921" y="5189"/>
                  <a:pt x="20786" y="5209"/>
                </a:cubicBezTo>
                <a:cubicBezTo>
                  <a:pt x="20726" y="5218"/>
                  <a:pt x="20721" y="5262"/>
                  <a:pt x="20712" y="5308"/>
                </a:cubicBezTo>
                <a:cubicBezTo>
                  <a:pt x="20801" y="5353"/>
                  <a:pt x="20833" y="5323"/>
                  <a:pt x="20910" y="5259"/>
                </a:cubicBezTo>
                <a:cubicBezTo>
                  <a:pt x="20818" y="5184"/>
                  <a:pt x="20804" y="5230"/>
                  <a:pt x="20737" y="5308"/>
                </a:cubicBezTo>
                <a:cubicBezTo>
                  <a:pt x="20686" y="5368"/>
                  <a:pt x="20793" y="5336"/>
                  <a:pt x="20811" y="5308"/>
                </a:cubicBezTo>
                <a:cubicBezTo>
                  <a:pt x="20811" y="5300"/>
                  <a:pt x="20811" y="5291"/>
                  <a:pt x="20811" y="52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23000" y="1911240"/>
            <a:ext cx="1704960" cy="642960"/>
          </a:xfrm>
          <a:custGeom>
            <a:avLst/>
            <a:gdLst/>
            <a:ahLst/>
            <a:rect l="l" t="t" r="r" b="b"/>
            <a:pathLst>
              <a:path w="4738" h="1787">
                <a:moveTo>
                  <a:pt x="20910" y="5308"/>
                </a:moveTo>
                <a:cubicBezTo>
                  <a:pt x="20854" y="5333"/>
                  <a:pt x="20790" y="5383"/>
                  <a:pt x="20737" y="5407"/>
                </a:cubicBezTo>
                <a:cubicBezTo>
                  <a:pt x="20664" y="5439"/>
                  <a:pt x="20587" y="5469"/>
                  <a:pt x="20513" y="5507"/>
                </a:cubicBezTo>
                <a:cubicBezTo>
                  <a:pt x="20369" y="5580"/>
                  <a:pt x="20228" y="5664"/>
                  <a:pt x="20092" y="5755"/>
                </a:cubicBezTo>
                <a:cubicBezTo>
                  <a:pt x="19962" y="5842"/>
                  <a:pt x="19818" y="5920"/>
                  <a:pt x="19670" y="5978"/>
                </a:cubicBezTo>
                <a:cubicBezTo>
                  <a:pt x="19472" y="6055"/>
                  <a:pt x="19272" y="6121"/>
                  <a:pt x="19075" y="6201"/>
                </a:cubicBezTo>
                <a:cubicBezTo>
                  <a:pt x="18928" y="6261"/>
                  <a:pt x="18805" y="6275"/>
                  <a:pt x="18653" y="6300"/>
                </a:cubicBezTo>
                <a:cubicBezTo>
                  <a:pt x="18459" y="6332"/>
                  <a:pt x="18271" y="6399"/>
                  <a:pt x="18083" y="6449"/>
                </a:cubicBezTo>
                <a:cubicBezTo>
                  <a:pt x="17720" y="6546"/>
                  <a:pt x="17352" y="6623"/>
                  <a:pt x="16991" y="6722"/>
                </a:cubicBezTo>
                <a:cubicBezTo>
                  <a:pt x="16886" y="6751"/>
                  <a:pt x="16787" y="6771"/>
                  <a:pt x="16694" y="6821"/>
                </a:cubicBezTo>
                <a:cubicBezTo>
                  <a:pt x="16647" y="6846"/>
                  <a:pt x="16596" y="6891"/>
                  <a:pt x="16545" y="6921"/>
                </a:cubicBezTo>
                <a:cubicBezTo>
                  <a:pt x="16461" y="6971"/>
                  <a:pt x="16362" y="7015"/>
                  <a:pt x="16272" y="7045"/>
                </a:cubicBezTo>
                <a:cubicBezTo>
                  <a:pt x="16238" y="7056"/>
                  <a:pt x="16206" y="7056"/>
                  <a:pt x="16173" y="7069"/>
                </a:cubicBezTo>
                <a:cubicBezTo>
                  <a:pt x="16173" y="7097"/>
                  <a:pt x="16175" y="7103"/>
                  <a:pt x="16197" y="70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84840" y="3251160"/>
            <a:ext cx="36360" cy="214200"/>
          </a:xfrm>
          <a:custGeom>
            <a:avLst/>
            <a:gdLst/>
            <a:ahLst/>
            <a:rect l="l" t="t" r="r" b="b"/>
            <a:pathLst>
              <a:path w="100" h="596">
                <a:moveTo>
                  <a:pt x="13667" y="9029"/>
                </a:moveTo>
                <a:cubicBezTo>
                  <a:pt x="13633" y="9228"/>
                  <a:pt x="13367" y="9639"/>
                  <a:pt x="13568" y="9624"/>
                </a:cubicBezTo>
                <a:cubicBezTo>
                  <a:pt x="13593" y="9591"/>
                  <a:pt x="13618" y="9558"/>
                  <a:pt x="13643" y="95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19880" y="2536920"/>
            <a:ext cx="1625400" cy="1428480"/>
          </a:xfrm>
          <a:custGeom>
            <a:avLst/>
            <a:gdLst/>
            <a:ahLst/>
            <a:rect l="l" t="t" r="r" b="b"/>
            <a:pathLst>
              <a:path w="4515" h="3969">
                <a:moveTo>
                  <a:pt x="22324" y="7045"/>
                </a:moveTo>
                <a:cubicBezTo>
                  <a:pt x="22290" y="7088"/>
                  <a:pt x="22316" y="7108"/>
                  <a:pt x="22275" y="7144"/>
                </a:cubicBezTo>
                <a:cubicBezTo>
                  <a:pt x="22134" y="7268"/>
                  <a:pt x="21981" y="7408"/>
                  <a:pt x="21828" y="7516"/>
                </a:cubicBezTo>
                <a:cubicBezTo>
                  <a:pt x="21621" y="7661"/>
                  <a:pt x="21403" y="7815"/>
                  <a:pt x="21183" y="7938"/>
                </a:cubicBezTo>
                <a:cubicBezTo>
                  <a:pt x="20999" y="8041"/>
                  <a:pt x="20830" y="8156"/>
                  <a:pt x="20662" y="8285"/>
                </a:cubicBezTo>
                <a:cubicBezTo>
                  <a:pt x="20434" y="8460"/>
                  <a:pt x="20225" y="8637"/>
                  <a:pt x="20017" y="8830"/>
                </a:cubicBezTo>
                <a:cubicBezTo>
                  <a:pt x="19873" y="8964"/>
                  <a:pt x="19713" y="9069"/>
                  <a:pt x="19571" y="9203"/>
                </a:cubicBezTo>
                <a:cubicBezTo>
                  <a:pt x="19444" y="9323"/>
                  <a:pt x="19305" y="9438"/>
                  <a:pt x="19199" y="9575"/>
                </a:cubicBezTo>
                <a:cubicBezTo>
                  <a:pt x="19101" y="9702"/>
                  <a:pt x="19022" y="9841"/>
                  <a:pt x="18926" y="9971"/>
                </a:cubicBezTo>
                <a:cubicBezTo>
                  <a:pt x="18838" y="10091"/>
                  <a:pt x="18770" y="10229"/>
                  <a:pt x="18678" y="10344"/>
                </a:cubicBezTo>
                <a:cubicBezTo>
                  <a:pt x="18595" y="10448"/>
                  <a:pt x="18481" y="10533"/>
                  <a:pt x="18380" y="10616"/>
                </a:cubicBezTo>
                <a:cubicBezTo>
                  <a:pt x="18302" y="10680"/>
                  <a:pt x="18230" y="10744"/>
                  <a:pt x="18157" y="10815"/>
                </a:cubicBezTo>
                <a:cubicBezTo>
                  <a:pt x="18106" y="10865"/>
                  <a:pt x="18061" y="10907"/>
                  <a:pt x="18008" y="10939"/>
                </a:cubicBezTo>
                <a:cubicBezTo>
                  <a:pt x="17964" y="10966"/>
                  <a:pt x="17912" y="10993"/>
                  <a:pt x="17859" y="11013"/>
                </a:cubicBezTo>
                <a:cubicBezTo>
                  <a:pt x="17851" y="11013"/>
                  <a:pt x="17843" y="11013"/>
                  <a:pt x="17835" y="110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16720" y="3946680"/>
            <a:ext cx="54000" cy="233280"/>
          </a:xfrm>
          <a:custGeom>
            <a:avLst/>
            <a:gdLst/>
            <a:ahLst/>
            <a:rect l="l" t="t" r="r" b="b"/>
            <a:pathLst>
              <a:path w="150" h="646">
                <a:moveTo>
                  <a:pt x="15701" y="11013"/>
                </a:moveTo>
                <a:cubicBezTo>
                  <a:pt x="15666" y="11004"/>
                  <a:pt x="15656" y="10992"/>
                  <a:pt x="15627" y="10964"/>
                </a:cubicBezTo>
                <a:cubicBezTo>
                  <a:pt x="15561" y="11051"/>
                  <a:pt x="15629" y="11280"/>
                  <a:pt x="15652" y="11410"/>
                </a:cubicBezTo>
                <a:cubicBezTo>
                  <a:pt x="15675" y="11540"/>
                  <a:pt x="15656" y="11584"/>
                  <a:pt x="15751" y="115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91240" y="2490840"/>
            <a:ext cx="581040" cy="1376280"/>
          </a:xfrm>
          <a:custGeom>
            <a:avLst/>
            <a:gdLst/>
            <a:ahLst/>
            <a:rect l="l" t="t" r="r" b="b"/>
            <a:pathLst>
              <a:path w="1613" h="3820">
                <a:moveTo>
                  <a:pt x="22423" y="6945"/>
                </a:moveTo>
                <a:cubicBezTo>
                  <a:pt x="22399" y="7001"/>
                  <a:pt x="22401" y="7014"/>
                  <a:pt x="22374" y="7069"/>
                </a:cubicBezTo>
                <a:cubicBezTo>
                  <a:pt x="22292" y="7239"/>
                  <a:pt x="22189" y="7398"/>
                  <a:pt x="22101" y="7565"/>
                </a:cubicBezTo>
                <a:cubicBezTo>
                  <a:pt x="22015" y="7728"/>
                  <a:pt x="21897" y="7917"/>
                  <a:pt x="21828" y="8086"/>
                </a:cubicBezTo>
                <a:cubicBezTo>
                  <a:pt x="21780" y="8205"/>
                  <a:pt x="21710" y="8294"/>
                  <a:pt x="21654" y="8409"/>
                </a:cubicBezTo>
                <a:cubicBezTo>
                  <a:pt x="21608" y="8505"/>
                  <a:pt x="21577" y="8609"/>
                  <a:pt x="21530" y="8706"/>
                </a:cubicBezTo>
                <a:cubicBezTo>
                  <a:pt x="21469" y="8833"/>
                  <a:pt x="21417" y="8952"/>
                  <a:pt x="21357" y="9079"/>
                </a:cubicBezTo>
                <a:cubicBezTo>
                  <a:pt x="21298" y="9204"/>
                  <a:pt x="21207" y="9323"/>
                  <a:pt x="21158" y="9451"/>
                </a:cubicBezTo>
                <a:cubicBezTo>
                  <a:pt x="21114" y="9567"/>
                  <a:pt x="21090" y="9703"/>
                  <a:pt x="21059" y="9823"/>
                </a:cubicBezTo>
                <a:cubicBezTo>
                  <a:pt x="21028" y="9943"/>
                  <a:pt x="20994" y="10053"/>
                  <a:pt x="20960" y="10170"/>
                </a:cubicBezTo>
                <a:cubicBezTo>
                  <a:pt x="20933" y="10264"/>
                  <a:pt x="20853" y="10382"/>
                  <a:pt x="20836" y="10468"/>
                </a:cubicBezTo>
                <a:cubicBezTo>
                  <a:pt x="20826" y="10518"/>
                  <a:pt x="20816" y="10595"/>
                  <a:pt x="20811" y="10641"/>
                </a:cubicBezTo>
                <a:cubicBezTo>
                  <a:pt x="20807" y="10674"/>
                  <a:pt x="20813" y="10707"/>
                  <a:pt x="20811" y="107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86280" y="4010040"/>
            <a:ext cx="27000" cy="268200"/>
          </a:xfrm>
          <a:custGeom>
            <a:avLst/>
            <a:gdLst/>
            <a:ahLst/>
            <a:rect l="l" t="t" r="r" b="b"/>
            <a:pathLst>
              <a:path w="76" h="745">
                <a:moveTo>
                  <a:pt x="16073" y="11137"/>
                </a:moveTo>
                <a:cubicBezTo>
                  <a:pt x="16073" y="11297"/>
                  <a:pt x="16077" y="11449"/>
                  <a:pt x="16098" y="11609"/>
                </a:cubicBezTo>
                <a:cubicBezTo>
                  <a:pt x="16109" y="11695"/>
                  <a:pt x="16117" y="11809"/>
                  <a:pt x="16148" y="118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78,15,-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50880" y="466560"/>
            <a:ext cx="80233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identify and describe line segm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many diagonals can be drawn fr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ach polyg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1523880"/>
            <a:ext cx="1676520" cy="213372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1905120"/>
            <a:ext cx="2210040" cy="22096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4267080"/>
            <a:ext cx="1447920" cy="1905120"/>
          </a:xfrm>
          <a:prstGeom prst="diamond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76720" y="5029200"/>
            <a:ext cx="3886200" cy="1219320"/>
          </a:xfrm>
          <a:prstGeom prst="hexagon">
            <a:avLst>
              <a:gd name="adj" fmla="val 79680"/>
              <a:gd name="vf" fmla="val 11547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74960" y="2625840"/>
            <a:ext cx="233280" cy="330120"/>
          </a:xfrm>
          <a:custGeom>
            <a:avLst/>
            <a:gdLst/>
            <a:ahLst/>
            <a:rect l="l" t="t" r="r" b="b"/>
            <a:pathLst>
              <a:path w="646" h="918">
                <a:moveTo>
                  <a:pt x="7987" y="7615"/>
                </a:moveTo>
                <a:cubicBezTo>
                  <a:pt x="8003" y="7946"/>
                  <a:pt x="7981" y="7975"/>
                  <a:pt x="8186" y="8210"/>
                </a:cubicBezTo>
                <a:cubicBezTo>
                  <a:pt x="8485" y="8082"/>
                  <a:pt x="8730" y="7900"/>
                  <a:pt x="8607" y="7516"/>
                </a:cubicBezTo>
                <a:cubicBezTo>
                  <a:pt x="8503" y="7192"/>
                  <a:pt x="8246" y="7303"/>
                  <a:pt x="8062" y="74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95960" y="2589120"/>
            <a:ext cx="222120" cy="312840"/>
          </a:xfrm>
          <a:custGeom>
            <a:avLst/>
            <a:gdLst/>
            <a:ahLst/>
            <a:rect l="l" t="t" r="r" b="b"/>
            <a:pathLst>
              <a:path w="621" h="870">
                <a:moveTo>
                  <a:pt x="14982" y="7218"/>
                </a:moveTo>
                <a:cubicBezTo>
                  <a:pt x="14771" y="7331"/>
                  <a:pt x="14676" y="7605"/>
                  <a:pt x="14709" y="7863"/>
                </a:cubicBezTo>
                <a:cubicBezTo>
                  <a:pt x="14734" y="7913"/>
                  <a:pt x="14759" y="7962"/>
                  <a:pt x="14784" y="8012"/>
                </a:cubicBezTo>
                <a:cubicBezTo>
                  <a:pt x="15091" y="8025"/>
                  <a:pt x="15329" y="7789"/>
                  <a:pt x="15329" y="7417"/>
                </a:cubicBezTo>
                <a:cubicBezTo>
                  <a:pt x="15329" y="7062"/>
                  <a:pt x="15018" y="7228"/>
                  <a:pt x="14833" y="72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47800" y="4303800"/>
            <a:ext cx="1384200" cy="1760400"/>
          </a:xfrm>
          <a:custGeom>
            <a:avLst/>
            <a:gdLst/>
            <a:ahLst/>
            <a:rect l="l" t="t" r="r" b="b"/>
            <a:pathLst>
              <a:path w="3846" h="4887">
                <a:moveTo>
                  <a:pt x="4366" y="11956"/>
                </a:moveTo>
                <a:cubicBezTo>
                  <a:pt x="4379" y="12062"/>
                  <a:pt x="4402" y="12150"/>
                  <a:pt x="4440" y="12254"/>
                </a:cubicBezTo>
                <a:cubicBezTo>
                  <a:pt x="4540" y="12527"/>
                  <a:pt x="4656" y="12812"/>
                  <a:pt x="4713" y="13097"/>
                </a:cubicBezTo>
                <a:cubicBezTo>
                  <a:pt x="4754" y="13300"/>
                  <a:pt x="4776" y="13512"/>
                  <a:pt x="4787" y="13717"/>
                </a:cubicBezTo>
                <a:cubicBezTo>
                  <a:pt x="4798" y="13910"/>
                  <a:pt x="4822" y="14096"/>
                  <a:pt x="4837" y="14288"/>
                </a:cubicBezTo>
                <a:cubicBezTo>
                  <a:pt x="4851" y="14462"/>
                  <a:pt x="4862" y="14633"/>
                  <a:pt x="4862" y="14808"/>
                </a:cubicBezTo>
                <a:cubicBezTo>
                  <a:pt x="4862" y="15133"/>
                  <a:pt x="4860" y="15456"/>
                  <a:pt x="4837" y="15776"/>
                </a:cubicBezTo>
                <a:cubicBezTo>
                  <a:pt x="4827" y="15915"/>
                  <a:pt x="4799" y="16016"/>
                  <a:pt x="4762" y="16148"/>
                </a:cubicBezTo>
                <a:cubicBezTo>
                  <a:pt x="4725" y="16280"/>
                  <a:pt x="4671" y="16416"/>
                  <a:pt x="4638" y="16545"/>
                </a:cubicBezTo>
                <a:cubicBezTo>
                  <a:pt x="4620" y="16614"/>
                  <a:pt x="4603" y="16676"/>
                  <a:pt x="4589" y="16718"/>
                </a:cubicBezTo>
                <a:cubicBezTo>
                  <a:pt x="4579" y="16748"/>
                  <a:pt x="4564" y="16817"/>
                  <a:pt x="4539" y="16842"/>
                </a:cubicBezTo>
                <a:cubicBezTo>
                  <a:pt x="4539" y="16826"/>
                  <a:pt x="4539" y="16809"/>
                  <a:pt x="4539" y="16793"/>
                </a:cubicBezTo>
              </a:path>
              <a:path w="3846" h="4887">
                <a:moveTo>
                  <a:pt x="2356" y="14536"/>
                </a:moveTo>
                <a:cubicBezTo>
                  <a:pt x="2519" y="14512"/>
                  <a:pt x="2685" y="14503"/>
                  <a:pt x="2853" y="14486"/>
                </a:cubicBezTo>
                <a:cubicBezTo>
                  <a:pt x="3166" y="14454"/>
                  <a:pt x="3485" y="14387"/>
                  <a:pt x="3795" y="14362"/>
                </a:cubicBezTo>
                <a:cubicBezTo>
                  <a:pt x="4116" y="14336"/>
                  <a:pt x="4420" y="14332"/>
                  <a:pt x="4738" y="14263"/>
                </a:cubicBezTo>
                <a:cubicBezTo>
                  <a:pt x="4984" y="14209"/>
                  <a:pt x="5229" y="14132"/>
                  <a:pt x="5482" y="14114"/>
                </a:cubicBezTo>
                <a:cubicBezTo>
                  <a:pt x="5641" y="14103"/>
                  <a:pt x="5793" y="14089"/>
                  <a:pt x="5953" y="14089"/>
                </a:cubicBezTo>
                <a:cubicBezTo>
                  <a:pt x="6043" y="14089"/>
                  <a:pt x="6149" y="14096"/>
                  <a:pt x="6201" y="141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11280" y="4714920"/>
            <a:ext cx="606600" cy="876240"/>
          </a:xfrm>
          <a:custGeom>
            <a:avLst/>
            <a:gdLst/>
            <a:ahLst/>
            <a:rect l="l" t="t" r="r" b="b"/>
            <a:pathLst>
              <a:path w="1688" h="2432">
                <a:moveTo>
                  <a:pt x="7466" y="13891"/>
                </a:moveTo>
                <a:cubicBezTo>
                  <a:pt x="7447" y="14019"/>
                  <a:pt x="7418" y="14157"/>
                  <a:pt x="7441" y="14288"/>
                </a:cubicBezTo>
                <a:cubicBezTo>
                  <a:pt x="7449" y="14304"/>
                  <a:pt x="7458" y="14321"/>
                  <a:pt x="7466" y="14337"/>
                </a:cubicBezTo>
                <a:cubicBezTo>
                  <a:pt x="7643" y="14245"/>
                  <a:pt x="7783" y="14143"/>
                  <a:pt x="7913" y="13990"/>
                </a:cubicBezTo>
              </a:path>
              <a:path w="1688" h="2432">
                <a:moveTo>
                  <a:pt x="7714" y="13543"/>
                </a:moveTo>
                <a:cubicBezTo>
                  <a:pt x="7714" y="13509"/>
                  <a:pt x="7709" y="13510"/>
                  <a:pt x="7689" y="13568"/>
                </a:cubicBezTo>
              </a:path>
              <a:path w="1688" h="2432">
                <a:moveTo>
                  <a:pt x="7392" y="14238"/>
                </a:moveTo>
                <a:cubicBezTo>
                  <a:pt x="7392" y="14107"/>
                  <a:pt x="7409" y="14002"/>
                  <a:pt x="7491" y="13891"/>
                </a:cubicBezTo>
                <a:cubicBezTo>
                  <a:pt x="7569" y="13811"/>
                  <a:pt x="7599" y="13783"/>
                  <a:pt x="7665" y="13742"/>
                </a:cubicBezTo>
                <a:cubicBezTo>
                  <a:pt x="7722" y="13886"/>
                  <a:pt x="7711" y="13995"/>
                  <a:pt x="7665" y="14188"/>
                </a:cubicBezTo>
                <a:cubicBezTo>
                  <a:pt x="7614" y="14399"/>
                  <a:pt x="7558" y="14836"/>
                  <a:pt x="7417" y="15007"/>
                </a:cubicBezTo>
                <a:cubicBezTo>
                  <a:pt x="7309" y="15138"/>
                  <a:pt x="7530" y="14688"/>
                  <a:pt x="7640" y="14560"/>
                </a:cubicBezTo>
                <a:cubicBezTo>
                  <a:pt x="7799" y="14375"/>
                  <a:pt x="7920" y="14416"/>
                  <a:pt x="8111" y="14362"/>
                </a:cubicBezTo>
                <a:cubicBezTo>
                  <a:pt x="8152" y="14321"/>
                  <a:pt x="8166" y="14291"/>
                  <a:pt x="8161" y="14238"/>
                </a:cubicBezTo>
              </a:path>
              <a:path w="1688" h="2432">
                <a:moveTo>
                  <a:pt x="7243" y="15230"/>
                </a:moveTo>
                <a:cubicBezTo>
                  <a:pt x="7447" y="15519"/>
                  <a:pt x="7628" y="15335"/>
                  <a:pt x="7863" y="15106"/>
                </a:cubicBezTo>
                <a:cubicBezTo>
                  <a:pt x="8271" y="14708"/>
                  <a:pt x="8496" y="14133"/>
                  <a:pt x="8310" y="13568"/>
                </a:cubicBezTo>
                <a:cubicBezTo>
                  <a:pt x="8102" y="12937"/>
                  <a:pt x="7354" y="13005"/>
                  <a:pt x="6995" y="13469"/>
                </a:cubicBezTo>
                <a:cubicBezTo>
                  <a:pt x="6614" y="13962"/>
                  <a:pt x="6474" y="15053"/>
                  <a:pt x="7045" y="15478"/>
                </a:cubicBezTo>
                <a:cubicBezTo>
                  <a:pt x="7307" y="15526"/>
                  <a:pt x="7388" y="15547"/>
                  <a:pt x="7541" y="154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85040" y="4518000"/>
            <a:ext cx="588960" cy="652320"/>
          </a:xfrm>
          <a:custGeom>
            <a:avLst/>
            <a:gdLst/>
            <a:ahLst/>
            <a:rect l="l" t="t" r="r" b="b"/>
            <a:pathLst>
              <a:path w="1639" h="1812">
                <a:moveTo>
                  <a:pt x="21357" y="13370"/>
                </a:moveTo>
                <a:cubicBezTo>
                  <a:pt x="21357" y="13244"/>
                  <a:pt x="21371" y="13160"/>
                  <a:pt x="21282" y="13047"/>
                </a:cubicBezTo>
                <a:cubicBezTo>
                  <a:pt x="21249" y="13022"/>
                  <a:pt x="21216" y="12998"/>
                  <a:pt x="21183" y="12973"/>
                </a:cubicBezTo>
                <a:cubicBezTo>
                  <a:pt x="20958" y="13069"/>
                  <a:pt x="20730" y="13270"/>
                  <a:pt x="20811" y="13568"/>
                </a:cubicBezTo>
                <a:cubicBezTo>
                  <a:pt x="20836" y="13585"/>
                  <a:pt x="20861" y="13601"/>
                  <a:pt x="20886" y="13618"/>
                </a:cubicBezTo>
                <a:cubicBezTo>
                  <a:pt x="21109" y="13487"/>
                  <a:pt x="21212" y="13351"/>
                  <a:pt x="21307" y="13097"/>
                </a:cubicBezTo>
                <a:cubicBezTo>
                  <a:pt x="21307" y="13089"/>
                  <a:pt x="21307" y="13080"/>
                  <a:pt x="21307" y="13072"/>
                </a:cubicBezTo>
                <a:cubicBezTo>
                  <a:pt x="21330" y="13252"/>
                  <a:pt x="21346" y="13436"/>
                  <a:pt x="21357" y="13618"/>
                </a:cubicBezTo>
                <a:cubicBezTo>
                  <a:pt x="21357" y="13703"/>
                  <a:pt x="21363" y="13723"/>
                  <a:pt x="21332" y="13767"/>
                </a:cubicBezTo>
              </a:path>
              <a:path w="1639" h="1812">
                <a:moveTo>
                  <a:pt x="20712" y="14139"/>
                </a:moveTo>
                <a:cubicBezTo>
                  <a:pt x="21035" y="14246"/>
                  <a:pt x="21261" y="14271"/>
                  <a:pt x="21580" y="14114"/>
                </a:cubicBezTo>
                <a:cubicBezTo>
                  <a:pt x="21895" y="13959"/>
                  <a:pt x="22121" y="13623"/>
                  <a:pt x="22151" y="13271"/>
                </a:cubicBezTo>
                <a:cubicBezTo>
                  <a:pt x="22195" y="12765"/>
                  <a:pt x="21719" y="12419"/>
                  <a:pt x="21233" y="12551"/>
                </a:cubicBezTo>
                <a:cubicBezTo>
                  <a:pt x="20653" y="12708"/>
                  <a:pt x="20363" y="13536"/>
                  <a:pt x="20563" y="14064"/>
                </a:cubicBezTo>
                <a:cubicBezTo>
                  <a:pt x="20698" y="14420"/>
                  <a:pt x="21051" y="14337"/>
                  <a:pt x="21332" y="143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15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bjective: Students will identify and describe line segments.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riting Problem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xplai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hy a triangle has no diagon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1219320"/>
            <a:ext cx="5423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Homework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t 6 Pre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Unit 6 Info. Letter with parent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5:34:43Z</dcterms:created>
  <dc:creator>TAMMY  COON</dc:creator>
  <dc:description/>
  <dc:language>en-US</dc:language>
  <cp:lastModifiedBy>ccps</cp:lastModifiedBy>
  <dcterms:modified xsi:type="dcterms:W3CDTF">2010-01-26T18:41:40Z</dcterms:modified>
  <cp:revision>9</cp:revision>
  <dc:subject/>
  <dc:title>Opener: Write the definition and draw a picture to represent each word. </dc:title>
</cp:coreProperties>
</file>